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039-64FE-4D75-8E45-CAF9F621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ED9-17BA-48D5-AA35-5E457795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E88-F299-459E-868B-6CE3D0A2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3DF-B608-45CB-8B49-43B63C1F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35F-A0A7-4718-8C02-7E95F2F0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4D4-EA37-44B7-9500-B0BE2DDE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BC9-C199-40C2-8A5A-FD79B362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45C-779F-439A-8508-BA043EDA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FF8-F298-4A54-950E-4EDA43F2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00B-7082-4EFD-AB5B-346AB6AE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A53-83A4-48DF-B266-A56E78B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4A2-557A-4D08-8447-6F5B29D2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3D98-7783-4DAA-A396-B8D8C81CF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0787" t="6410" r="12747" b="34471"/>
          <a:stretch/>
        </p:blipFill>
        <p:spPr>
          <a:xfrm>
            <a:off x="152280" y="0"/>
            <a:ext cx="5943600" cy="632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884160"/>
            <a:ext cx="992160" cy="419040"/>
          </a:xfrm>
          <a:custGeom>
            <a:avLst/>
            <a:gdLst/>
            <a:ahLst/>
            <a:rect l="l" t="t" r="r" b="b"/>
            <a:pathLst>
              <a:path w="2754" h="1166">
                <a:moveTo>
                  <a:pt x="15974" y="2753"/>
                </a:moveTo>
                <a:cubicBezTo>
                  <a:pt x="15974" y="2693"/>
                  <a:pt x="15945" y="2830"/>
                  <a:pt x="15949" y="2853"/>
                </a:cubicBezTo>
                <a:cubicBezTo>
                  <a:pt x="15961" y="2921"/>
                  <a:pt x="15996" y="2989"/>
                  <a:pt x="16024" y="3051"/>
                </a:cubicBezTo>
                <a:cubicBezTo>
                  <a:pt x="16125" y="3036"/>
                  <a:pt x="16132" y="2968"/>
                  <a:pt x="16173" y="2877"/>
                </a:cubicBezTo>
                <a:cubicBezTo>
                  <a:pt x="16197" y="2828"/>
                  <a:pt x="16206" y="2811"/>
                  <a:pt x="16247" y="2803"/>
                </a:cubicBezTo>
                <a:cubicBezTo>
                  <a:pt x="16369" y="2939"/>
                  <a:pt x="16429" y="3062"/>
                  <a:pt x="16446" y="3249"/>
                </a:cubicBezTo>
                <a:cubicBezTo>
                  <a:pt x="16460" y="3398"/>
                  <a:pt x="16443" y="3576"/>
                  <a:pt x="16272" y="3621"/>
                </a:cubicBezTo>
                <a:cubicBezTo>
                  <a:pt x="16155" y="3652"/>
                  <a:pt x="15990" y="3623"/>
                  <a:pt x="15875" y="3597"/>
                </a:cubicBezTo>
              </a:path>
              <a:path w="2754" h="1166">
                <a:moveTo>
                  <a:pt x="17090" y="2853"/>
                </a:moveTo>
                <a:cubicBezTo>
                  <a:pt x="17150" y="2823"/>
                  <a:pt x="17042" y="2828"/>
                  <a:pt x="17016" y="2828"/>
                </a:cubicBezTo>
                <a:cubicBezTo>
                  <a:pt x="16917" y="2828"/>
                  <a:pt x="16817" y="2828"/>
                  <a:pt x="16718" y="2828"/>
                </a:cubicBezTo>
              </a:path>
              <a:path w="2754" h="1166">
                <a:moveTo>
                  <a:pt x="16991" y="2952"/>
                </a:moveTo>
                <a:cubicBezTo>
                  <a:pt x="17049" y="2971"/>
                  <a:pt x="17074" y="2961"/>
                  <a:pt x="17066" y="3001"/>
                </a:cubicBezTo>
                <a:cubicBezTo>
                  <a:pt x="17016" y="3031"/>
                  <a:pt x="16955" y="3047"/>
                  <a:pt x="16892" y="3051"/>
                </a:cubicBezTo>
                <a:cubicBezTo>
                  <a:pt x="16875" y="3051"/>
                  <a:pt x="16859" y="3051"/>
                  <a:pt x="16842" y="3051"/>
                </a:cubicBezTo>
              </a:path>
              <a:path w="2754" h="1166">
                <a:moveTo>
                  <a:pt x="17462" y="2629"/>
                </a:moveTo>
                <a:cubicBezTo>
                  <a:pt x="17501" y="2694"/>
                  <a:pt x="17471" y="2753"/>
                  <a:pt x="17487" y="2828"/>
                </a:cubicBezTo>
                <a:cubicBezTo>
                  <a:pt x="17491" y="2849"/>
                  <a:pt x="17512" y="3030"/>
                  <a:pt x="17512" y="2977"/>
                </a:cubicBezTo>
                <a:cubicBezTo>
                  <a:pt x="17512" y="2907"/>
                  <a:pt x="17532" y="2847"/>
                  <a:pt x="17537" y="2778"/>
                </a:cubicBezTo>
                <a:cubicBezTo>
                  <a:pt x="17537" y="2750"/>
                  <a:pt x="17539" y="2739"/>
                  <a:pt x="17562" y="2729"/>
                </a:cubicBezTo>
                <a:cubicBezTo>
                  <a:pt x="17605" y="2771"/>
                  <a:pt x="17643" y="2818"/>
                  <a:pt x="17661" y="2877"/>
                </a:cubicBezTo>
                <a:cubicBezTo>
                  <a:pt x="17661" y="2902"/>
                  <a:pt x="17661" y="2910"/>
                  <a:pt x="17686" y="2902"/>
                </a:cubicBezTo>
                <a:cubicBezTo>
                  <a:pt x="17716" y="2843"/>
                  <a:pt x="17734" y="2788"/>
                  <a:pt x="17760" y="2729"/>
                </a:cubicBezTo>
                <a:cubicBezTo>
                  <a:pt x="17825" y="2742"/>
                  <a:pt x="17866" y="2773"/>
                  <a:pt x="17909" y="2828"/>
                </a:cubicBezTo>
                <a:cubicBezTo>
                  <a:pt x="17949" y="2887"/>
                  <a:pt x="17953" y="2898"/>
                  <a:pt x="17983" y="2927"/>
                </a:cubicBezTo>
              </a:path>
              <a:path w="2754" h="1166">
                <a:moveTo>
                  <a:pt x="18107" y="2704"/>
                </a:moveTo>
                <a:cubicBezTo>
                  <a:pt x="18131" y="2631"/>
                  <a:pt x="18093" y="2654"/>
                  <a:pt x="18157" y="2654"/>
                </a:cubicBezTo>
                <a:cubicBezTo>
                  <a:pt x="18244" y="2654"/>
                  <a:pt x="18297" y="2653"/>
                  <a:pt x="18355" y="2729"/>
                </a:cubicBezTo>
                <a:cubicBezTo>
                  <a:pt x="18388" y="2772"/>
                  <a:pt x="18398" y="2878"/>
                  <a:pt x="18331" y="2902"/>
                </a:cubicBezTo>
                <a:cubicBezTo>
                  <a:pt x="18281" y="2902"/>
                  <a:pt x="18264" y="2902"/>
                  <a:pt x="18231" y="2902"/>
                </a:cubicBezTo>
              </a:path>
              <a:path w="2754" h="1166">
                <a:moveTo>
                  <a:pt x="18579" y="2480"/>
                </a:moveTo>
                <a:cubicBezTo>
                  <a:pt x="18562" y="2472"/>
                  <a:pt x="18546" y="2464"/>
                  <a:pt x="18529" y="2456"/>
                </a:cubicBezTo>
                <a:cubicBezTo>
                  <a:pt x="18469" y="2529"/>
                  <a:pt x="18479" y="2585"/>
                  <a:pt x="18479" y="2679"/>
                </a:cubicBezTo>
                <a:cubicBezTo>
                  <a:pt x="18479" y="2784"/>
                  <a:pt x="18502" y="2820"/>
                  <a:pt x="18604" y="2828"/>
                </a:cubicBezTo>
                <a:cubicBezTo>
                  <a:pt x="18612" y="2828"/>
                  <a:pt x="18620" y="2828"/>
                  <a:pt x="18628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83280" y="928800"/>
            <a:ext cx="14292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9769" y="2704"/>
                </a:moveTo>
                <a:cubicBezTo>
                  <a:pt x="19777" y="2696"/>
                  <a:pt x="19786" y="2687"/>
                  <a:pt x="19794" y="2679"/>
                </a:cubicBezTo>
                <a:cubicBezTo>
                  <a:pt x="19741" y="2679"/>
                  <a:pt x="19692" y="2687"/>
                  <a:pt x="19645" y="2704"/>
                </a:cubicBezTo>
                <a:cubicBezTo>
                  <a:pt x="19587" y="2725"/>
                  <a:pt x="19525" y="2738"/>
                  <a:pt x="19472" y="2753"/>
                </a:cubicBezTo>
                <a:cubicBezTo>
                  <a:pt x="19452" y="2759"/>
                  <a:pt x="19418" y="2753"/>
                  <a:pt x="19397" y="2753"/>
                </a:cubicBezTo>
              </a:path>
              <a:path w="398" h="348">
                <a:moveTo>
                  <a:pt x="19472" y="2580"/>
                </a:moveTo>
                <a:cubicBezTo>
                  <a:pt x="19500" y="2589"/>
                  <a:pt x="19516" y="2663"/>
                  <a:pt x="19521" y="2704"/>
                </a:cubicBezTo>
                <a:cubicBezTo>
                  <a:pt x="19532" y="2788"/>
                  <a:pt x="19509" y="2854"/>
                  <a:pt x="19546" y="29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96120" y="88416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20464" y="2505"/>
                </a:moveTo>
                <a:cubicBezTo>
                  <a:pt x="20480" y="2489"/>
                  <a:pt x="20497" y="2472"/>
                  <a:pt x="20513" y="2456"/>
                </a:cubicBezTo>
                <a:cubicBezTo>
                  <a:pt x="20438" y="2477"/>
                  <a:pt x="20386" y="2549"/>
                  <a:pt x="20340" y="2629"/>
                </a:cubicBezTo>
                <a:cubicBezTo>
                  <a:pt x="20257" y="2772"/>
                  <a:pt x="20255" y="2837"/>
                  <a:pt x="20340" y="2977"/>
                </a:cubicBezTo>
                <a:cubicBezTo>
                  <a:pt x="20407" y="3088"/>
                  <a:pt x="20525" y="3098"/>
                  <a:pt x="20638" y="3026"/>
                </a:cubicBezTo>
                <a:cubicBezTo>
                  <a:pt x="20708" y="2956"/>
                  <a:pt x="20729" y="2934"/>
                  <a:pt x="20786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3840" y="1544760"/>
            <a:ext cx="2430360" cy="973080"/>
          </a:xfrm>
          <a:custGeom>
            <a:avLst/>
            <a:gdLst/>
            <a:ahLst/>
            <a:rect l="l" t="t" r="r" b="b"/>
            <a:pathLst>
              <a:path w="6748" h="2705">
                <a:moveTo>
                  <a:pt x="11063" y="4316"/>
                </a:moveTo>
                <a:cubicBezTo>
                  <a:pt x="11088" y="4316"/>
                  <a:pt x="11096" y="4316"/>
                  <a:pt x="11088" y="4291"/>
                </a:cubicBezTo>
                <a:cubicBezTo>
                  <a:pt x="11088" y="4419"/>
                  <a:pt x="11090" y="4548"/>
                  <a:pt x="11112" y="4663"/>
                </a:cubicBezTo>
                <a:cubicBezTo>
                  <a:pt x="11140" y="4808"/>
                  <a:pt x="11114" y="5004"/>
                  <a:pt x="11088" y="5135"/>
                </a:cubicBezTo>
                <a:cubicBezTo>
                  <a:pt x="11074" y="5207"/>
                  <a:pt x="11101" y="5274"/>
                  <a:pt x="11112" y="5333"/>
                </a:cubicBezTo>
                <a:cubicBezTo>
                  <a:pt x="11132" y="5436"/>
                  <a:pt x="11120" y="5554"/>
                  <a:pt x="11137" y="5655"/>
                </a:cubicBezTo>
                <a:cubicBezTo>
                  <a:pt x="11154" y="5754"/>
                  <a:pt x="11144" y="5864"/>
                  <a:pt x="11162" y="5953"/>
                </a:cubicBezTo>
                <a:cubicBezTo>
                  <a:pt x="11170" y="5994"/>
                  <a:pt x="11180" y="6044"/>
                  <a:pt x="11187" y="6077"/>
                </a:cubicBezTo>
                <a:cubicBezTo>
                  <a:pt x="11201" y="6145"/>
                  <a:pt x="11187" y="6230"/>
                  <a:pt x="11187" y="6300"/>
                </a:cubicBezTo>
              </a:path>
              <a:path w="6748" h="2705">
                <a:moveTo>
                  <a:pt x="11112" y="6226"/>
                </a:moveTo>
                <a:cubicBezTo>
                  <a:pt x="11061" y="6230"/>
                  <a:pt x="11002" y="6247"/>
                  <a:pt x="10964" y="6251"/>
                </a:cubicBezTo>
                <a:cubicBezTo>
                  <a:pt x="10808" y="6268"/>
                  <a:pt x="10643" y="6259"/>
                  <a:pt x="10492" y="6276"/>
                </a:cubicBezTo>
                <a:cubicBezTo>
                  <a:pt x="10456" y="6280"/>
                  <a:pt x="10420" y="6296"/>
                  <a:pt x="10393" y="6300"/>
                </a:cubicBezTo>
                <a:cubicBezTo>
                  <a:pt x="10351" y="6306"/>
                  <a:pt x="10301" y="6320"/>
                  <a:pt x="10269" y="6325"/>
                </a:cubicBezTo>
                <a:cubicBezTo>
                  <a:pt x="10207" y="6334"/>
                  <a:pt x="10169" y="6314"/>
                  <a:pt x="10120" y="6300"/>
                </a:cubicBezTo>
                <a:cubicBezTo>
                  <a:pt x="10082" y="6289"/>
                  <a:pt x="10067" y="6280"/>
                  <a:pt x="10021" y="6276"/>
                </a:cubicBezTo>
                <a:cubicBezTo>
                  <a:pt x="9955" y="6271"/>
                  <a:pt x="9899" y="6294"/>
                  <a:pt x="9847" y="6300"/>
                </a:cubicBezTo>
                <a:cubicBezTo>
                  <a:pt x="9729" y="6313"/>
                  <a:pt x="9603" y="6285"/>
                  <a:pt x="9500" y="6276"/>
                </a:cubicBezTo>
                <a:cubicBezTo>
                  <a:pt x="9434" y="6271"/>
                  <a:pt x="9377" y="6295"/>
                  <a:pt x="9327" y="6300"/>
                </a:cubicBezTo>
                <a:cubicBezTo>
                  <a:pt x="9261" y="6307"/>
                  <a:pt x="9182" y="6319"/>
                  <a:pt x="9128" y="6325"/>
                </a:cubicBezTo>
                <a:cubicBezTo>
                  <a:pt x="9061" y="6332"/>
                  <a:pt x="9006" y="6306"/>
                  <a:pt x="8954" y="6300"/>
                </a:cubicBezTo>
                <a:cubicBezTo>
                  <a:pt x="8849" y="6288"/>
                  <a:pt x="8717" y="6331"/>
                  <a:pt x="8632" y="6325"/>
                </a:cubicBezTo>
                <a:cubicBezTo>
                  <a:pt x="8588" y="6322"/>
                  <a:pt x="8572" y="6305"/>
                  <a:pt x="8533" y="6300"/>
                </a:cubicBezTo>
                <a:cubicBezTo>
                  <a:pt x="8525" y="6300"/>
                  <a:pt x="8516" y="6300"/>
                  <a:pt x="8508" y="6300"/>
                </a:cubicBezTo>
                <a:cubicBezTo>
                  <a:pt x="8497" y="6296"/>
                  <a:pt x="8476" y="6278"/>
                  <a:pt x="8434" y="6276"/>
                </a:cubicBezTo>
                <a:cubicBezTo>
                  <a:pt x="8369" y="6273"/>
                  <a:pt x="8311" y="6294"/>
                  <a:pt x="8260" y="6300"/>
                </a:cubicBezTo>
                <a:cubicBezTo>
                  <a:pt x="8196" y="6307"/>
                  <a:pt x="8127" y="6300"/>
                  <a:pt x="8062" y="6300"/>
                </a:cubicBezTo>
                <a:cubicBezTo>
                  <a:pt x="8049" y="6294"/>
                  <a:pt x="8023" y="6285"/>
                  <a:pt x="7987" y="6276"/>
                </a:cubicBezTo>
                <a:cubicBezTo>
                  <a:pt x="7948" y="6266"/>
                  <a:pt x="7931" y="6256"/>
                  <a:pt x="7888" y="6251"/>
                </a:cubicBezTo>
                <a:cubicBezTo>
                  <a:pt x="7828" y="6244"/>
                  <a:pt x="7784" y="6271"/>
                  <a:pt x="7739" y="6276"/>
                </a:cubicBezTo>
                <a:cubicBezTo>
                  <a:pt x="7679" y="6283"/>
                  <a:pt x="7635" y="6256"/>
                  <a:pt x="7590" y="6251"/>
                </a:cubicBezTo>
                <a:cubicBezTo>
                  <a:pt x="7373" y="6227"/>
                  <a:pt x="7006" y="6251"/>
                  <a:pt x="6871" y="6251"/>
                </a:cubicBezTo>
              </a:path>
              <a:path w="6748" h="2705">
                <a:moveTo>
                  <a:pt x="11609" y="5234"/>
                </a:moveTo>
                <a:cubicBezTo>
                  <a:pt x="11601" y="5242"/>
                  <a:pt x="11592" y="5251"/>
                  <a:pt x="11584" y="5259"/>
                </a:cubicBezTo>
                <a:cubicBezTo>
                  <a:pt x="11542" y="5203"/>
                  <a:pt x="11566" y="5213"/>
                  <a:pt x="11584" y="5159"/>
                </a:cubicBezTo>
                <a:cubicBezTo>
                  <a:pt x="11595" y="5126"/>
                  <a:pt x="11664" y="5071"/>
                  <a:pt x="11708" y="5060"/>
                </a:cubicBezTo>
                <a:cubicBezTo>
                  <a:pt x="11748" y="5050"/>
                  <a:pt x="11818" y="5062"/>
                  <a:pt x="11832" y="5110"/>
                </a:cubicBezTo>
                <a:cubicBezTo>
                  <a:pt x="11852" y="5178"/>
                  <a:pt x="11786" y="5233"/>
                  <a:pt x="11757" y="5283"/>
                </a:cubicBezTo>
                <a:cubicBezTo>
                  <a:pt x="11723" y="5340"/>
                  <a:pt x="11683" y="5342"/>
                  <a:pt x="11683" y="5407"/>
                </a:cubicBezTo>
                <a:cubicBezTo>
                  <a:pt x="11683" y="5415"/>
                  <a:pt x="11683" y="5424"/>
                  <a:pt x="11683" y="5432"/>
                </a:cubicBezTo>
                <a:cubicBezTo>
                  <a:pt x="11740" y="5432"/>
                  <a:pt x="11779" y="5416"/>
                  <a:pt x="11832" y="5407"/>
                </a:cubicBezTo>
                <a:cubicBezTo>
                  <a:pt x="11881" y="5407"/>
                  <a:pt x="11898" y="5407"/>
                  <a:pt x="11931" y="5407"/>
                </a:cubicBezTo>
              </a:path>
              <a:path w="6748" h="2705">
                <a:moveTo>
                  <a:pt x="8756" y="6524"/>
                </a:moveTo>
                <a:cubicBezTo>
                  <a:pt x="8756" y="6461"/>
                  <a:pt x="8732" y="6601"/>
                  <a:pt x="8731" y="6623"/>
                </a:cubicBezTo>
                <a:cubicBezTo>
                  <a:pt x="8729" y="6667"/>
                  <a:pt x="8706" y="6827"/>
                  <a:pt x="8756" y="6846"/>
                </a:cubicBezTo>
                <a:cubicBezTo>
                  <a:pt x="8806" y="6865"/>
                  <a:pt x="8909" y="6836"/>
                  <a:pt x="8954" y="6821"/>
                </a:cubicBezTo>
                <a:cubicBezTo>
                  <a:pt x="9025" y="6797"/>
                  <a:pt x="9052" y="6772"/>
                  <a:pt x="9128" y="6772"/>
                </a:cubicBezTo>
                <a:cubicBezTo>
                  <a:pt x="9159" y="6772"/>
                  <a:pt x="9229" y="6771"/>
                  <a:pt x="9178" y="6796"/>
                </a:cubicBezTo>
              </a:path>
              <a:path w="6748" h="2705">
                <a:moveTo>
                  <a:pt x="8930" y="6697"/>
                </a:moveTo>
                <a:cubicBezTo>
                  <a:pt x="8869" y="6717"/>
                  <a:pt x="8924" y="6791"/>
                  <a:pt x="8930" y="6846"/>
                </a:cubicBezTo>
                <a:cubicBezTo>
                  <a:pt x="8930" y="6922"/>
                  <a:pt x="8930" y="6948"/>
                  <a:pt x="8954" y="6995"/>
                </a:cubicBezTo>
              </a:path>
              <a:path w="6748" h="2705">
                <a:moveTo>
                  <a:pt x="11857" y="6325"/>
                </a:moveTo>
                <a:cubicBezTo>
                  <a:pt x="11893" y="6338"/>
                  <a:pt x="11881" y="6356"/>
                  <a:pt x="11881" y="6400"/>
                </a:cubicBezTo>
                <a:cubicBezTo>
                  <a:pt x="11881" y="6466"/>
                  <a:pt x="11900" y="6512"/>
                  <a:pt x="11906" y="6573"/>
                </a:cubicBezTo>
                <a:cubicBezTo>
                  <a:pt x="11906" y="6598"/>
                  <a:pt x="11906" y="6606"/>
                  <a:pt x="11906" y="6623"/>
                </a:cubicBezTo>
                <a:cubicBezTo>
                  <a:pt x="11906" y="6548"/>
                  <a:pt x="11921" y="6496"/>
                  <a:pt x="11931" y="6424"/>
                </a:cubicBezTo>
                <a:cubicBezTo>
                  <a:pt x="11942" y="6346"/>
                  <a:pt x="11958" y="6269"/>
                  <a:pt x="12005" y="6201"/>
                </a:cubicBezTo>
                <a:cubicBezTo>
                  <a:pt x="12013" y="6193"/>
                  <a:pt x="12022" y="6184"/>
                  <a:pt x="12030" y="6176"/>
                </a:cubicBezTo>
                <a:cubicBezTo>
                  <a:pt x="12066" y="6235"/>
                  <a:pt x="12077" y="6300"/>
                  <a:pt x="12080" y="6375"/>
                </a:cubicBezTo>
                <a:cubicBezTo>
                  <a:pt x="12080" y="6443"/>
                  <a:pt x="12077" y="6462"/>
                  <a:pt x="12105" y="6499"/>
                </a:cubicBezTo>
                <a:cubicBezTo>
                  <a:pt x="12105" y="6568"/>
                  <a:pt x="12102" y="6391"/>
                  <a:pt x="12105" y="6375"/>
                </a:cubicBezTo>
                <a:cubicBezTo>
                  <a:pt x="12119" y="6309"/>
                  <a:pt x="12139" y="6242"/>
                  <a:pt x="12204" y="6226"/>
                </a:cubicBezTo>
                <a:cubicBezTo>
                  <a:pt x="12242" y="6303"/>
                  <a:pt x="12290" y="6388"/>
                  <a:pt x="12303" y="6474"/>
                </a:cubicBezTo>
                <a:cubicBezTo>
                  <a:pt x="12313" y="6542"/>
                  <a:pt x="12315" y="6545"/>
                  <a:pt x="12328" y="6598"/>
                </a:cubicBezTo>
              </a:path>
              <a:path w="6748" h="2705">
                <a:moveTo>
                  <a:pt x="12774" y="6176"/>
                </a:moveTo>
                <a:cubicBezTo>
                  <a:pt x="12782" y="6176"/>
                  <a:pt x="12791" y="6176"/>
                  <a:pt x="12799" y="6176"/>
                </a:cubicBezTo>
                <a:cubicBezTo>
                  <a:pt x="12750" y="6225"/>
                  <a:pt x="12745" y="6226"/>
                  <a:pt x="12675" y="6226"/>
                </a:cubicBezTo>
                <a:cubicBezTo>
                  <a:pt x="12619" y="6226"/>
                  <a:pt x="12605" y="6251"/>
                  <a:pt x="12551" y="6251"/>
                </a:cubicBezTo>
              </a:path>
              <a:path w="6748" h="2705">
                <a:moveTo>
                  <a:pt x="12774" y="6276"/>
                </a:moveTo>
                <a:cubicBezTo>
                  <a:pt x="12782" y="6276"/>
                  <a:pt x="12791" y="6276"/>
                  <a:pt x="12799" y="6276"/>
                </a:cubicBezTo>
                <a:cubicBezTo>
                  <a:pt x="12788" y="6307"/>
                  <a:pt x="12719" y="6315"/>
                  <a:pt x="12675" y="6325"/>
                </a:cubicBezTo>
                <a:cubicBezTo>
                  <a:pt x="12667" y="6325"/>
                  <a:pt x="12658" y="6325"/>
                  <a:pt x="12650" y="6325"/>
                </a:cubicBezTo>
              </a:path>
              <a:path w="6748" h="2705">
                <a:moveTo>
                  <a:pt x="13196" y="5854"/>
                </a:moveTo>
                <a:cubicBezTo>
                  <a:pt x="13218" y="5802"/>
                  <a:pt x="13221" y="5784"/>
                  <a:pt x="13221" y="5730"/>
                </a:cubicBezTo>
                <a:cubicBezTo>
                  <a:pt x="13259" y="5794"/>
                  <a:pt x="13267" y="5874"/>
                  <a:pt x="13271" y="5953"/>
                </a:cubicBezTo>
                <a:cubicBezTo>
                  <a:pt x="13273" y="6006"/>
                  <a:pt x="13287" y="6051"/>
                  <a:pt x="13295" y="6102"/>
                </a:cubicBezTo>
              </a:path>
              <a:path w="6748" h="2705">
                <a:moveTo>
                  <a:pt x="13494" y="6127"/>
                </a:moveTo>
                <a:cubicBezTo>
                  <a:pt x="13494" y="6152"/>
                  <a:pt x="13494" y="6160"/>
                  <a:pt x="13494" y="6176"/>
                </a:cubicBezTo>
                <a:cubicBezTo>
                  <a:pt x="13444" y="6176"/>
                  <a:pt x="13392" y="6189"/>
                  <a:pt x="13345" y="6201"/>
                </a:cubicBezTo>
                <a:cubicBezTo>
                  <a:pt x="13275" y="6219"/>
                  <a:pt x="13183" y="6213"/>
                  <a:pt x="13122" y="6251"/>
                </a:cubicBezTo>
                <a:cubicBezTo>
                  <a:pt x="13099" y="6274"/>
                  <a:pt x="13095" y="6282"/>
                  <a:pt x="13072" y="6276"/>
                </a:cubicBezTo>
              </a:path>
              <a:path w="6748" h="2705">
                <a:moveTo>
                  <a:pt x="13246" y="6449"/>
                </a:moveTo>
                <a:cubicBezTo>
                  <a:pt x="13223" y="6472"/>
                  <a:pt x="13219" y="6480"/>
                  <a:pt x="13196" y="6474"/>
                </a:cubicBezTo>
                <a:cubicBezTo>
                  <a:pt x="13208" y="6425"/>
                  <a:pt x="13250" y="6402"/>
                  <a:pt x="13295" y="6375"/>
                </a:cubicBezTo>
                <a:cubicBezTo>
                  <a:pt x="13339" y="6348"/>
                  <a:pt x="13424" y="6329"/>
                  <a:pt x="13444" y="6400"/>
                </a:cubicBezTo>
                <a:cubicBezTo>
                  <a:pt x="13467" y="6481"/>
                  <a:pt x="13430" y="6554"/>
                  <a:pt x="13395" y="6623"/>
                </a:cubicBezTo>
                <a:cubicBezTo>
                  <a:pt x="13368" y="6676"/>
                  <a:pt x="13345" y="6713"/>
                  <a:pt x="13345" y="6772"/>
                </a:cubicBezTo>
                <a:cubicBezTo>
                  <a:pt x="13418" y="6772"/>
                  <a:pt x="13452" y="6734"/>
                  <a:pt x="13519" y="6722"/>
                </a:cubicBezTo>
                <a:cubicBezTo>
                  <a:pt x="13544" y="6722"/>
                  <a:pt x="13568" y="6722"/>
                  <a:pt x="13593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03920" y="1393920"/>
            <a:ext cx="1724040" cy="436320"/>
          </a:xfrm>
          <a:custGeom>
            <a:avLst/>
            <a:gdLst/>
            <a:ahLst/>
            <a:rect l="l" t="t" r="r" b="b"/>
            <a:pathLst>
              <a:path w="4788" h="1216">
                <a:moveTo>
                  <a:pt x="16148" y="4415"/>
                </a:moveTo>
                <a:cubicBezTo>
                  <a:pt x="16148" y="4382"/>
                  <a:pt x="16148" y="4349"/>
                  <a:pt x="16148" y="4316"/>
                </a:cubicBezTo>
                <a:cubicBezTo>
                  <a:pt x="16105" y="4330"/>
                  <a:pt x="16112" y="4412"/>
                  <a:pt x="16123" y="4465"/>
                </a:cubicBezTo>
                <a:cubicBezTo>
                  <a:pt x="16141" y="4549"/>
                  <a:pt x="16161" y="4569"/>
                  <a:pt x="16222" y="4614"/>
                </a:cubicBezTo>
                <a:cubicBezTo>
                  <a:pt x="16290" y="4587"/>
                  <a:pt x="16299" y="4511"/>
                  <a:pt x="16371" y="4490"/>
                </a:cubicBezTo>
                <a:cubicBezTo>
                  <a:pt x="16481" y="4458"/>
                  <a:pt x="16586" y="4605"/>
                  <a:pt x="16619" y="4688"/>
                </a:cubicBezTo>
                <a:cubicBezTo>
                  <a:pt x="16659" y="4789"/>
                  <a:pt x="16677" y="4959"/>
                  <a:pt x="16594" y="5035"/>
                </a:cubicBezTo>
                <a:cubicBezTo>
                  <a:pt x="16510" y="5111"/>
                  <a:pt x="16419" y="5092"/>
                  <a:pt x="16321" y="5060"/>
                </a:cubicBezTo>
                <a:cubicBezTo>
                  <a:pt x="16250" y="5036"/>
                  <a:pt x="16227" y="5029"/>
                  <a:pt x="16197" y="4986"/>
                </a:cubicBezTo>
              </a:path>
              <a:path w="4788" h="1216">
                <a:moveTo>
                  <a:pt x="17140" y="4366"/>
                </a:moveTo>
                <a:cubicBezTo>
                  <a:pt x="17140" y="4374"/>
                  <a:pt x="17140" y="4382"/>
                  <a:pt x="17140" y="4390"/>
                </a:cubicBezTo>
                <a:cubicBezTo>
                  <a:pt x="17100" y="4390"/>
                  <a:pt x="17048" y="4396"/>
                  <a:pt x="17016" y="4415"/>
                </a:cubicBezTo>
                <a:cubicBezTo>
                  <a:pt x="16993" y="4438"/>
                  <a:pt x="16989" y="4446"/>
                  <a:pt x="16966" y="4440"/>
                </a:cubicBezTo>
              </a:path>
              <a:path w="4788" h="1216">
                <a:moveTo>
                  <a:pt x="17115" y="4539"/>
                </a:moveTo>
                <a:cubicBezTo>
                  <a:pt x="17138" y="4562"/>
                  <a:pt x="17146" y="4566"/>
                  <a:pt x="17140" y="4589"/>
                </a:cubicBezTo>
                <a:cubicBezTo>
                  <a:pt x="17099" y="4589"/>
                  <a:pt x="17057" y="4589"/>
                  <a:pt x="17016" y="4589"/>
                </a:cubicBezTo>
              </a:path>
              <a:path w="4788" h="1216">
                <a:moveTo>
                  <a:pt x="18058" y="3919"/>
                </a:moveTo>
                <a:cubicBezTo>
                  <a:pt x="18058" y="3894"/>
                  <a:pt x="18058" y="3886"/>
                  <a:pt x="18058" y="3870"/>
                </a:cubicBezTo>
                <a:cubicBezTo>
                  <a:pt x="18045" y="3922"/>
                  <a:pt x="18033" y="3955"/>
                  <a:pt x="18033" y="4018"/>
                </a:cubicBezTo>
                <a:cubicBezTo>
                  <a:pt x="18033" y="4082"/>
                  <a:pt x="18045" y="4114"/>
                  <a:pt x="18058" y="4167"/>
                </a:cubicBezTo>
              </a:path>
              <a:path w="4788" h="1216">
                <a:moveTo>
                  <a:pt x="18306" y="4291"/>
                </a:moveTo>
                <a:cubicBezTo>
                  <a:pt x="18314" y="4291"/>
                  <a:pt x="18323" y="4291"/>
                  <a:pt x="18331" y="4291"/>
                </a:cubicBezTo>
                <a:cubicBezTo>
                  <a:pt x="18315" y="4355"/>
                  <a:pt x="18267" y="4340"/>
                  <a:pt x="18207" y="4366"/>
                </a:cubicBezTo>
                <a:cubicBezTo>
                  <a:pt x="18137" y="4397"/>
                  <a:pt x="18056" y="4399"/>
                  <a:pt x="17983" y="4415"/>
                </a:cubicBezTo>
                <a:cubicBezTo>
                  <a:pt x="17955" y="4415"/>
                  <a:pt x="17945" y="4412"/>
                  <a:pt x="17934" y="4390"/>
                </a:cubicBezTo>
              </a:path>
              <a:path w="4788" h="1216">
                <a:moveTo>
                  <a:pt x="18033" y="4614"/>
                </a:moveTo>
                <a:cubicBezTo>
                  <a:pt x="18045" y="4637"/>
                  <a:pt x="18091" y="4595"/>
                  <a:pt x="18132" y="4564"/>
                </a:cubicBezTo>
                <a:cubicBezTo>
                  <a:pt x="18156" y="4546"/>
                  <a:pt x="18239" y="4508"/>
                  <a:pt x="18256" y="4564"/>
                </a:cubicBezTo>
                <a:cubicBezTo>
                  <a:pt x="18280" y="4644"/>
                  <a:pt x="18244" y="4701"/>
                  <a:pt x="18207" y="4762"/>
                </a:cubicBezTo>
                <a:cubicBezTo>
                  <a:pt x="18189" y="4792"/>
                  <a:pt x="18134" y="4871"/>
                  <a:pt x="18157" y="4911"/>
                </a:cubicBezTo>
                <a:cubicBezTo>
                  <a:pt x="18176" y="4946"/>
                  <a:pt x="18270" y="4947"/>
                  <a:pt x="18306" y="4936"/>
                </a:cubicBezTo>
                <a:cubicBezTo>
                  <a:pt x="18365" y="4918"/>
                  <a:pt x="18430" y="4916"/>
                  <a:pt x="18479" y="4887"/>
                </a:cubicBezTo>
              </a:path>
              <a:path w="4788" h="1216">
                <a:moveTo>
                  <a:pt x="18728" y="4440"/>
                </a:moveTo>
                <a:cubicBezTo>
                  <a:pt x="18695" y="4396"/>
                  <a:pt x="18698" y="4355"/>
                  <a:pt x="18752" y="4316"/>
                </a:cubicBezTo>
                <a:cubicBezTo>
                  <a:pt x="18800" y="4282"/>
                  <a:pt x="18889" y="4288"/>
                  <a:pt x="18926" y="4341"/>
                </a:cubicBezTo>
                <a:cubicBezTo>
                  <a:pt x="18972" y="4407"/>
                  <a:pt x="18955" y="4505"/>
                  <a:pt x="18926" y="4564"/>
                </a:cubicBezTo>
                <a:cubicBezTo>
                  <a:pt x="18889" y="4638"/>
                  <a:pt x="18881" y="4638"/>
                  <a:pt x="18802" y="4638"/>
                </a:cubicBezTo>
              </a:path>
              <a:path w="4788" h="1216">
                <a:moveTo>
                  <a:pt x="19050" y="4316"/>
                </a:moveTo>
                <a:cubicBezTo>
                  <a:pt x="19067" y="4299"/>
                  <a:pt x="19083" y="4283"/>
                  <a:pt x="19100" y="4266"/>
                </a:cubicBezTo>
                <a:cubicBezTo>
                  <a:pt x="19088" y="4327"/>
                  <a:pt x="19022" y="4401"/>
                  <a:pt x="19025" y="4465"/>
                </a:cubicBezTo>
                <a:cubicBezTo>
                  <a:pt x="19027" y="4497"/>
                  <a:pt x="19079" y="4602"/>
                  <a:pt x="19124" y="4589"/>
                </a:cubicBezTo>
                <a:cubicBezTo>
                  <a:pt x="19168" y="4567"/>
                  <a:pt x="19180" y="4564"/>
                  <a:pt x="19199" y="4539"/>
                </a:cubicBezTo>
              </a:path>
              <a:path w="4788" h="1216">
                <a:moveTo>
                  <a:pt x="19993" y="4415"/>
                </a:moveTo>
                <a:cubicBezTo>
                  <a:pt x="19975" y="4470"/>
                  <a:pt x="19947" y="4417"/>
                  <a:pt x="19893" y="4440"/>
                </a:cubicBezTo>
                <a:cubicBezTo>
                  <a:pt x="19831" y="4466"/>
                  <a:pt x="19770" y="4465"/>
                  <a:pt x="19695" y="4465"/>
                </a:cubicBezTo>
                <a:cubicBezTo>
                  <a:pt x="19637" y="4465"/>
                  <a:pt x="19579" y="4465"/>
                  <a:pt x="19521" y="4465"/>
                </a:cubicBezTo>
              </a:path>
              <a:path w="4788" h="1216">
                <a:moveTo>
                  <a:pt x="19670" y="4316"/>
                </a:moveTo>
                <a:cubicBezTo>
                  <a:pt x="19716" y="4331"/>
                  <a:pt x="19695" y="4410"/>
                  <a:pt x="19695" y="4465"/>
                </a:cubicBezTo>
                <a:cubicBezTo>
                  <a:pt x="19695" y="4515"/>
                  <a:pt x="19695" y="4564"/>
                  <a:pt x="19695" y="4614"/>
                </a:cubicBezTo>
              </a:path>
              <a:path w="4788" h="1216">
                <a:moveTo>
                  <a:pt x="20389" y="4118"/>
                </a:moveTo>
                <a:cubicBezTo>
                  <a:pt x="20389" y="4142"/>
                  <a:pt x="20389" y="4151"/>
                  <a:pt x="20389" y="4167"/>
                </a:cubicBezTo>
                <a:cubicBezTo>
                  <a:pt x="20402" y="4115"/>
                  <a:pt x="20486" y="4061"/>
                  <a:pt x="20538" y="4043"/>
                </a:cubicBezTo>
                <a:cubicBezTo>
                  <a:pt x="20595" y="4024"/>
                  <a:pt x="20663" y="4004"/>
                  <a:pt x="20712" y="4043"/>
                </a:cubicBezTo>
                <a:cubicBezTo>
                  <a:pt x="20764" y="4085"/>
                  <a:pt x="20735" y="4148"/>
                  <a:pt x="20712" y="4192"/>
                </a:cubicBezTo>
                <a:cubicBezTo>
                  <a:pt x="20690" y="4232"/>
                  <a:pt x="20641" y="4273"/>
                  <a:pt x="20638" y="4316"/>
                </a:cubicBezTo>
                <a:cubicBezTo>
                  <a:pt x="20633" y="4390"/>
                  <a:pt x="20750" y="4430"/>
                  <a:pt x="20811" y="4465"/>
                </a:cubicBezTo>
                <a:cubicBezTo>
                  <a:pt x="20828" y="4475"/>
                  <a:pt x="20936" y="4523"/>
                  <a:pt x="20910" y="4564"/>
                </a:cubicBezTo>
                <a:cubicBezTo>
                  <a:pt x="20855" y="4651"/>
                  <a:pt x="20775" y="4638"/>
                  <a:pt x="20687" y="4638"/>
                </a:cubicBezTo>
                <a:cubicBezTo>
                  <a:pt x="20603" y="4638"/>
                  <a:pt x="20545" y="4634"/>
                  <a:pt x="20464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4160" y="2732040"/>
            <a:ext cx="1009800" cy="277920"/>
          </a:xfrm>
          <a:custGeom>
            <a:avLst/>
            <a:gdLst/>
            <a:ahLst/>
            <a:rect l="l" t="t" r="r" b="b"/>
            <a:pathLst>
              <a:path w="2804" h="770">
                <a:moveTo>
                  <a:pt x="3225" y="8310"/>
                </a:moveTo>
                <a:cubicBezTo>
                  <a:pt x="3254" y="8332"/>
                  <a:pt x="3360" y="8334"/>
                  <a:pt x="3324" y="8334"/>
                </a:cubicBezTo>
                <a:cubicBezTo>
                  <a:pt x="3283" y="8334"/>
                  <a:pt x="3295" y="8296"/>
                  <a:pt x="3274" y="8285"/>
                </a:cubicBezTo>
                <a:cubicBezTo>
                  <a:pt x="3244" y="8270"/>
                  <a:pt x="3160" y="8262"/>
                  <a:pt x="3125" y="8260"/>
                </a:cubicBezTo>
                <a:cubicBezTo>
                  <a:pt x="3042" y="8255"/>
                  <a:pt x="2955" y="8265"/>
                  <a:pt x="2877" y="8285"/>
                </a:cubicBezTo>
                <a:cubicBezTo>
                  <a:pt x="2805" y="8303"/>
                  <a:pt x="2693" y="8309"/>
                  <a:pt x="2629" y="8334"/>
                </a:cubicBezTo>
                <a:cubicBezTo>
                  <a:pt x="2563" y="8359"/>
                  <a:pt x="2596" y="8355"/>
                  <a:pt x="2555" y="8334"/>
                </a:cubicBezTo>
                <a:cubicBezTo>
                  <a:pt x="2512" y="8313"/>
                  <a:pt x="2498" y="8328"/>
                  <a:pt x="2456" y="8285"/>
                </a:cubicBezTo>
              </a:path>
              <a:path w="2804" h="770">
                <a:moveTo>
                  <a:pt x="3870" y="7913"/>
                </a:moveTo>
                <a:cubicBezTo>
                  <a:pt x="3859" y="7879"/>
                  <a:pt x="3824" y="7872"/>
                  <a:pt x="3795" y="7913"/>
                </a:cubicBezTo>
                <a:cubicBezTo>
                  <a:pt x="3751" y="7976"/>
                  <a:pt x="3725" y="8033"/>
                  <a:pt x="3721" y="8111"/>
                </a:cubicBezTo>
                <a:cubicBezTo>
                  <a:pt x="3717" y="8178"/>
                  <a:pt x="3750" y="8264"/>
                  <a:pt x="3820" y="8285"/>
                </a:cubicBezTo>
                <a:cubicBezTo>
                  <a:pt x="3878" y="8302"/>
                  <a:pt x="3929" y="8272"/>
                  <a:pt x="3969" y="8235"/>
                </a:cubicBezTo>
                <a:cubicBezTo>
                  <a:pt x="3985" y="8219"/>
                  <a:pt x="4002" y="8202"/>
                  <a:pt x="4018" y="8186"/>
                </a:cubicBezTo>
              </a:path>
              <a:path w="2804" h="770">
                <a:moveTo>
                  <a:pt x="4514" y="7938"/>
                </a:moveTo>
                <a:cubicBezTo>
                  <a:pt x="4469" y="7949"/>
                  <a:pt x="4431" y="7965"/>
                  <a:pt x="4390" y="7987"/>
                </a:cubicBezTo>
                <a:cubicBezTo>
                  <a:pt x="4350" y="8007"/>
                  <a:pt x="4344" y="8016"/>
                  <a:pt x="4316" y="8012"/>
                </a:cubicBezTo>
              </a:path>
              <a:path w="2804" h="770">
                <a:moveTo>
                  <a:pt x="4440" y="8111"/>
                </a:moveTo>
                <a:cubicBezTo>
                  <a:pt x="4448" y="8111"/>
                  <a:pt x="4457" y="8111"/>
                  <a:pt x="4465" y="8111"/>
                </a:cubicBezTo>
                <a:cubicBezTo>
                  <a:pt x="4409" y="8139"/>
                  <a:pt x="4342" y="8153"/>
                  <a:pt x="4291" y="8186"/>
                </a:cubicBezTo>
                <a:cubicBezTo>
                  <a:pt x="4269" y="8208"/>
                  <a:pt x="4264" y="8216"/>
                  <a:pt x="4242" y="8210"/>
                </a:cubicBezTo>
              </a:path>
              <a:path w="2804" h="770">
                <a:moveTo>
                  <a:pt x="4787" y="7813"/>
                </a:moveTo>
                <a:cubicBezTo>
                  <a:pt x="4779" y="7813"/>
                  <a:pt x="4770" y="7813"/>
                  <a:pt x="4762" y="7813"/>
                </a:cubicBezTo>
                <a:cubicBezTo>
                  <a:pt x="4762" y="7741"/>
                  <a:pt x="4783" y="7758"/>
                  <a:pt x="4837" y="7714"/>
                </a:cubicBezTo>
                <a:cubicBezTo>
                  <a:pt x="4922" y="7645"/>
                  <a:pt x="4944" y="7598"/>
                  <a:pt x="5060" y="7590"/>
                </a:cubicBezTo>
                <a:cubicBezTo>
                  <a:pt x="5109" y="7586"/>
                  <a:pt x="5146" y="7643"/>
                  <a:pt x="5135" y="7689"/>
                </a:cubicBezTo>
                <a:cubicBezTo>
                  <a:pt x="5115" y="7774"/>
                  <a:pt x="5052" y="7850"/>
                  <a:pt x="5035" y="7938"/>
                </a:cubicBezTo>
                <a:cubicBezTo>
                  <a:pt x="5028" y="7977"/>
                  <a:pt x="5067" y="8050"/>
                  <a:pt x="5110" y="8062"/>
                </a:cubicBezTo>
                <a:cubicBezTo>
                  <a:pt x="5145" y="8072"/>
                  <a:pt x="5243" y="8070"/>
                  <a:pt x="5259" y="8111"/>
                </a:cubicBezTo>
                <a:cubicBezTo>
                  <a:pt x="5284" y="8175"/>
                  <a:pt x="5255" y="8231"/>
                  <a:pt x="5209" y="8260"/>
                </a:cubicBezTo>
                <a:cubicBezTo>
                  <a:pt x="5113" y="8320"/>
                  <a:pt x="5019" y="8310"/>
                  <a:pt x="4911" y="8310"/>
                </a:cubicBezTo>
                <a:cubicBezTo>
                  <a:pt x="4886" y="8310"/>
                  <a:pt x="4862" y="8310"/>
                  <a:pt x="4837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11920" y="2463840"/>
            <a:ext cx="2239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16470" y="6921"/>
                </a:moveTo>
                <a:cubicBezTo>
                  <a:pt x="16470" y="6904"/>
                  <a:pt x="16470" y="6888"/>
                  <a:pt x="16470" y="6871"/>
                </a:cubicBezTo>
                <a:cubicBezTo>
                  <a:pt x="16437" y="6883"/>
                  <a:pt x="16410" y="6944"/>
                  <a:pt x="16421" y="6995"/>
                </a:cubicBezTo>
                <a:cubicBezTo>
                  <a:pt x="16434" y="7051"/>
                  <a:pt x="16469" y="7106"/>
                  <a:pt x="16520" y="7119"/>
                </a:cubicBezTo>
                <a:cubicBezTo>
                  <a:pt x="16586" y="7043"/>
                  <a:pt x="16599" y="6941"/>
                  <a:pt x="16669" y="6871"/>
                </a:cubicBezTo>
                <a:cubicBezTo>
                  <a:pt x="16685" y="6863"/>
                  <a:pt x="16702" y="6854"/>
                  <a:pt x="16718" y="6846"/>
                </a:cubicBezTo>
                <a:cubicBezTo>
                  <a:pt x="16843" y="6943"/>
                  <a:pt x="16931" y="7068"/>
                  <a:pt x="16991" y="7218"/>
                </a:cubicBezTo>
                <a:cubicBezTo>
                  <a:pt x="17036" y="7331"/>
                  <a:pt x="17100" y="7529"/>
                  <a:pt x="16966" y="7615"/>
                </a:cubicBezTo>
                <a:cubicBezTo>
                  <a:pt x="16860" y="7683"/>
                  <a:pt x="16707" y="7675"/>
                  <a:pt x="16594" y="7640"/>
                </a:cubicBezTo>
                <a:cubicBezTo>
                  <a:pt x="16540" y="7613"/>
                  <a:pt x="16520" y="7601"/>
                  <a:pt x="16495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40320" y="2367000"/>
            <a:ext cx="15264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7810" y="6598"/>
                </a:moveTo>
                <a:cubicBezTo>
                  <a:pt x="17832" y="6576"/>
                  <a:pt x="17837" y="6567"/>
                  <a:pt x="17859" y="6573"/>
                </a:cubicBezTo>
                <a:cubicBezTo>
                  <a:pt x="17899" y="6593"/>
                  <a:pt x="17839" y="6650"/>
                  <a:pt x="17810" y="6697"/>
                </a:cubicBezTo>
                <a:cubicBezTo>
                  <a:pt x="17759" y="6780"/>
                  <a:pt x="17711" y="6865"/>
                  <a:pt x="17661" y="6945"/>
                </a:cubicBezTo>
                <a:cubicBezTo>
                  <a:pt x="17638" y="6981"/>
                  <a:pt x="17620" y="7001"/>
                  <a:pt x="17611" y="7045"/>
                </a:cubicBezTo>
                <a:cubicBezTo>
                  <a:pt x="17673" y="7057"/>
                  <a:pt x="17719" y="7069"/>
                  <a:pt x="17785" y="7069"/>
                </a:cubicBezTo>
                <a:cubicBezTo>
                  <a:pt x="17859" y="7069"/>
                  <a:pt x="17913" y="7089"/>
                  <a:pt x="17983" y="7094"/>
                </a:cubicBezTo>
                <a:cubicBezTo>
                  <a:pt x="18008" y="7094"/>
                  <a:pt x="18016" y="7094"/>
                  <a:pt x="18008" y="7069"/>
                </a:cubicBezTo>
              </a:path>
              <a:path w="423" h="745">
                <a:moveTo>
                  <a:pt x="18033" y="7293"/>
                </a:moveTo>
                <a:cubicBezTo>
                  <a:pt x="17977" y="7293"/>
                  <a:pt x="17935" y="7311"/>
                  <a:pt x="17884" y="7317"/>
                </a:cubicBezTo>
                <a:cubicBezTo>
                  <a:pt x="17823" y="7325"/>
                  <a:pt x="17714" y="7322"/>
                  <a:pt x="17661" y="7293"/>
                </a:cubicBezTo>
                <a:cubicBezTo>
                  <a:pt x="17653" y="7285"/>
                  <a:pt x="17644" y="7276"/>
                  <a:pt x="17636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59720" y="2384280"/>
            <a:ext cx="250560" cy="268560"/>
          </a:xfrm>
          <a:custGeom>
            <a:avLst/>
            <a:gdLst/>
            <a:ahLst/>
            <a:rect l="l" t="t" r="r" b="b"/>
            <a:pathLst>
              <a:path w="696" h="745">
                <a:moveTo>
                  <a:pt x="18852" y="6722"/>
                </a:moveTo>
                <a:cubicBezTo>
                  <a:pt x="18747" y="6677"/>
                  <a:pt x="18787" y="6716"/>
                  <a:pt x="18852" y="6697"/>
                </a:cubicBezTo>
                <a:cubicBezTo>
                  <a:pt x="18947" y="6669"/>
                  <a:pt x="19046" y="6652"/>
                  <a:pt x="19149" y="6648"/>
                </a:cubicBezTo>
                <a:cubicBezTo>
                  <a:pt x="19238" y="6645"/>
                  <a:pt x="19315" y="6599"/>
                  <a:pt x="19397" y="6648"/>
                </a:cubicBezTo>
                <a:cubicBezTo>
                  <a:pt x="19457" y="6684"/>
                  <a:pt x="19482" y="6753"/>
                  <a:pt x="19472" y="6821"/>
                </a:cubicBezTo>
                <a:cubicBezTo>
                  <a:pt x="19454" y="6938"/>
                  <a:pt x="19375" y="7038"/>
                  <a:pt x="19348" y="7144"/>
                </a:cubicBezTo>
                <a:cubicBezTo>
                  <a:pt x="19333" y="7204"/>
                  <a:pt x="19323" y="7278"/>
                  <a:pt x="19323" y="7342"/>
                </a:cubicBezTo>
                <a:cubicBezTo>
                  <a:pt x="19323" y="7350"/>
                  <a:pt x="19323" y="7359"/>
                  <a:pt x="19323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75200" y="2963880"/>
            <a:ext cx="331920" cy="162000"/>
          </a:xfrm>
          <a:custGeom>
            <a:avLst/>
            <a:gdLst/>
            <a:ahLst/>
            <a:rect l="l" t="t" r="r" b="b"/>
            <a:pathLst>
              <a:path w="919" h="448">
                <a:moveTo>
                  <a:pt x="16346" y="8359"/>
                </a:moveTo>
                <a:cubicBezTo>
                  <a:pt x="16346" y="8384"/>
                  <a:pt x="16346" y="8392"/>
                  <a:pt x="16346" y="8409"/>
                </a:cubicBezTo>
                <a:cubicBezTo>
                  <a:pt x="16305" y="8395"/>
                  <a:pt x="16315" y="8368"/>
                  <a:pt x="16346" y="8334"/>
                </a:cubicBezTo>
                <a:cubicBezTo>
                  <a:pt x="16384" y="8293"/>
                  <a:pt x="16440" y="8247"/>
                  <a:pt x="16495" y="8235"/>
                </a:cubicBezTo>
                <a:cubicBezTo>
                  <a:pt x="16592" y="8213"/>
                  <a:pt x="16644" y="8261"/>
                  <a:pt x="16694" y="8334"/>
                </a:cubicBezTo>
                <a:cubicBezTo>
                  <a:pt x="16757" y="8425"/>
                  <a:pt x="16761" y="8509"/>
                  <a:pt x="16718" y="8607"/>
                </a:cubicBezTo>
                <a:cubicBezTo>
                  <a:pt x="16681" y="8693"/>
                  <a:pt x="16627" y="8682"/>
                  <a:pt x="16545" y="8682"/>
                </a:cubicBezTo>
                <a:cubicBezTo>
                  <a:pt x="16505" y="8682"/>
                  <a:pt x="16479" y="8658"/>
                  <a:pt x="16470" y="8632"/>
                </a:cubicBezTo>
              </a:path>
              <a:path w="919" h="448">
                <a:moveTo>
                  <a:pt x="16892" y="8384"/>
                </a:moveTo>
                <a:cubicBezTo>
                  <a:pt x="16921" y="8372"/>
                  <a:pt x="17024" y="8344"/>
                  <a:pt x="17041" y="8310"/>
                </a:cubicBezTo>
                <a:cubicBezTo>
                  <a:pt x="17041" y="8285"/>
                  <a:pt x="17041" y="8277"/>
                  <a:pt x="17041" y="8260"/>
                </a:cubicBezTo>
                <a:cubicBezTo>
                  <a:pt x="16991" y="8272"/>
                  <a:pt x="16919" y="8336"/>
                  <a:pt x="16892" y="8384"/>
                </a:cubicBezTo>
                <a:cubicBezTo>
                  <a:pt x="16836" y="8483"/>
                  <a:pt x="16871" y="8553"/>
                  <a:pt x="16917" y="8632"/>
                </a:cubicBezTo>
                <a:cubicBezTo>
                  <a:pt x="16954" y="8696"/>
                  <a:pt x="17036" y="8703"/>
                  <a:pt x="17115" y="8682"/>
                </a:cubicBezTo>
                <a:cubicBezTo>
                  <a:pt x="17175" y="8652"/>
                  <a:pt x="17201" y="8637"/>
                  <a:pt x="17239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56240" y="2955960"/>
            <a:ext cx="473040" cy="241200"/>
          </a:xfrm>
          <a:custGeom>
            <a:avLst/>
            <a:gdLst/>
            <a:ahLst/>
            <a:rect l="l" t="t" r="r" b="b"/>
            <a:pathLst>
              <a:path w="1315" h="671">
                <a:moveTo>
                  <a:pt x="18256" y="8483"/>
                </a:moveTo>
                <a:cubicBezTo>
                  <a:pt x="18256" y="8475"/>
                  <a:pt x="18256" y="8466"/>
                  <a:pt x="18256" y="8458"/>
                </a:cubicBezTo>
                <a:cubicBezTo>
                  <a:pt x="18209" y="8470"/>
                  <a:pt x="18162" y="8514"/>
                  <a:pt x="18132" y="8558"/>
                </a:cubicBezTo>
                <a:cubicBezTo>
                  <a:pt x="18087" y="8624"/>
                  <a:pt x="18044" y="8683"/>
                  <a:pt x="18008" y="8756"/>
                </a:cubicBezTo>
                <a:cubicBezTo>
                  <a:pt x="17987" y="8798"/>
                  <a:pt x="17969" y="8838"/>
                  <a:pt x="17959" y="8880"/>
                </a:cubicBezTo>
              </a:path>
              <a:path w="1315" h="671">
                <a:moveTo>
                  <a:pt x="18207" y="8483"/>
                </a:moveTo>
                <a:cubicBezTo>
                  <a:pt x="18215" y="8475"/>
                  <a:pt x="18223" y="8466"/>
                  <a:pt x="18231" y="8458"/>
                </a:cubicBezTo>
                <a:cubicBezTo>
                  <a:pt x="18201" y="8448"/>
                  <a:pt x="18196" y="8426"/>
                  <a:pt x="18157" y="8409"/>
                </a:cubicBezTo>
                <a:cubicBezTo>
                  <a:pt x="18102" y="8385"/>
                  <a:pt x="18053" y="8327"/>
                  <a:pt x="18008" y="8285"/>
                </a:cubicBezTo>
                <a:cubicBezTo>
                  <a:pt x="17967" y="8243"/>
                  <a:pt x="17959" y="8235"/>
                  <a:pt x="17934" y="8210"/>
                </a:cubicBezTo>
              </a:path>
              <a:path w="1315" h="671">
                <a:moveTo>
                  <a:pt x="18628" y="8384"/>
                </a:moveTo>
                <a:cubicBezTo>
                  <a:pt x="18598" y="8343"/>
                  <a:pt x="18592" y="8326"/>
                  <a:pt x="18628" y="8285"/>
                </a:cubicBezTo>
                <a:cubicBezTo>
                  <a:pt x="18649" y="8261"/>
                  <a:pt x="18692" y="8200"/>
                  <a:pt x="18728" y="8210"/>
                </a:cubicBezTo>
                <a:cubicBezTo>
                  <a:pt x="18815" y="8235"/>
                  <a:pt x="18802" y="8282"/>
                  <a:pt x="18802" y="8359"/>
                </a:cubicBezTo>
                <a:cubicBezTo>
                  <a:pt x="18802" y="8482"/>
                  <a:pt x="18750" y="8523"/>
                  <a:pt x="18728" y="8632"/>
                </a:cubicBezTo>
                <a:cubicBezTo>
                  <a:pt x="18716" y="8693"/>
                  <a:pt x="18705" y="8812"/>
                  <a:pt x="18777" y="8830"/>
                </a:cubicBezTo>
                <a:cubicBezTo>
                  <a:pt x="18840" y="8845"/>
                  <a:pt x="18947" y="8787"/>
                  <a:pt x="19000" y="8756"/>
                </a:cubicBezTo>
                <a:cubicBezTo>
                  <a:pt x="19066" y="8717"/>
                  <a:pt x="19125" y="8675"/>
                  <a:pt x="19199" y="8657"/>
                </a:cubicBezTo>
                <a:cubicBezTo>
                  <a:pt x="19224" y="8657"/>
                  <a:pt x="19232" y="8657"/>
                  <a:pt x="19248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73840" y="3490920"/>
            <a:ext cx="233280" cy="277920"/>
          </a:xfrm>
          <a:custGeom>
            <a:avLst/>
            <a:gdLst/>
            <a:ahLst/>
            <a:rect l="l" t="t" r="r" b="b"/>
            <a:pathLst>
              <a:path w="646" h="770">
                <a:moveTo>
                  <a:pt x="16669" y="9748"/>
                </a:moveTo>
                <a:cubicBezTo>
                  <a:pt x="16637" y="9705"/>
                  <a:pt x="16650" y="9699"/>
                  <a:pt x="16594" y="9699"/>
                </a:cubicBezTo>
                <a:cubicBezTo>
                  <a:pt x="16594" y="9772"/>
                  <a:pt x="16575" y="9859"/>
                  <a:pt x="16619" y="9922"/>
                </a:cubicBezTo>
                <a:cubicBezTo>
                  <a:pt x="16684" y="10015"/>
                  <a:pt x="16752" y="10003"/>
                  <a:pt x="16818" y="9922"/>
                </a:cubicBezTo>
                <a:cubicBezTo>
                  <a:pt x="16876" y="9850"/>
                  <a:pt x="16949" y="9698"/>
                  <a:pt x="17066" y="9798"/>
                </a:cubicBezTo>
                <a:cubicBezTo>
                  <a:pt x="17192" y="9906"/>
                  <a:pt x="17224" y="10115"/>
                  <a:pt x="17239" y="10269"/>
                </a:cubicBezTo>
                <a:cubicBezTo>
                  <a:pt x="17251" y="10388"/>
                  <a:pt x="17210" y="10448"/>
                  <a:pt x="17090" y="10468"/>
                </a:cubicBezTo>
                <a:cubicBezTo>
                  <a:pt x="16994" y="10484"/>
                  <a:pt x="16925" y="10459"/>
                  <a:pt x="16842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4880" y="3490920"/>
            <a:ext cx="249120" cy="223920"/>
          </a:xfrm>
          <a:custGeom>
            <a:avLst/>
            <a:gdLst/>
            <a:ahLst/>
            <a:rect l="l" t="t" r="r" b="b"/>
            <a:pathLst>
              <a:path w="695" h="621">
                <a:moveTo>
                  <a:pt x="18579" y="9971"/>
                </a:moveTo>
                <a:cubicBezTo>
                  <a:pt x="18603" y="9940"/>
                  <a:pt x="18624" y="9911"/>
                  <a:pt x="18628" y="9872"/>
                </a:cubicBezTo>
                <a:cubicBezTo>
                  <a:pt x="18628" y="9864"/>
                  <a:pt x="18628" y="9855"/>
                  <a:pt x="18628" y="9847"/>
                </a:cubicBezTo>
                <a:cubicBezTo>
                  <a:pt x="18577" y="9860"/>
                  <a:pt x="18537" y="9926"/>
                  <a:pt x="18504" y="9971"/>
                </a:cubicBezTo>
                <a:cubicBezTo>
                  <a:pt x="18439" y="10060"/>
                  <a:pt x="18367" y="10154"/>
                  <a:pt x="18306" y="10244"/>
                </a:cubicBezTo>
                <a:cubicBezTo>
                  <a:pt x="18298" y="10261"/>
                  <a:pt x="18289" y="10277"/>
                  <a:pt x="18281" y="10294"/>
                </a:cubicBezTo>
              </a:path>
              <a:path w="695" h="621">
                <a:moveTo>
                  <a:pt x="18554" y="9773"/>
                </a:moveTo>
                <a:cubicBezTo>
                  <a:pt x="18510" y="9762"/>
                  <a:pt x="18479" y="9735"/>
                  <a:pt x="18430" y="9723"/>
                </a:cubicBezTo>
                <a:cubicBezTo>
                  <a:pt x="18379" y="9710"/>
                  <a:pt x="18302" y="9708"/>
                  <a:pt x="18256" y="9699"/>
                </a:cubicBezTo>
                <a:cubicBezTo>
                  <a:pt x="18240" y="9699"/>
                  <a:pt x="18223" y="9699"/>
                  <a:pt x="18207" y="9699"/>
                </a:cubicBezTo>
              </a:path>
              <a:path w="695" h="621">
                <a:moveTo>
                  <a:pt x="18901" y="9971"/>
                </a:moveTo>
                <a:cubicBezTo>
                  <a:pt x="18879" y="10028"/>
                  <a:pt x="18827" y="10080"/>
                  <a:pt x="18802" y="10145"/>
                </a:cubicBezTo>
                <a:cubicBezTo>
                  <a:pt x="18780" y="10202"/>
                  <a:pt x="18741" y="10265"/>
                  <a:pt x="18728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54920" y="3429000"/>
            <a:ext cx="428400" cy="357120"/>
          </a:xfrm>
          <a:custGeom>
            <a:avLst/>
            <a:gdLst/>
            <a:ahLst/>
            <a:rect l="l" t="t" r="r" b="b"/>
            <a:pathLst>
              <a:path w="1191" h="993">
                <a:moveTo>
                  <a:pt x="19645" y="9550"/>
                </a:moveTo>
                <a:cubicBezTo>
                  <a:pt x="19668" y="9527"/>
                  <a:pt x="19672" y="9519"/>
                  <a:pt x="19695" y="9525"/>
                </a:cubicBezTo>
                <a:cubicBezTo>
                  <a:pt x="19695" y="9624"/>
                  <a:pt x="19695" y="9724"/>
                  <a:pt x="19695" y="9823"/>
                </a:cubicBezTo>
              </a:path>
              <a:path w="1191" h="993">
                <a:moveTo>
                  <a:pt x="20067" y="9971"/>
                </a:moveTo>
                <a:cubicBezTo>
                  <a:pt x="20055" y="10052"/>
                  <a:pt x="20049" y="10046"/>
                  <a:pt x="19968" y="10046"/>
                </a:cubicBezTo>
                <a:cubicBezTo>
                  <a:pt x="19901" y="10046"/>
                  <a:pt x="19786" y="10055"/>
                  <a:pt x="19720" y="10071"/>
                </a:cubicBezTo>
                <a:cubicBezTo>
                  <a:pt x="19679" y="10081"/>
                  <a:pt x="19628" y="10097"/>
                  <a:pt x="19596" y="10120"/>
                </a:cubicBezTo>
              </a:path>
              <a:path w="1191" h="993">
                <a:moveTo>
                  <a:pt x="19819" y="10195"/>
                </a:moveTo>
                <a:cubicBezTo>
                  <a:pt x="19819" y="10203"/>
                  <a:pt x="19819" y="10212"/>
                  <a:pt x="19819" y="10220"/>
                </a:cubicBezTo>
                <a:cubicBezTo>
                  <a:pt x="19868" y="10208"/>
                  <a:pt x="19914" y="10183"/>
                  <a:pt x="19968" y="10170"/>
                </a:cubicBezTo>
                <a:cubicBezTo>
                  <a:pt x="20038" y="10154"/>
                  <a:pt x="20017" y="10257"/>
                  <a:pt x="20017" y="10294"/>
                </a:cubicBezTo>
                <a:cubicBezTo>
                  <a:pt x="20017" y="10361"/>
                  <a:pt x="19985" y="10413"/>
                  <a:pt x="19968" y="10468"/>
                </a:cubicBezTo>
                <a:cubicBezTo>
                  <a:pt x="19968" y="10492"/>
                  <a:pt x="19968" y="10501"/>
                  <a:pt x="19968" y="10517"/>
                </a:cubicBezTo>
                <a:cubicBezTo>
                  <a:pt x="20039" y="10517"/>
                  <a:pt x="20077" y="10500"/>
                  <a:pt x="20141" y="10468"/>
                </a:cubicBezTo>
                <a:cubicBezTo>
                  <a:pt x="20158" y="10460"/>
                  <a:pt x="20174" y="10451"/>
                  <a:pt x="20191" y="10443"/>
                </a:cubicBezTo>
              </a:path>
              <a:path w="1191" h="993">
                <a:moveTo>
                  <a:pt x="20439" y="10021"/>
                </a:moveTo>
                <a:cubicBezTo>
                  <a:pt x="20406" y="9972"/>
                  <a:pt x="20401" y="9982"/>
                  <a:pt x="20389" y="9947"/>
                </a:cubicBezTo>
                <a:cubicBezTo>
                  <a:pt x="20428" y="9937"/>
                  <a:pt x="20464" y="9906"/>
                  <a:pt x="20513" y="9922"/>
                </a:cubicBezTo>
                <a:cubicBezTo>
                  <a:pt x="20597" y="9950"/>
                  <a:pt x="20610" y="10042"/>
                  <a:pt x="20613" y="10120"/>
                </a:cubicBezTo>
                <a:cubicBezTo>
                  <a:pt x="20616" y="10195"/>
                  <a:pt x="20595" y="10272"/>
                  <a:pt x="20513" y="10294"/>
                </a:cubicBezTo>
                <a:cubicBezTo>
                  <a:pt x="20497" y="10294"/>
                  <a:pt x="20480" y="10294"/>
                  <a:pt x="20464" y="10294"/>
                </a:cubicBezTo>
              </a:path>
              <a:path w="1191" h="993">
                <a:moveTo>
                  <a:pt x="20737" y="9996"/>
                </a:moveTo>
                <a:cubicBezTo>
                  <a:pt x="20720" y="10058"/>
                  <a:pt x="20680" y="10163"/>
                  <a:pt x="20737" y="10220"/>
                </a:cubicBezTo>
                <a:cubicBezTo>
                  <a:pt x="20753" y="10228"/>
                  <a:pt x="20770" y="10236"/>
                  <a:pt x="20786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96160" y="3527280"/>
            <a:ext cx="392040" cy="303480"/>
          </a:xfrm>
          <a:custGeom>
            <a:avLst/>
            <a:gdLst/>
            <a:ahLst/>
            <a:rect l="l" t="t" r="r" b="b"/>
            <a:pathLst>
              <a:path w="1093" h="844">
                <a:moveTo>
                  <a:pt x="21952" y="10170"/>
                </a:moveTo>
                <a:cubicBezTo>
                  <a:pt x="21960" y="10170"/>
                  <a:pt x="21969" y="10170"/>
                  <a:pt x="21977" y="10170"/>
                </a:cubicBezTo>
                <a:cubicBezTo>
                  <a:pt x="21903" y="10155"/>
                  <a:pt x="21900" y="10135"/>
                  <a:pt x="21828" y="10170"/>
                </a:cubicBezTo>
                <a:cubicBezTo>
                  <a:pt x="21771" y="10197"/>
                  <a:pt x="21742" y="10195"/>
                  <a:pt x="21679" y="10195"/>
                </a:cubicBezTo>
                <a:cubicBezTo>
                  <a:pt x="21671" y="10195"/>
                  <a:pt x="21662" y="10195"/>
                  <a:pt x="21654" y="10195"/>
                </a:cubicBezTo>
              </a:path>
              <a:path w="1093" h="844">
                <a:moveTo>
                  <a:pt x="21779" y="9971"/>
                </a:moveTo>
                <a:cubicBezTo>
                  <a:pt x="21779" y="10079"/>
                  <a:pt x="21779" y="10186"/>
                  <a:pt x="21779" y="10294"/>
                </a:cubicBezTo>
              </a:path>
              <a:path w="1093" h="844">
                <a:moveTo>
                  <a:pt x="22399" y="9897"/>
                </a:moveTo>
                <a:cubicBezTo>
                  <a:pt x="22414" y="9834"/>
                  <a:pt x="22482" y="9810"/>
                  <a:pt x="22547" y="9798"/>
                </a:cubicBezTo>
                <a:cubicBezTo>
                  <a:pt x="22611" y="9786"/>
                  <a:pt x="22719" y="9831"/>
                  <a:pt x="22746" y="9897"/>
                </a:cubicBezTo>
                <a:cubicBezTo>
                  <a:pt x="22778" y="9975"/>
                  <a:pt x="22710" y="10081"/>
                  <a:pt x="22647" y="10120"/>
                </a:cubicBezTo>
                <a:cubicBezTo>
                  <a:pt x="22592" y="10153"/>
                  <a:pt x="22435" y="10158"/>
                  <a:pt x="22399" y="10220"/>
                </a:cubicBezTo>
                <a:cubicBezTo>
                  <a:pt x="22399" y="10236"/>
                  <a:pt x="22399" y="10253"/>
                  <a:pt x="22399" y="10269"/>
                </a:cubicBezTo>
                <a:cubicBezTo>
                  <a:pt x="22464" y="10322"/>
                  <a:pt x="22547" y="10352"/>
                  <a:pt x="22622" y="10393"/>
                </a:cubicBezTo>
                <a:cubicBezTo>
                  <a:pt x="22695" y="10433"/>
                  <a:pt x="22747" y="10475"/>
                  <a:pt x="22721" y="10567"/>
                </a:cubicBezTo>
                <a:cubicBezTo>
                  <a:pt x="22697" y="10653"/>
                  <a:pt x="22596" y="10653"/>
                  <a:pt x="22523" y="10641"/>
                </a:cubicBezTo>
                <a:cubicBezTo>
                  <a:pt x="22431" y="10618"/>
                  <a:pt x="22406" y="10612"/>
                  <a:pt x="22349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880" t="62726" r="11867" b="7363"/>
          <a:stretch/>
        </p:blipFill>
        <p:spPr>
          <a:xfrm>
            <a:off x="0" y="0"/>
            <a:ext cx="9144000" cy="4314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330960" y="669960"/>
            <a:ext cx="206280" cy="411120"/>
          </a:xfrm>
          <a:custGeom>
            <a:avLst/>
            <a:gdLst/>
            <a:ahLst/>
            <a:rect l="l" t="t" r="r" b="b"/>
            <a:pathLst>
              <a:path w="571" h="1142">
                <a:moveTo>
                  <a:pt x="17735" y="1960"/>
                </a:moveTo>
                <a:cubicBezTo>
                  <a:pt x="17735" y="1900"/>
                  <a:pt x="17728" y="1903"/>
                  <a:pt x="17760" y="1860"/>
                </a:cubicBezTo>
                <a:cubicBezTo>
                  <a:pt x="17760" y="1959"/>
                  <a:pt x="17760" y="2059"/>
                  <a:pt x="17760" y="2158"/>
                </a:cubicBezTo>
              </a:path>
              <a:path w="571" h="1142">
                <a:moveTo>
                  <a:pt x="18083" y="2307"/>
                </a:moveTo>
                <a:cubicBezTo>
                  <a:pt x="18124" y="2307"/>
                  <a:pt x="18047" y="2295"/>
                  <a:pt x="18008" y="2307"/>
                </a:cubicBezTo>
                <a:cubicBezTo>
                  <a:pt x="17933" y="2329"/>
                  <a:pt x="17830" y="2324"/>
                  <a:pt x="17760" y="2356"/>
                </a:cubicBezTo>
                <a:cubicBezTo>
                  <a:pt x="17708" y="2380"/>
                  <a:pt x="17672" y="2401"/>
                  <a:pt x="17611" y="2406"/>
                </a:cubicBezTo>
                <a:cubicBezTo>
                  <a:pt x="17587" y="2406"/>
                  <a:pt x="17579" y="2406"/>
                  <a:pt x="17587" y="2431"/>
                </a:cubicBezTo>
              </a:path>
              <a:path w="571" h="1142">
                <a:moveTo>
                  <a:pt x="17636" y="2828"/>
                </a:moveTo>
                <a:cubicBezTo>
                  <a:pt x="17614" y="2850"/>
                  <a:pt x="17605" y="2855"/>
                  <a:pt x="17611" y="2877"/>
                </a:cubicBezTo>
                <a:cubicBezTo>
                  <a:pt x="17611" y="2840"/>
                  <a:pt x="17621" y="2782"/>
                  <a:pt x="17636" y="2753"/>
                </a:cubicBezTo>
                <a:cubicBezTo>
                  <a:pt x="17648" y="2728"/>
                  <a:pt x="17762" y="2710"/>
                  <a:pt x="17785" y="2729"/>
                </a:cubicBezTo>
                <a:cubicBezTo>
                  <a:pt x="17838" y="2773"/>
                  <a:pt x="17855" y="2865"/>
                  <a:pt x="17859" y="2927"/>
                </a:cubicBezTo>
                <a:cubicBezTo>
                  <a:pt x="17863" y="2990"/>
                  <a:pt x="17837" y="3001"/>
                  <a:pt x="17785" y="3001"/>
                </a:cubicBezTo>
                <a:cubicBezTo>
                  <a:pt x="17760" y="3001"/>
                  <a:pt x="17736" y="3001"/>
                  <a:pt x="17711" y="3001"/>
                </a:cubicBezTo>
              </a:path>
              <a:path w="571" h="1142">
                <a:moveTo>
                  <a:pt x="17909" y="2753"/>
                </a:moveTo>
                <a:cubicBezTo>
                  <a:pt x="17930" y="2685"/>
                  <a:pt x="17957" y="2622"/>
                  <a:pt x="17909" y="2704"/>
                </a:cubicBezTo>
                <a:cubicBezTo>
                  <a:pt x="17861" y="2787"/>
                  <a:pt x="17878" y="2836"/>
                  <a:pt x="17934" y="2902"/>
                </a:cubicBezTo>
                <a:cubicBezTo>
                  <a:pt x="17980" y="2956"/>
                  <a:pt x="18060" y="2914"/>
                  <a:pt x="18107" y="2877"/>
                </a:cubicBezTo>
                <a:cubicBezTo>
                  <a:pt x="18124" y="2861"/>
                  <a:pt x="18140" y="2844"/>
                  <a:pt x="18157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92920" y="758880"/>
            <a:ext cx="777960" cy="285840"/>
          </a:xfrm>
          <a:custGeom>
            <a:avLst/>
            <a:gdLst/>
            <a:ahLst/>
            <a:rect l="l" t="t" r="r" b="b"/>
            <a:pathLst>
              <a:path w="2159" h="795">
                <a:moveTo>
                  <a:pt x="19174" y="2456"/>
                </a:moveTo>
                <a:cubicBezTo>
                  <a:pt x="19151" y="2478"/>
                  <a:pt x="19143" y="2483"/>
                  <a:pt x="19149" y="2505"/>
                </a:cubicBezTo>
                <a:cubicBezTo>
                  <a:pt x="19200" y="2505"/>
                  <a:pt x="19225" y="2487"/>
                  <a:pt x="19273" y="2480"/>
                </a:cubicBezTo>
                <a:cubicBezTo>
                  <a:pt x="19372" y="2466"/>
                  <a:pt x="19470" y="2440"/>
                  <a:pt x="19571" y="2431"/>
                </a:cubicBezTo>
                <a:cubicBezTo>
                  <a:pt x="19689" y="2421"/>
                  <a:pt x="19798" y="2406"/>
                  <a:pt x="19918" y="2406"/>
                </a:cubicBezTo>
                <a:cubicBezTo>
                  <a:pt x="19987" y="2406"/>
                  <a:pt x="20028" y="2372"/>
                  <a:pt x="20092" y="2356"/>
                </a:cubicBezTo>
                <a:cubicBezTo>
                  <a:pt x="20131" y="2346"/>
                  <a:pt x="20112" y="2332"/>
                  <a:pt x="20166" y="2332"/>
                </a:cubicBezTo>
                <a:cubicBezTo>
                  <a:pt x="20124" y="2373"/>
                  <a:pt x="20084" y="2415"/>
                  <a:pt x="20042" y="2456"/>
                </a:cubicBezTo>
                <a:cubicBezTo>
                  <a:pt x="19999" y="2499"/>
                  <a:pt x="19943" y="2520"/>
                  <a:pt x="19918" y="2580"/>
                </a:cubicBezTo>
                <a:cubicBezTo>
                  <a:pt x="19918" y="2588"/>
                  <a:pt x="19918" y="2596"/>
                  <a:pt x="19918" y="2604"/>
                </a:cubicBezTo>
                <a:cubicBezTo>
                  <a:pt x="19966" y="2557"/>
                  <a:pt x="20017" y="2525"/>
                  <a:pt x="20067" y="2480"/>
                </a:cubicBezTo>
                <a:cubicBezTo>
                  <a:pt x="20125" y="2427"/>
                  <a:pt x="20159" y="2439"/>
                  <a:pt x="20166" y="2356"/>
                </a:cubicBezTo>
                <a:cubicBezTo>
                  <a:pt x="20171" y="2300"/>
                  <a:pt x="20144" y="2277"/>
                  <a:pt x="20117" y="2232"/>
                </a:cubicBezTo>
                <a:cubicBezTo>
                  <a:pt x="20070" y="2154"/>
                  <a:pt x="20053" y="2182"/>
                  <a:pt x="19993" y="2133"/>
                </a:cubicBezTo>
                <a:cubicBezTo>
                  <a:pt x="19967" y="2112"/>
                  <a:pt x="19898" y="2108"/>
                  <a:pt x="19943" y="2108"/>
                </a:cubicBezTo>
                <a:cubicBezTo>
                  <a:pt x="19951" y="2108"/>
                  <a:pt x="19960" y="2108"/>
                  <a:pt x="19968" y="2108"/>
                </a:cubicBezTo>
              </a:path>
              <a:path w="2159" h="795">
                <a:moveTo>
                  <a:pt x="20762" y="2232"/>
                </a:moveTo>
                <a:cubicBezTo>
                  <a:pt x="20791" y="2203"/>
                  <a:pt x="20800" y="2192"/>
                  <a:pt x="20836" y="2183"/>
                </a:cubicBezTo>
                <a:cubicBezTo>
                  <a:pt x="20836" y="2274"/>
                  <a:pt x="20803" y="2319"/>
                  <a:pt x="20786" y="2406"/>
                </a:cubicBezTo>
                <a:cubicBezTo>
                  <a:pt x="20778" y="2448"/>
                  <a:pt x="20741" y="2538"/>
                  <a:pt x="20762" y="2580"/>
                </a:cubicBezTo>
                <a:cubicBezTo>
                  <a:pt x="20783" y="2623"/>
                  <a:pt x="20870" y="2604"/>
                  <a:pt x="20910" y="2604"/>
                </a:cubicBezTo>
                <a:cubicBezTo>
                  <a:pt x="21016" y="2604"/>
                  <a:pt x="21108" y="2602"/>
                  <a:pt x="21208" y="2580"/>
                </a:cubicBezTo>
                <a:cubicBezTo>
                  <a:pt x="21249" y="2571"/>
                  <a:pt x="21266" y="2538"/>
                  <a:pt x="21282" y="2530"/>
                </a:cubicBezTo>
                <a:cubicBezTo>
                  <a:pt x="21307" y="2530"/>
                  <a:pt x="21315" y="2530"/>
                  <a:pt x="21282" y="2530"/>
                </a:cubicBezTo>
              </a:path>
              <a:path w="2159" h="795">
                <a:moveTo>
                  <a:pt x="21109" y="2431"/>
                </a:moveTo>
                <a:cubicBezTo>
                  <a:pt x="21041" y="2442"/>
                  <a:pt x="21038" y="2474"/>
                  <a:pt x="21034" y="2555"/>
                </a:cubicBezTo>
                <a:cubicBezTo>
                  <a:pt x="21030" y="2653"/>
                  <a:pt x="21044" y="2737"/>
                  <a:pt x="21059" y="2828"/>
                </a:cubicBezTo>
                <a:cubicBezTo>
                  <a:pt x="21059" y="2869"/>
                  <a:pt x="21059" y="2877"/>
                  <a:pt x="21059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65960" y="1231920"/>
            <a:ext cx="534960" cy="1117440"/>
          </a:xfrm>
          <a:custGeom>
            <a:avLst/>
            <a:gdLst/>
            <a:ahLst/>
            <a:rect l="l" t="t" r="r" b="b"/>
            <a:pathLst>
              <a:path w="1489" h="3102">
                <a:moveTo>
                  <a:pt x="18256" y="3448"/>
                </a:moveTo>
                <a:cubicBezTo>
                  <a:pt x="18256" y="3407"/>
                  <a:pt x="18256" y="3481"/>
                  <a:pt x="18256" y="3522"/>
                </a:cubicBezTo>
                <a:cubicBezTo>
                  <a:pt x="18256" y="3691"/>
                  <a:pt x="18258" y="3854"/>
                  <a:pt x="18281" y="4018"/>
                </a:cubicBezTo>
                <a:cubicBezTo>
                  <a:pt x="18281" y="4063"/>
                  <a:pt x="18278" y="4076"/>
                  <a:pt x="18306" y="4093"/>
                </a:cubicBezTo>
              </a:path>
              <a:path w="1489" h="3102">
                <a:moveTo>
                  <a:pt x="18182" y="4390"/>
                </a:moveTo>
                <a:cubicBezTo>
                  <a:pt x="18182" y="4382"/>
                  <a:pt x="18182" y="4374"/>
                  <a:pt x="18182" y="4366"/>
                </a:cubicBezTo>
                <a:cubicBezTo>
                  <a:pt x="18182" y="4440"/>
                  <a:pt x="18188" y="4501"/>
                  <a:pt x="18207" y="4564"/>
                </a:cubicBezTo>
                <a:cubicBezTo>
                  <a:pt x="18213" y="4584"/>
                  <a:pt x="18207" y="4617"/>
                  <a:pt x="18207" y="4638"/>
                </a:cubicBezTo>
              </a:path>
              <a:path w="1489" h="3102">
                <a:moveTo>
                  <a:pt x="18479" y="4688"/>
                </a:moveTo>
                <a:cubicBezTo>
                  <a:pt x="18528" y="4688"/>
                  <a:pt x="18457" y="4711"/>
                  <a:pt x="18430" y="4713"/>
                </a:cubicBezTo>
                <a:cubicBezTo>
                  <a:pt x="18365" y="4719"/>
                  <a:pt x="18293" y="4721"/>
                  <a:pt x="18231" y="4738"/>
                </a:cubicBezTo>
                <a:cubicBezTo>
                  <a:pt x="18170" y="4755"/>
                  <a:pt x="18109" y="4760"/>
                  <a:pt x="18058" y="4787"/>
                </a:cubicBezTo>
                <a:cubicBezTo>
                  <a:pt x="18020" y="4807"/>
                  <a:pt x="17921" y="4817"/>
                  <a:pt x="17959" y="4837"/>
                </a:cubicBezTo>
                <a:cubicBezTo>
                  <a:pt x="17967" y="4837"/>
                  <a:pt x="17975" y="4837"/>
                  <a:pt x="17983" y="4837"/>
                </a:cubicBezTo>
              </a:path>
              <a:path w="1489" h="3102">
                <a:moveTo>
                  <a:pt x="18132" y="5135"/>
                </a:moveTo>
                <a:cubicBezTo>
                  <a:pt x="18093" y="5122"/>
                  <a:pt x="18109" y="5094"/>
                  <a:pt x="18132" y="5060"/>
                </a:cubicBezTo>
                <a:cubicBezTo>
                  <a:pt x="18159" y="5019"/>
                  <a:pt x="18213" y="5035"/>
                  <a:pt x="18256" y="5035"/>
                </a:cubicBezTo>
                <a:cubicBezTo>
                  <a:pt x="18306" y="5035"/>
                  <a:pt x="18343" y="5085"/>
                  <a:pt x="18331" y="5135"/>
                </a:cubicBezTo>
                <a:cubicBezTo>
                  <a:pt x="18317" y="5195"/>
                  <a:pt x="18271" y="5248"/>
                  <a:pt x="18256" y="5308"/>
                </a:cubicBezTo>
                <a:cubicBezTo>
                  <a:pt x="18256" y="5333"/>
                  <a:pt x="18256" y="5341"/>
                  <a:pt x="18256" y="5358"/>
                </a:cubicBezTo>
                <a:cubicBezTo>
                  <a:pt x="18331" y="5358"/>
                  <a:pt x="18362" y="5335"/>
                  <a:pt x="18430" y="5308"/>
                </a:cubicBezTo>
                <a:cubicBezTo>
                  <a:pt x="18522" y="5272"/>
                  <a:pt x="18630" y="5267"/>
                  <a:pt x="18728" y="5259"/>
                </a:cubicBezTo>
              </a:path>
              <a:path w="1489" h="3102">
                <a:moveTo>
                  <a:pt x="18752" y="5507"/>
                </a:moveTo>
                <a:cubicBezTo>
                  <a:pt x="18752" y="5439"/>
                  <a:pt x="18752" y="5592"/>
                  <a:pt x="18752" y="5606"/>
                </a:cubicBezTo>
                <a:cubicBezTo>
                  <a:pt x="18752" y="5680"/>
                  <a:pt x="18741" y="5744"/>
                  <a:pt x="18777" y="5804"/>
                </a:cubicBezTo>
              </a:path>
              <a:path w="1489" h="3102">
                <a:moveTo>
                  <a:pt x="19447" y="5854"/>
                </a:moveTo>
                <a:cubicBezTo>
                  <a:pt x="19410" y="5882"/>
                  <a:pt x="19345" y="5896"/>
                  <a:pt x="19298" y="5904"/>
                </a:cubicBezTo>
                <a:cubicBezTo>
                  <a:pt x="19208" y="5919"/>
                  <a:pt x="19114" y="5911"/>
                  <a:pt x="19025" y="5928"/>
                </a:cubicBezTo>
                <a:cubicBezTo>
                  <a:pt x="18892" y="5953"/>
                  <a:pt x="18760" y="5932"/>
                  <a:pt x="18628" y="5953"/>
                </a:cubicBezTo>
                <a:cubicBezTo>
                  <a:pt x="18550" y="5966"/>
                  <a:pt x="18453" y="5978"/>
                  <a:pt x="18380" y="6003"/>
                </a:cubicBezTo>
                <a:cubicBezTo>
                  <a:pt x="18337" y="6025"/>
                  <a:pt x="18326" y="6029"/>
                  <a:pt x="18306" y="6052"/>
                </a:cubicBezTo>
              </a:path>
              <a:path w="1489" h="3102">
                <a:moveTo>
                  <a:pt x="18455" y="6176"/>
                </a:moveTo>
                <a:cubicBezTo>
                  <a:pt x="18483" y="6225"/>
                  <a:pt x="18495" y="6314"/>
                  <a:pt x="18504" y="6375"/>
                </a:cubicBezTo>
                <a:cubicBezTo>
                  <a:pt x="18513" y="6435"/>
                  <a:pt x="18519" y="6478"/>
                  <a:pt x="18554" y="6524"/>
                </a:cubicBezTo>
              </a:path>
              <a:path w="1489" h="3102">
                <a:moveTo>
                  <a:pt x="18976" y="6052"/>
                </a:moveTo>
                <a:cubicBezTo>
                  <a:pt x="18998" y="6030"/>
                  <a:pt x="19003" y="6022"/>
                  <a:pt x="19025" y="6028"/>
                </a:cubicBezTo>
                <a:cubicBezTo>
                  <a:pt x="18994" y="6068"/>
                  <a:pt x="18971" y="6125"/>
                  <a:pt x="18951" y="6176"/>
                </a:cubicBezTo>
                <a:cubicBezTo>
                  <a:pt x="18924" y="6244"/>
                  <a:pt x="18907" y="6352"/>
                  <a:pt x="18926" y="6424"/>
                </a:cubicBezTo>
                <a:cubicBezTo>
                  <a:pt x="18942" y="6483"/>
                  <a:pt x="19038" y="6543"/>
                  <a:pt x="19100" y="6524"/>
                </a:cubicBezTo>
                <a:cubicBezTo>
                  <a:pt x="19165" y="6504"/>
                  <a:pt x="19174" y="6461"/>
                  <a:pt x="19174" y="6400"/>
                </a:cubicBezTo>
                <a:cubicBezTo>
                  <a:pt x="19174" y="6348"/>
                  <a:pt x="19121" y="6336"/>
                  <a:pt x="19075" y="6350"/>
                </a:cubicBezTo>
                <a:cubicBezTo>
                  <a:pt x="19027" y="6374"/>
                  <a:pt x="19013" y="6382"/>
                  <a:pt x="18976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60720" y="2803680"/>
            <a:ext cx="438120" cy="206280"/>
          </a:xfrm>
          <a:custGeom>
            <a:avLst/>
            <a:gdLst/>
            <a:ahLst/>
            <a:rect l="l" t="t" r="r" b="b"/>
            <a:pathLst>
              <a:path w="1216" h="571">
                <a:moveTo>
                  <a:pt x="6052" y="8037"/>
                </a:moveTo>
                <a:cubicBezTo>
                  <a:pt x="6052" y="8120"/>
                  <a:pt x="6076" y="8061"/>
                  <a:pt x="6102" y="8012"/>
                </a:cubicBezTo>
                <a:cubicBezTo>
                  <a:pt x="6127" y="7965"/>
                  <a:pt x="6148" y="7866"/>
                  <a:pt x="6127" y="7813"/>
                </a:cubicBezTo>
                <a:cubicBezTo>
                  <a:pt x="6119" y="7805"/>
                  <a:pt x="6110" y="7797"/>
                  <a:pt x="6102" y="7789"/>
                </a:cubicBezTo>
                <a:cubicBezTo>
                  <a:pt x="6058" y="7843"/>
                  <a:pt x="6014" y="7916"/>
                  <a:pt x="6003" y="7987"/>
                </a:cubicBezTo>
                <a:cubicBezTo>
                  <a:pt x="5988" y="8082"/>
                  <a:pt x="6053" y="8166"/>
                  <a:pt x="6127" y="8210"/>
                </a:cubicBezTo>
                <a:cubicBezTo>
                  <a:pt x="6196" y="8251"/>
                  <a:pt x="6244" y="8206"/>
                  <a:pt x="6300" y="8161"/>
                </a:cubicBezTo>
              </a:path>
              <a:path w="1216" h="571">
                <a:moveTo>
                  <a:pt x="6474" y="8086"/>
                </a:moveTo>
                <a:cubicBezTo>
                  <a:pt x="6526" y="8086"/>
                  <a:pt x="6524" y="8117"/>
                  <a:pt x="6524" y="8086"/>
                </a:cubicBezTo>
              </a:path>
              <a:path w="1216" h="571">
                <a:moveTo>
                  <a:pt x="6672" y="7987"/>
                </a:moveTo>
                <a:cubicBezTo>
                  <a:pt x="6672" y="7954"/>
                  <a:pt x="6672" y="7921"/>
                  <a:pt x="6672" y="7888"/>
                </a:cubicBezTo>
                <a:cubicBezTo>
                  <a:pt x="6614" y="7903"/>
                  <a:pt x="6603" y="7927"/>
                  <a:pt x="6598" y="7987"/>
                </a:cubicBezTo>
                <a:cubicBezTo>
                  <a:pt x="6598" y="8020"/>
                  <a:pt x="6598" y="8037"/>
                  <a:pt x="6598" y="8062"/>
                </a:cubicBezTo>
                <a:cubicBezTo>
                  <a:pt x="6671" y="8062"/>
                  <a:pt x="6706" y="8046"/>
                  <a:pt x="6772" y="8012"/>
                </a:cubicBezTo>
                <a:cubicBezTo>
                  <a:pt x="6852" y="7972"/>
                  <a:pt x="6907" y="8037"/>
                  <a:pt x="6945" y="8111"/>
                </a:cubicBezTo>
                <a:cubicBezTo>
                  <a:pt x="6970" y="8160"/>
                  <a:pt x="6997" y="8270"/>
                  <a:pt x="6945" y="8310"/>
                </a:cubicBezTo>
                <a:cubicBezTo>
                  <a:pt x="6876" y="8363"/>
                  <a:pt x="6804" y="8359"/>
                  <a:pt x="6722" y="8359"/>
                </a:cubicBezTo>
                <a:cubicBezTo>
                  <a:pt x="6697" y="8359"/>
                  <a:pt x="6689" y="8359"/>
                  <a:pt x="6672" y="8359"/>
                </a:cubicBezTo>
              </a:path>
              <a:path w="1216" h="571">
                <a:moveTo>
                  <a:pt x="7094" y="8111"/>
                </a:moveTo>
                <a:cubicBezTo>
                  <a:pt x="7171" y="8111"/>
                  <a:pt x="7169" y="8099"/>
                  <a:pt x="7218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73240" y="2768760"/>
            <a:ext cx="366840" cy="24120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8310" y="8012"/>
                </a:moveTo>
                <a:cubicBezTo>
                  <a:pt x="8310" y="7964"/>
                  <a:pt x="8314" y="7951"/>
                  <a:pt x="8285" y="7913"/>
                </a:cubicBezTo>
                <a:cubicBezTo>
                  <a:pt x="8259" y="7978"/>
                  <a:pt x="8291" y="8023"/>
                  <a:pt x="8359" y="8062"/>
                </a:cubicBezTo>
                <a:cubicBezTo>
                  <a:pt x="8467" y="8125"/>
                  <a:pt x="8509" y="8060"/>
                  <a:pt x="8582" y="7987"/>
                </a:cubicBezTo>
                <a:cubicBezTo>
                  <a:pt x="8633" y="7936"/>
                  <a:pt x="8668" y="7987"/>
                  <a:pt x="8706" y="8037"/>
                </a:cubicBezTo>
                <a:cubicBezTo>
                  <a:pt x="8737" y="8077"/>
                  <a:pt x="8836" y="8226"/>
                  <a:pt x="8806" y="8285"/>
                </a:cubicBezTo>
                <a:cubicBezTo>
                  <a:pt x="8762" y="8372"/>
                  <a:pt x="8687" y="8359"/>
                  <a:pt x="8607" y="8359"/>
                </a:cubicBezTo>
                <a:cubicBezTo>
                  <a:pt x="8582" y="8359"/>
                  <a:pt x="8558" y="8359"/>
                  <a:pt x="8533" y="8359"/>
                </a:cubicBezTo>
              </a:path>
              <a:path w="1018" h="671">
                <a:moveTo>
                  <a:pt x="9227" y="7714"/>
                </a:moveTo>
                <a:cubicBezTo>
                  <a:pt x="9227" y="7706"/>
                  <a:pt x="9227" y="7697"/>
                  <a:pt x="9227" y="7689"/>
                </a:cubicBezTo>
                <a:cubicBezTo>
                  <a:pt x="9185" y="7700"/>
                  <a:pt x="9146" y="7718"/>
                  <a:pt x="9103" y="7739"/>
                </a:cubicBezTo>
                <a:cubicBezTo>
                  <a:pt x="9062" y="7759"/>
                  <a:pt x="9043" y="7779"/>
                  <a:pt x="9004" y="7789"/>
                </a:cubicBezTo>
              </a:path>
              <a:path w="1018" h="671">
                <a:moveTo>
                  <a:pt x="9227" y="7838"/>
                </a:moveTo>
                <a:cubicBezTo>
                  <a:pt x="9244" y="7838"/>
                  <a:pt x="9260" y="7838"/>
                  <a:pt x="9277" y="7838"/>
                </a:cubicBezTo>
                <a:cubicBezTo>
                  <a:pt x="9277" y="7883"/>
                  <a:pt x="9279" y="7909"/>
                  <a:pt x="9227" y="7913"/>
                </a:cubicBezTo>
                <a:cubicBezTo>
                  <a:pt x="9178" y="7917"/>
                  <a:pt x="9128" y="7913"/>
                  <a:pt x="9079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0920" y="2625840"/>
            <a:ext cx="411120" cy="204840"/>
          </a:xfrm>
          <a:custGeom>
            <a:avLst/>
            <a:gdLst/>
            <a:ahLst/>
            <a:rect l="l" t="t" r="r" b="b"/>
            <a:pathLst>
              <a:path w="1142" h="571">
                <a:moveTo>
                  <a:pt x="9773" y="7714"/>
                </a:moveTo>
                <a:cubicBezTo>
                  <a:pt x="9728" y="7714"/>
                  <a:pt x="9711" y="7701"/>
                  <a:pt x="9699" y="7739"/>
                </a:cubicBezTo>
                <a:cubicBezTo>
                  <a:pt x="9735" y="7702"/>
                  <a:pt x="9769" y="7674"/>
                  <a:pt x="9823" y="7665"/>
                </a:cubicBezTo>
                <a:cubicBezTo>
                  <a:pt x="9888" y="7654"/>
                  <a:pt x="9873" y="7677"/>
                  <a:pt x="9922" y="7640"/>
                </a:cubicBezTo>
              </a:path>
              <a:path w="1142" h="571">
                <a:moveTo>
                  <a:pt x="10220" y="7541"/>
                </a:moveTo>
                <a:cubicBezTo>
                  <a:pt x="10207" y="7502"/>
                  <a:pt x="10159" y="7520"/>
                  <a:pt x="10145" y="7491"/>
                </a:cubicBezTo>
                <a:cubicBezTo>
                  <a:pt x="10129" y="7459"/>
                  <a:pt x="10175" y="7384"/>
                  <a:pt x="10195" y="7367"/>
                </a:cubicBezTo>
                <a:cubicBezTo>
                  <a:pt x="10232" y="7335"/>
                  <a:pt x="10300" y="7314"/>
                  <a:pt x="10344" y="7293"/>
                </a:cubicBezTo>
                <a:cubicBezTo>
                  <a:pt x="10399" y="7363"/>
                  <a:pt x="10431" y="7421"/>
                  <a:pt x="10418" y="7516"/>
                </a:cubicBezTo>
                <a:cubicBezTo>
                  <a:pt x="10406" y="7606"/>
                  <a:pt x="10338" y="7680"/>
                  <a:pt x="10319" y="7764"/>
                </a:cubicBezTo>
                <a:cubicBezTo>
                  <a:pt x="10308" y="7812"/>
                  <a:pt x="10314" y="7860"/>
                  <a:pt x="10368" y="7863"/>
                </a:cubicBezTo>
                <a:cubicBezTo>
                  <a:pt x="10486" y="7869"/>
                  <a:pt x="10561" y="7779"/>
                  <a:pt x="10666" y="7739"/>
                </a:cubicBezTo>
                <a:cubicBezTo>
                  <a:pt x="10758" y="7716"/>
                  <a:pt x="10783" y="7710"/>
                  <a:pt x="10840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11240" y="3411360"/>
            <a:ext cx="581040" cy="419400"/>
          </a:xfrm>
          <a:custGeom>
            <a:avLst/>
            <a:gdLst/>
            <a:ahLst/>
            <a:rect l="l" t="t" r="r" b="b"/>
            <a:pathLst>
              <a:path w="1614" h="1167">
                <a:moveTo>
                  <a:pt x="5507" y="9823"/>
                </a:moveTo>
                <a:cubicBezTo>
                  <a:pt x="5515" y="9823"/>
                  <a:pt x="5523" y="9823"/>
                  <a:pt x="5531" y="9823"/>
                </a:cubicBezTo>
                <a:cubicBezTo>
                  <a:pt x="5465" y="9823"/>
                  <a:pt x="5399" y="9823"/>
                  <a:pt x="5333" y="9823"/>
                </a:cubicBezTo>
                <a:cubicBezTo>
                  <a:pt x="5333" y="9847"/>
                  <a:pt x="5333" y="9855"/>
                  <a:pt x="5308" y="9847"/>
                </a:cubicBezTo>
              </a:path>
              <a:path w="1614" h="1167">
                <a:moveTo>
                  <a:pt x="5755" y="9500"/>
                </a:moveTo>
                <a:cubicBezTo>
                  <a:pt x="5783" y="9500"/>
                  <a:pt x="5793" y="9497"/>
                  <a:pt x="5804" y="9475"/>
                </a:cubicBezTo>
                <a:cubicBezTo>
                  <a:pt x="5828" y="9507"/>
                  <a:pt x="5843" y="9557"/>
                  <a:pt x="5854" y="9599"/>
                </a:cubicBezTo>
                <a:cubicBezTo>
                  <a:pt x="5862" y="9629"/>
                  <a:pt x="5872" y="9644"/>
                  <a:pt x="5879" y="9674"/>
                </a:cubicBezTo>
              </a:path>
              <a:path w="1614" h="1167">
                <a:moveTo>
                  <a:pt x="6077" y="9748"/>
                </a:moveTo>
                <a:cubicBezTo>
                  <a:pt x="6077" y="9756"/>
                  <a:pt x="6077" y="9765"/>
                  <a:pt x="6077" y="9773"/>
                </a:cubicBezTo>
                <a:cubicBezTo>
                  <a:pt x="6018" y="9773"/>
                  <a:pt x="5999" y="9783"/>
                  <a:pt x="5953" y="9798"/>
                </a:cubicBezTo>
                <a:cubicBezTo>
                  <a:pt x="5912" y="9812"/>
                  <a:pt x="5866" y="9835"/>
                  <a:pt x="5829" y="9847"/>
                </a:cubicBezTo>
                <a:cubicBezTo>
                  <a:pt x="5821" y="9847"/>
                  <a:pt x="5812" y="9847"/>
                  <a:pt x="5804" y="9847"/>
                </a:cubicBezTo>
              </a:path>
              <a:path w="1614" h="1167">
                <a:moveTo>
                  <a:pt x="5978" y="10046"/>
                </a:moveTo>
                <a:cubicBezTo>
                  <a:pt x="5953" y="10046"/>
                  <a:pt x="5945" y="10046"/>
                  <a:pt x="5928" y="10046"/>
                </a:cubicBezTo>
                <a:cubicBezTo>
                  <a:pt x="5934" y="10028"/>
                  <a:pt x="5972" y="9985"/>
                  <a:pt x="6003" y="9971"/>
                </a:cubicBezTo>
                <a:cubicBezTo>
                  <a:pt x="6019" y="9964"/>
                  <a:pt x="6060" y="9971"/>
                  <a:pt x="6077" y="9971"/>
                </a:cubicBezTo>
                <a:cubicBezTo>
                  <a:pt x="6077" y="10011"/>
                  <a:pt x="6071" y="10064"/>
                  <a:pt x="6052" y="10096"/>
                </a:cubicBezTo>
                <a:cubicBezTo>
                  <a:pt x="6024" y="10143"/>
                  <a:pt x="6003" y="10163"/>
                  <a:pt x="6003" y="10220"/>
                </a:cubicBezTo>
                <a:cubicBezTo>
                  <a:pt x="6087" y="10220"/>
                  <a:pt x="6211" y="10244"/>
                  <a:pt x="6276" y="10195"/>
                </a:cubicBezTo>
              </a:path>
              <a:path w="1614" h="1167">
                <a:moveTo>
                  <a:pt x="6672" y="9773"/>
                </a:moveTo>
                <a:cubicBezTo>
                  <a:pt x="6672" y="9798"/>
                  <a:pt x="6672" y="9806"/>
                  <a:pt x="6648" y="9798"/>
                </a:cubicBezTo>
                <a:cubicBezTo>
                  <a:pt x="6648" y="9765"/>
                  <a:pt x="6635" y="9717"/>
                  <a:pt x="6672" y="9699"/>
                </a:cubicBezTo>
                <a:cubicBezTo>
                  <a:pt x="6704" y="9683"/>
                  <a:pt x="6732" y="9674"/>
                  <a:pt x="6772" y="9674"/>
                </a:cubicBezTo>
                <a:cubicBezTo>
                  <a:pt x="6794" y="9674"/>
                  <a:pt x="6821" y="9701"/>
                  <a:pt x="6846" y="9723"/>
                </a:cubicBezTo>
                <a:cubicBezTo>
                  <a:pt x="6872" y="9746"/>
                  <a:pt x="6892" y="9790"/>
                  <a:pt x="6896" y="9823"/>
                </a:cubicBezTo>
                <a:cubicBezTo>
                  <a:pt x="6899" y="9854"/>
                  <a:pt x="6941" y="9886"/>
                  <a:pt x="6921" y="9922"/>
                </a:cubicBezTo>
                <a:cubicBezTo>
                  <a:pt x="6914" y="9935"/>
                  <a:pt x="6876" y="10018"/>
                  <a:pt x="6871" y="10021"/>
                </a:cubicBezTo>
                <a:cubicBezTo>
                  <a:pt x="6839" y="10042"/>
                  <a:pt x="6768" y="10015"/>
                  <a:pt x="6747" y="9996"/>
                </a:cubicBezTo>
                <a:cubicBezTo>
                  <a:pt x="6725" y="9976"/>
                  <a:pt x="6678" y="9959"/>
                  <a:pt x="6672" y="9947"/>
                </a:cubicBezTo>
                <a:cubicBezTo>
                  <a:pt x="6664" y="9932"/>
                  <a:pt x="6630" y="9828"/>
                  <a:pt x="6623" y="9823"/>
                </a:cubicBezTo>
                <a:cubicBezTo>
                  <a:pt x="6594" y="9800"/>
                  <a:pt x="6598" y="9801"/>
                  <a:pt x="6598" y="9748"/>
                </a:cubicBezTo>
                <a:cubicBezTo>
                  <a:pt x="6598" y="9723"/>
                  <a:pt x="6598" y="9715"/>
                  <a:pt x="6623" y="9723"/>
                </a:cubicBezTo>
              </a:path>
              <a:path w="1614" h="1167">
                <a:moveTo>
                  <a:pt x="6871" y="9823"/>
                </a:moveTo>
                <a:cubicBezTo>
                  <a:pt x="6838" y="9790"/>
                  <a:pt x="6813" y="9771"/>
                  <a:pt x="6796" y="9748"/>
                </a:cubicBezTo>
                <a:cubicBezTo>
                  <a:pt x="6747" y="9680"/>
                  <a:pt x="6735" y="9795"/>
                  <a:pt x="6747" y="9823"/>
                </a:cubicBezTo>
                <a:cubicBezTo>
                  <a:pt x="6763" y="9862"/>
                  <a:pt x="6772" y="9850"/>
                  <a:pt x="6772" y="9897"/>
                </a:cubicBezTo>
                <a:cubicBezTo>
                  <a:pt x="6729" y="9844"/>
                  <a:pt x="6711" y="9779"/>
                  <a:pt x="6672" y="9723"/>
                </a:cubicBezTo>
                <a:cubicBezTo>
                  <a:pt x="6644" y="9695"/>
                  <a:pt x="6636" y="9682"/>
                  <a:pt x="6648" y="9649"/>
                </a:cubicBezTo>
                <a:cubicBezTo>
                  <a:pt x="6657" y="9726"/>
                  <a:pt x="6690" y="9798"/>
                  <a:pt x="6722" y="9872"/>
                </a:cubicBezTo>
                <a:cubicBezTo>
                  <a:pt x="6744" y="9922"/>
                  <a:pt x="6747" y="9942"/>
                  <a:pt x="6747" y="9996"/>
                </a:cubicBezTo>
                <a:cubicBezTo>
                  <a:pt x="6736" y="9952"/>
                  <a:pt x="6701" y="9889"/>
                  <a:pt x="6672" y="9847"/>
                </a:cubicBezTo>
                <a:cubicBezTo>
                  <a:pt x="6648" y="9812"/>
                  <a:pt x="6648" y="9816"/>
                  <a:pt x="6648" y="9773"/>
                </a:cubicBezTo>
                <a:cubicBezTo>
                  <a:pt x="6730" y="9785"/>
                  <a:pt x="6760" y="9836"/>
                  <a:pt x="6821" y="9897"/>
                </a:cubicBezTo>
                <a:cubicBezTo>
                  <a:pt x="6894" y="9971"/>
                  <a:pt x="6885" y="9989"/>
                  <a:pt x="6871" y="9922"/>
                </a:cubicBezTo>
                <a:cubicBezTo>
                  <a:pt x="6862" y="9878"/>
                  <a:pt x="6856" y="9862"/>
                  <a:pt x="6846" y="9823"/>
                </a:cubicBezTo>
                <a:cubicBezTo>
                  <a:pt x="6861" y="9842"/>
                  <a:pt x="6907" y="9925"/>
                  <a:pt x="6846" y="9872"/>
                </a:cubicBezTo>
                <a:cubicBezTo>
                  <a:pt x="6809" y="9840"/>
                  <a:pt x="6796" y="9816"/>
                  <a:pt x="6772" y="9773"/>
                </a:cubicBezTo>
                <a:cubicBezTo>
                  <a:pt x="6822" y="9809"/>
                  <a:pt x="6872" y="9862"/>
                  <a:pt x="6896" y="9922"/>
                </a:cubicBezTo>
                <a:cubicBezTo>
                  <a:pt x="6896" y="9930"/>
                  <a:pt x="6896" y="9939"/>
                  <a:pt x="6896" y="9947"/>
                </a:cubicBezTo>
              </a:path>
              <a:path w="1614" h="1167">
                <a:moveTo>
                  <a:pt x="6846" y="10418"/>
                </a:moveTo>
                <a:cubicBezTo>
                  <a:pt x="6846" y="10377"/>
                  <a:pt x="6846" y="10451"/>
                  <a:pt x="6846" y="10492"/>
                </a:cubicBezTo>
                <a:cubicBezTo>
                  <a:pt x="6846" y="10547"/>
                  <a:pt x="6864" y="10587"/>
                  <a:pt x="6871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5840" y="3490920"/>
            <a:ext cx="16020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7317" y="9773"/>
                </a:moveTo>
                <a:cubicBezTo>
                  <a:pt x="7312" y="9754"/>
                  <a:pt x="7293" y="9669"/>
                  <a:pt x="7293" y="9723"/>
                </a:cubicBezTo>
                <a:cubicBezTo>
                  <a:pt x="7293" y="9806"/>
                  <a:pt x="7296" y="9876"/>
                  <a:pt x="7317" y="9947"/>
                </a:cubicBezTo>
                <a:cubicBezTo>
                  <a:pt x="7327" y="9982"/>
                  <a:pt x="7344" y="10013"/>
                  <a:pt x="7392" y="9996"/>
                </a:cubicBezTo>
                <a:cubicBezTo>
                  <a:pt x="7445" y="9977"/>
                  <a:pt x="7492" y="9942"/>
                  <a:pt x="7541" y="9922"/>
                </a:cubicBezTo>
                <a:cubicBezTo>
                  <a:pt x="7567" y="9911"/>
                  <a:pt x="7615" y="9905"/>
                  <a:pt x="7640" y="9897"/>
                </a:cubicBezTo>
                <a:cubicBezTo>
                  <a:pt x="7653" y="9893"/>
                  <a:pt x="7773" y="9896"/>
                  <a:pt x="7739" y="9922"/>
                </a:cubicBezTo>
                <a:cubicBezTo>
                  <a:pt x="7731" y="9922"/>
                  <a:pt x="7722" y="9922"/>
                  <a:pt x="7714" y="9922"/>
                </a:cubicBezTo>
              </a:path>
              <a:path w="447" h="522">
                <a:moveTo>
                  <a:pt x="7466" y="9872"/>
                </a:moveTo>
                <a:cubicBezTo>
                  <a:pt x="7408" y="9891"/>
                  <a:pt x="7457" y="9908"/>
                  <a:pt x="7466" y="9947"/>
                </a:cubicBezTo>
                <a:cubicBezTo>
                  <a:pt x="7482" y="10019"/>
                  <a:pt x="7493" y="10102"/>
                  <a:pt x="7516" y="10170"/>
                </a:cubicBezTo>
                <a:cubicBezTo>
                  <a:pt x="7524" y="10187"/>
                  <a:pt x="7533" y="10203"/>
                  <a:pt x="7541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54240" y="3429000"/>
            <a:ext cx="446040" cy="544680"/>
          </a:xfrm>
          <a:custGeom>
            <a:avLst/>
            <a:gdLst/>
            <a:ahLst/>
            <a:rect l="l" t="t" r="r" b="b"/>
            <a:pathLst>
              <a:path w="1241" h="1514">
                <a:moveTo>
                  <a:pt x="8483" y="9922"/>
                </a:moveTo>
                <a:cubicBezTo>
                  <a:pt x="8483" y="9930"/>
                  <a:pt x="8483" y="9939"/>
                  <a:pt x="8483" y="9947"/>
                </a:cubicBezTo>
                <a:cubicBezTo>
                  <a:pt x="8511" y="9919"/>
                  <a:pt x="8547" y="9884"/>
                  <a:pt x="8582" y="9872"/>
                </a:cubicBezTo>
                <a:cubicBezTo>
                  <a:pt x="8619" y="9859"/>
                  <a:pt x="8639" y="9847"/>
                  <a:pt x="8682" y="9847"/>
                </a:cubicBezTo>
                <a:cubicBezTo>
                  <a:pt x="8723" y="9847"/>
                  <a:pt x="8719" y="9857"/>
                  <a:pt x="8731" y="9823"/>
                </a:cubicBezTo>
              </a:path>
              <a:path w="1241" h="1514">
                <a:moveTo>
                  <a:pt x="8905" y="9550"/>
                </a:moveTo>
                <a:cubicBezTo>
                  <a:pt x="8905" y="9542"/>
                  <a:pt x="8905" y="9533"/>
                  <a:pt x="8905" y="9525"/>
                </a:cubicBezTo>
                <a:cubicBezTo>
                  <a:pt x="8847" y="9544"/>
                  <a:pt x="8897" y="9560"/>
                  <a:pt x="8905" y="9599"/>
                </a:cubicBezTo>
                <a:cubicBezTo>
                  <a:pt x="8918" y="9657"/>
                  <a:pt x="8920" y="9701"/>
                  <a:pt x="8954" y="9748"/>
                </a:cubicBezTo>
              </a:path>
              <a:path w="1241" h="1514">
                <a:moveTo>
                  <a:pt x="9277" y="9798"/>
                </a:moveTo>
                <a:cubicBezTo>
                  <a:pt x="9277" y="9806"/>
                  <a:pt x="9277" y="9815"/>
                  <a:pt x="9277" y="9823"/>
                </a:cubicBezTo>
                <a:cubicBezTo>
                  <a:pt x="9204" y="9823"/>
                  <a:pt x="9147" y="9836"/>
                  <a:pt x="9079" y="9847"/>
                </a:cubicBezTo>
                <a:cubicBezTo>
                  <a:pt x="9003" y="9859"/>
                  <a:pt x="8927" y="9866"/>
                  <a:pt x="8855" y="9897"/>
                </a:cubicBezTo>
                <a:cubicBezTo>
                  <a:pt x="8808" y="9917"/>
                  <a:pt x="8769" y="9944"/>
                  <a:pt x="8731" y="9971"/>
                </a:cubicBezTo>
              </a:path>
              <a:path w="1241" h="1514">
                <a:moveTo>
                  <a:pt x="9178" y="10046"/>
                </a:moveTo>
                <a:cubicBezTo>
                  <a:pt x="9220" y="10046"/>
                  <a:pt x="9216" y="10056"/>
                  <a:pt x="9227" y="10021"/>
                </a:cubicBezTo>
                <a:cubicBezTo>
                  <a:pt x="9208" y="9962"/>
                  <a:pt x="9190" y="10022"/>
                  <a:pt x="9153" y="10046"/>
                </a:cubicBezTo>
                <a:cubicBezTo>
                  <a:pt x="9120" y="10067"/>
                  <a:pt x="9041" y="10127"/>
                  <a:pt x="9029" y="10170"/>
                </a:cubicBezTo>
                <a:cubicBezTo>
                  <a:pt x="9011" y="10232"/>
                  <a:pt x="9041" y="10255"/>
                  <a:pt x="9079" y="10294"/>
                </a:cubicBezTo>
                <a:cubicBezTo>
                  <a:pt x="9109" y="10325"/>
                  <a:pt x="9146" y="10324"/>
                  <a:pt x="9178" y="10344"/>
                </a:cubicBezTo>
                <a:cubicBezTo>
                  <a:pt x="9209" y="10364"/>
                  <a:pt x="9249" y="10375"/>
                  <a:pt x="9277" y="10393"/>
                </a:cubicBezTo>
                <a:cubicBezTo>
                  <a:pt x="9285" y="10401"/>
                  <a:pt x="9294" y="10410"/>
                  <a:pt x="9302" y="10418"/>
                </a:cubicBezTo>
                <a:cubicBezTo>
                  <a:pt x="9302" y="10458"/>
                  <a:pt x="9297" y="10483"/>
                  <a:pt x="9252" y="10492"/>
                </a:cubicBezTo>
                <a:cubicBezTo>
                  <a:pt x="9217" y="10499"/>
                  <a:pt x="9099" y="10509"/>
                  <a:pt x="9079" y="10468"/>
                </a:cubicBezTo>
                <a:cubicBezTo>
                  <a:pt x="9065" y="10440"/>
                  <a:pt x="9097" y="10315"/>
                  <a:pt x="9103" y="10294"/>
                </a:cubicBezTo>
                <a:cubicBezTo>
                  <a:pt x="9120" y="10233"/>
                  <a:pt x="9165" y="10168"/>
                  <a:pt x="9203" y="10120"/>
                </a:cubicBezTo>
              </a:path>
              <a:path w="1241" h="1514">
                <a:moveTo>
                  <a:pt x="9426" y="9872"/>
                </a:moveTo>
                <a:cubicBezTo>
                  <a:pt x="9457" y="9851"/>
                  <a:pt x="9502" y="9824"/>
                  <a:pt x="9475" y="9773"/>
                </a:cubicBezTo>
                <a:cubicBezTo>
                  <a:pt x="9455" y="9736"/>
                  <a:pt x="9442" y="9699"/>
                  <a:pt x="9426" y="9748"/>
                </a:cubicBezTo>
                <a:cubicBezTo>
                  <a:pt x="9434" y="9805"/>
                  <a:pt x="9451" y="9835"/>
                  <a:pt x="9451" y="9897"/>
                </a:cubicBezTo>
                <a:cubicBezTo>
                  <a:pt x="9451" y="9979"/>
                  <a:pt x="9401" y="9823"/>
                  <a:pt x="9401" y="9823"/>
                </a:cubicBezTo>
                <a:cubicBezTo>
                  <a:pt x="9385" y="9778"/>
                  <a:pt x="9353" y="9734"/>
                  <a:pt x="9327" y="9699"/>
                </a:cubicBezTo>
                <a:cubicBezTo>
                  <a:pt x="9327" y="9751"/>
                  <a:pt x="9337" y="9825"/>
                  <a:pt x="9351" y="9872"/>
                </a:cubicBezTo>
                <a:cubicBezTo>
                  <a:pt x="9363" y="9914"/>
                  <a:pt x="9378" y="10005"/>
                  <a:pt x="9351" y="9971"/>
                </a:cubicBezTo>
                <a:cubicBezTo>
                  <a:pt x="9336" y="9952"/>
                  <a:pt x="9287" y="9852"/>
                  <a:pt x="9277" y="9823"/>
                </a:cubicBezTo>
                <a:cubicBezTo>
                  <a:pt x="9267" y="9792"/>
                  <a:pt x="9224" y="9708"/>
                  <a:pt x="9252" y="9748"/>
                </a:cubicBezTo>
                <a:cubicBezTo>
                  <a:pt x="9260" y="9756"/>
                  <a:pt x="9269" y="9765"/>
                  <a:pt x="9277" y="9773"/>
                </a:cubicBezTo>
                <a:cubicBezTo>
                  <a:pt x="9306" y="9849"/>
                  <a:pt x="9322" y="9914"/>
                  <a:pt x="9327" y="9996"/>
                </a:cubicBezTo>
                <a:cubicBezTo>
                  <a:pt x="9331" y="10055"/>
                  <a:pt x="9305" y="10072"/>
                  <a:pt x="9277" y="9996"/>
                </a:cubicBezTo>
                <a:cubicBezTo>
                  <a:pt x="9258" y="9944"/>
                  <a:pt x="9215" y="9878"/>
                  <a:pt x="9203" y="9823"/>
                </a:cubicBezTo>
                <a:cubicBezTo>
                  <a:pt x="9203" y="9773"/>
                  <a:pt x="9203" y="9756"/>
                  <a:pt x="9203" y="9723"/>
                </a:cubicBezTo>
                <a:cubicBezTo>
                  <a:pt x="9203" y="9803"/>
                  <a:pt x="9224" y="9870"/>
                  <a:pt x="9227" y="9947"/>
                </a:cubicBezTo>
                <a:cubicBezTo>
                  <a:pt x="9227" y="9951"/>
                  <a:pt x="9214" y="10163"/>
                  <a:pt x="9178" y="10046"/>
                </a:cubicBezTo>
                <a:cubicBezTo>
                  <a:pt x="9158" y="9981"/>
                  <a:pt x="9167" y="9913"/>
                  <a:pt x="9153" y="9847"/>
                </a:cubicBezTo>
                <a:cubicBezTo>
                  <a:pt x="9134" y="9790"/>
                  <a:pt x="9125" y="9783"/>
                  <a:pt x="9128" y="9748"/>
                </a:cubicBezTo>
                <a:cubicBezTo>
                  <a:pt x="9128" y="9740"/>
                  <a:pt x="9128" y="9731"/>
                  <a:pt x="9128" y="9723"/>
                </a:cubicBezTo>
                <a:cubicBezTo>
                  <a:pt x="9128" y="9788"/>
                  <a:pt x="9141" y="9965"/>
                  <a:pt x="9128" y="9947"/>
                </a:cubicBezTo>
                <a:cubicBezTo>
                  <a:pt x="9088" y="9892"/>
                  <a:pt x="9079" y="9867"/>
                  <a:pt x="9079" y="9798"/>
                </a:cubicBezTo>
                <a:cubicBezTo>
                  <a:pt x="9079" y="9689"/>
                  <a:pt x="9079" y="9689"/>
                  <a:pt x="9079" y="9798"/>
                </a:cubicBezTo>
                <a:cubicBezTo>
                  <a:pt x="9079" y="9818"/>
                  <a:pt x="9096" y="9968"/>
                  <a:pt x="9054" y="9947"/>
                </a:cubicBezTo>
                <a:cubicBezTo>
                  <a:pt x="9022" y="9931"/>
                  <a:pt x="9006" y="9854"/>
                  <a:pt x="9004" y="9823"/>
                </a:cubicBezTo>
                <a:cubicBezTo>
                  <a:pt x="9004" y="9773"/>
                  <a:pt x="9004" y="9756"/>
                  <a:pt x="9004" y="9823"/>
                </a:cubicBezTo>
                <a:cubicBezTo>
                  <a:pt x="9015" y="9851"/>
                  <a:pt x="9060" y="9966"/>
                  <a:pt x="9029" y="9996"/>
                </a:cubicBezTo>
                <a:cubicBezTo>
                  <a:pt x="8987" y="10037"/>
                  <a:pt x="8964" y="9940"/>
                  <a:pt x="8954" y="9922"/>
                </a:cubicBezTo>
                <a:cubicBezTo>
                  <a:pt x="8926" y="9868"/>
                  <a:pt x="8905" y="9687"/>
                  <a:pt x="8905" y="9748"/>
                </a:cubicBezTo>
                <a:cubicBezTo>
                  <a:pt x="8905" y="9765"/>
                  <a:pt x="8905" y="9781"/>
                  <a:pt x="8905" y="9798"/>
                </a:cubicBezTo>
                <a:cubicBezTo>
                  <a:pt x="8916" y="9898"/>
                  <a:pt x="8950" y="9999"/>
                  <a:pt x="8979" y="10096"/>
                </a:cubicBezTo>
                <a:cubicBezTo>
                  <a:pt x="8995" y="10148"/>
                  <a:pt x="9035" y="10226"/>
                  <a:pt x="8979" y="10244"/>
                </a:cubicBezTo>
                <a:cubicBezTo>
                  <a:pt x="8969" y="10162"/>
                  <a:pt x="8934" y="10106"/>
                  <a:pt x="8930" y="10021"/>
                </a:cubicBezTo>
                <a:cubicBezTo>
                  <a:pt x="8926" y="9930"/>
                  <a:pt x="8985" y="9932"/>
                  <a:pt x="9054" y="9971"/>
                </a:cubicBezTo>
                <a:cubicBezTo>
                  <a:pt x="9166" y="10034"/>
                  <a:pt x="9238" y="10161"/>
                  <a:pt x="9302" y="10269"/>
                </a:cubicBezTo>
                <a:cubicBezTo>
                  <a:pt x="9310" y="10286"/>
                  <a:pt x="9319" y="10302"/>
                  <a:pt x="9327" y="10319"/>
                </a:cubicBezTo>
                <a:cubicBezTo>
                  <a:pt x="9235" y="10296"/>
                  <a:pt x="9188" y="10225"/>
                  <a:pt x="9128" y="10145"/>
                </a:cubicBezTo>
                <a:cubicBezTo>
                  <a:pt x="9124" y="10140"/>
                  <a:pt x="8992" y="9969"/>
                  <a:pt x="8954" y="10046"/>
                </a:cubicBezTo>
                <a:cubicBezTo>
                  <a:pt x="8930" y="10095"/>
                  <a:pt x="9011" y="10249"/>
                  <a:pt x="9029" y="10294"/>
                </a:cubicBezTo>
                <a:cubicBezTo>
                  <a:pt x="9053" y="10342"/>
                  <a:pt x="9061" y="10356"/>
                  <a:pt x="9054" y="10393"/>
                </a:cubicBezTo>
                <a:cubicBezTo>
                  <a:pt x="8991" y="10377"/>
                  <a:pt x="8945" y="10298"/>
                  <a:pt x="8905" y="10244"/>
                </a:cubicBezTo>
                <a:cubicBezTo>
                  <a:pt x="8851" y="10173"/>
                  <a:pt x="8819" y="10109"/>
                  <a:pt x="8756" y="10046"/>
                </a:cubicBezTo>
                <a:cubicBezTo>
                  <a:pt x="8799" y="10132"/>
                  <a:pt x="8838" y="10224"/>
                  <a:pt x="8855" y="10319"/>
                </a:cubicBezTo>
                <a:cubicBezTo>
                  <a:pt x="8874" y="10429"/>
                  <a:pt x="8840" y="10372"/>
                  <a:pt x="8806" y="10319"/>
                </a:cubicBezTo>
                <a:cubicBezTo>
                  <a:pt x="8770" y="10263"/>
                  <a:pt x="8735" y="10111"/>
                  <a:pt x="8682" y="10071"/>
                </a:cubicBezTo>
                <a:cubicBezTo>
                  <a:pt x="8642" y="10041"/>
                  <a:pt x="8731" y="10152"/>
                  <a:pt x="8756" y="10195"/>
                </a:cubicBezTo>
              </a:path>
              <a:path w="1241" h="1514">
                <a:moveTo>
                  <a:pt x="8806" y="10939"/>
                </a:moveTo>
                <a:cubicBezTo>
                  <a:pt x="8847" y="10939"/>
                  <a:pt x="8871" y="10929"/>
                  <a:pt x="8905" y="10914"/>
                </a:cubicBezTo>
                <a:cubicBezTo>
                  <a:pt x="8951" y="10894"/>
                  <a:pt x="9016" y="10908"/>
                  <a:pt x="9054" y="10889"/>
                </a:cubicBezTo>
                <a:cubicBezTo>
                  <a:pt x="9094" y="10869"/>
                  <a:pt x="9081" y="10864"/>
                  <a:pt x="9128" y="10864"/>
                </a:cubicBezTo>
              </a:path>
              <a:path w="1241" h="1514">
                <a:moveTo>
                  <a:pt x="9475" y="10691"/>
                </a:moveTo>
                <a:cubicBezTo>
                  <a:pt x="9536" y="10691"/>
                  <a:pt x="9544" y="10690"/>
                  <a:pt x="9575" y="10666"/>
                </a:cubicBezTo>
                <a:cubicBezTo>
                  <a:pt x="9611" y="10639"/>
                  <a:pt x="9613" y="10649"/>
                  <a:pt x="9624" y="10616"/>
                </a:cubicBezTo>
                <a:cubicBezTo>
                  <a:pt x="9574" y="10616"/>
                  <a:pt x="9542" y="10634"/>
                  <a:pt x="9500" y="10666"/>
                </a:cubicBezTo>
                <a:cubicBezTo>
                  <a:pt x="9468" y="10690"/>
                  <a:pt x="9410" y="10755"/>
                  <a:pt x="9401" y="10790"/>
                </a:cubicBezTo>
                <a:cubicBezTo>
                  <a:pt x="9401" y="10807"/>
                  <a:pt x="9401" y="10823"/>
                  <a:pt x="9401" y="10840"/>
                </a:cubicBezTo>
                <a:cubicBezTo>
                  <a:pt x="9431" y="10862"/>
                  <a:pt x="9462" y="10886"/>
                  <a:pt x="9500" y="10889"/>
                </a:cubicBezTo>
                <a:cubicBezTo>
                  <a:pt x="9556" y="10893"/>
                  <a:pt x="9625" y="10907"/>
                  <a:pt x="9674" y="10939"/>
                </a:cubicBezTo>
                <a:cubicBezTo>
                  <a:pt x="9716" y="10967"/>
                  <a:pt x="9723" y="10992"/>
                  <a:pt x="9723" y="11038"/>
                </a:cubicBezTo>
                <a:cubicBezTo>
                  <a:pt x="9686" y="11038"/>
                  <a:pt x="9565" y="11061"/>
                  <a:pt x="9550" y="11013"/>
                </a:cubicBezTo>
                <a:cubicBezTo>
                  <a:pt x="9535" y="10964"/>
                  <a:pt x="9579" y="10860"/>
                  <a:pt x="9599" y="10815"/>
                </a:cubicBezTo>
                <a:cubicBezTo>
                  <a:pt x="9620" y="10768"/>
                  <a:pt x="9621" y="10752"/>
                  <a:pt x="9649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32240" y="2581200"/>
            <a:ext cx="295560" cy="61920"/>
          </a:xfrm>
          <a:custGeom>
            <a:avLst/>
            <a:gdLst/>
            <a:ahLst/>
            <a:rect l="l" t="t" r="r" b="b"/>
            <a:pathLst>
              <a:path w="819" h="174">
                <a:moveTo>
                  <a:pt x="15354" y="7169"/>
                </a:moveTo>
                <a:cubicBezTo>
                  <a:pt x="15354" y="7207"/>
                  <a:pt x="15369" y="7290"/>
                  <a:pt x="15329" y="7317"/>
                </a:cubicBezTo>
                <a:cubicBezTo>
                  <a:pt x="15213" y="7395"/>
                  <a:pt x="14938" y="7342"/>
                  <a:pt x="14808" y="7342"/>
                </a:cubicBezTo>
                <a:cubicBezTo>
                  <a:pt x="14667" y="7342"/>
                  <a:pt x="14625" y="7343"/>
                  <a:pt x="14536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89920" y="3786120"/>
            <a:ext cx="152280" cy="196920"/>
          </a:xfrm>
          <a:custGeom>
            <a:avLst/>
            <a:gdLst/>
            <a:ahLst/>
            <a:rect l="l" t="t" r="r" b="b"/>
            <a:pathLst>
              <a:path w="423" h="547">
                <a:moveTo>
                  <a:pt x="22498" y="10542"/>
                </a:moveTo>
                <a:cubicBezTo>
                  <a:pt x="22498" y="10534"/>
                  <a:pt x="22498" y="10525"/>
                  <a:pt x="22498" y="10517"/>
                </a:cubicBezTo>
                <a:cubicBezTo>
                  <a:pt x="22461" y="10579"/>
                  <a:pt x="22467" y="10623"/>
                  <a:pt x="22498" y="10691"/>
                </a:cubicBezTo>
                <a:cubicBezTo>
                  <a:pt x="22521" y="10741"/>
                  <a:pt x="22576" y="10775"/>
                  <a:pt x="22622" y="10716"/>
                </a:cubicBezTo>
                <a:cubicBezTo>
                  <a:pt x="22658" y="10670"/>
                  <a:pt x="22692" y="10567"/>
                  <a:pt x="22771" y="10592"/>
                </a:cubicBezTo>
                <a:cubicBezTo>
                  <a:pt x="22852" y="10618"/>
                  <a:pt x="22886" y="10770"/>
                  <a:pt x="22895" y="10840"/>
                </a:cubicBezTo>
                <a:cubicBezTo>
                  <a:pt x="22906" y="10930"/>
                  <a:pt x="22912" y="11024"/>
                  <a:pt x="22820" y="11063"/>
                </a:cubicBezTo>
                <a:cubicBezTo>
                  <a:pt x="22763" y="11087"/>
                  <a:pt x="22669" y="11043"/>
                  <a:pt x="22622" y="11013"/>
                </a:cubicBezTo>
                <a:cubicBezTo>
                  <a:pt x="22577" y="10984"/>
                  <a:pt x="22534" y="10936"/>
                  <a:pt x="22523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86840" y="369720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23068" y="10418"/>
                </a:moveTo>
                <a:cubicBezTo>
                  <a:pt x="23026" y="10386"/>
                  <a:pt x="23019" y="10399"/>
                  <a:pt x="23019" y="10344"/>
                </a:cubicBezTo>
                <a:cubicBezTo>
                  <a:pt x="23019" y="10287"/>
                  <a:pt x="23048" y="10273"/>
                  <a:pt x="23093" y="10269"/>
                </a:cubicBezTo>
                <a:cubicBezTo>
                  <a:pt x="23115" y="10267"/>
                  <a:pt x="23187" y="10280"/>
                  <a:pt x="23192" y="10294"/>
                </a:cubicBezTo>
                <a:cubicBezTo>
                  <a:pt x="23207" y="10338"/>
                  <a:pt x="23193" y="10412"/>
                  <a:pt x="23168" y="10443"/>
                </a:cubicBezTo>
                <a:cubicBezTo>
                  <a:pt x="23142" y="10476"/>
                  <a:pt x="23128" y="10478"/>
                  <a:pt x="23118" y="10517"/>
                </a:cubicBezTo>
                <a:cubicBezTo>
                  <a:pt x="23209" y="10517"/>
                  <a:pt x="23300" y="10517"/>
                  <a:pt x="23391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02680" y="3741840"/>
            <a:ext cx="241200" cy="285480"/>
          </a:xfrm>
          <a:custGeom>
            <a:avLst/>
            <a:gdLst/>
            <a:ahLst/>
            <a:rect l="l" t="t" r="r" b="b"/>
            <a:pathLst>
              <a:path w="671" h="795">
                <a:moveTo>
                  <a:pt x="20638" y="10592"/>
                </a:moveTo>
                <a:cubicBezTo>
                  <a:pt x="20601" y="10616"/>
                  <a:pt x="20613" y="10659"/>
                  <a:pt x="20613" y="10716"/>
                </a:cubicBezTo>
                <a:cubicBezTo>
                  <a:pt x="20613" y="10744"/>
                  <a:pt x="20616" y="10754"/>
                  <a:pt x="20638" y="10765"/>
                </a:cubicBezTo>
                <a:cubicBezTo>
                  <a:pt x="20724" y="10752"/>
                  <a:pt x="20725" y="10715"/>
                  <a:pt x="20786" y="10666"/>
                </a:cubicBezTo>
                <a:cubicBezTo>
                  <a:pt x="20803" y="10658"/>
                  <a:pt x="20819" y="10649"/>
                  <a:pt x="20836" y="10641"/>
                </a:cubicBezTo>
                <a:cubicBezTo>
                  <a:pt x="20909" y="10715"/>
                  <a:pt x="20973" y="10789"/>
                  <a:pt x="21010" y="10889"/>
                </a:cubicBezTo>
                <a:cubicBezTo>
                  <a:pt x="21035" y="10956"/>
                  <a:pt x="21068" y="11114"/>
                  <a:pt x="20985" y="11162"/>
                </a:cubicBezTo>
                <a:cubicBezTo>
                  <a:pt x="20915" y="11203"/>
                  <a:pt x="20765" y="11202"/>
                  <a:pt x="20687" y="11187"/>
                </a:cubicBezTo>
                <a:cubicBezTo>
                  <a:pt x="20623" y="11175"/>
                  <a:pt x="20577" y="11169"/>
                  <a:pt x="20563" y="11112"/>
                </a:cubicBezTo>
              </a:path>
              <a:path w="671" h="795">
                <a:moveTo>
                  <a:pt x="21034" y="10542"/>
                </a:moveTo>
                <a:cubicBezTo>
                  <a:pt x="21034" y="10508"/>
                  <a:pt x="21021" y="10462"/>
                  <a:pt x="21059" y="10443"/>
                </a:cubicBezTo>
                <a:cubicBezTo>
                  <a:pt x="21117" y="10415"/>
                  <a:pt x="21138" y="10371"/>
                  <a:pt x="21208" y="10418"/>
                </a:cubicBezTo>
                <a:cubicBezTo>
                  <a:pt x="21250" y="10446"/>
                  <a:pt x="21233" y="10499"/>
                  <a:pt x="21233" y="10542"/>
                </a:cubicBezTo>
                <a:cubicBezTo>
                  <a:pt x="21233" y="10550"/>
                  <a:pt x="21233" y="10559"/>
                  <a:pt x="21233" y="10567"/>
                </a:cubicBezTo>
                <a:cubicBezTo>
                  <a:pt x="21167" y="10567"/>
                  <a:pt x="21161" y="10559"/>
                  <a:pt x="21109" y="10542"/>
                </a:cubicBezTo>
                <a:cubicBezTo>
                  <a:pt x="21073" y="10530"/>
                  <a:pt x="21073" y="10529"/>
                  <a:pt x="21109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16800" y="3741840"/>
            <a:ext cx="349200" cy="258840"/>
          </a:xfrm>
          <a:custGeom>
            <a:avLst/>
            <a:gdLst/>
            <a:ahLst/>
            <a:rect l="l" t="t" r="r" b="b"/>
            <a:pathLst>
              <a:path w="969" h="720">
                <a:moveTo>
                  <a:pt x="18430" y="10616"/>
                </a:moveTo>
                <a:cubicBezTo>
                  <a:pt x="18430" y="10592"/>
                  <a:pt x="18430" y="10583"/>
                  <a:pt x="18430" y="10567"/>
                </a:cubicBezTo>
                <a:cubicBezTo>
                  <a:pt x="18405" y="10600"/>
                  <a:pt x="18391" y="10644"/>
                  <a:pt x="18405" y="10691"/>
                </a:cubicBezTo>
                <a:cubicBezTo>
                  <a:pt x="18416" y="10727"/>
                  <a:pt x="18477" y="10808"/>
                  <a:pt x="18529" y="10765"/>
                </a:cubicBezTo>
                <a:cubicBezTo>
                  <a:pt x="18553" y="10745"/>
                  <a:pt x="18584" y="10624"/>
                  <a:pt x="18604" y="10616"/>
                </a:cubicBezTo>
                <a:cubicBezTo>
                  <a:pt x="18620" y="10616"/>
                  <a:pt x="18637" y="10616"/>
                  <a:pt x="18653" y="10616"/>
                </a:cubicBezTo>
                <a:cubicBezTo>
                  <a:pt x="18708" y="10698"/>
                  <a:pt x="18739" y="10813"/>
                  <a:pt x="18752" y="10914"/>
                </a:cubicBezTo>
                <a:cubicBezTo>
                  <a:pt x="18758" y="10961"/>
                  <a:pt x="18768" y="11089"/>
                  <a:pt x="18703" y="11112"/>
                </a:cubicBezTo>
                <a:cubicBezTo>
                  <a:pt x="18637" y="11135"/>
                  <a:pt x="18563" y="11098"/>
                  <a:pt x="18504" y="11088"/>
                </a:cubicBezTo>
                <a:cubicBezTo>
                  <a:pt x="18446" y="11079"/>
                  <a:pt x="18427" y="11076"/>
                  <a:pt x="18380" y="11038"/>
                </a:cubicBezTo>
              </a:path>
              <a:path w="969" h="720">
                <a:moveTo>
                  <a:pt x="19000" y="10542"/>
                </a:moveTo>
                <a:cubicBezTo>
                  <a:pt x="19031" y="10519"/>
                  <a:pt x="19061" y="10496"/>
                  <a:pt x="19100" y="10492"/>
                </a:cubicBezTo>
                <a:cubicBezTo>
                  <a:pt x="19132" y="10488"/>
                  <a:pt x="19167" y="10492"/>
                  <a:pt x="19199" y="10492"/>
                </a:cubicBezTo>
              </a:path>
              <a:path w="969" h="720">
                <a:moveTo>
                  <a:pt x="19323" y="10418"/>
                </a:moveTo>
                <a:cubicBezTo>
                  <a:pt x="19323" y="10410"/>
                  <a:pt x="19323" y="10401"/>
                  <a:pt x="19323" y="10393"/>
                </a:cubicBezTo>
                <a:cubicBezTo>
                  <a:pt x="19336" y="10443"/>
                  <a:pt x="19348" y="10457"/>
                  <a:pt x="19348" y="10517"/>
                </a:cubicBezTo>
                <a:cubicBezTo>
                  <a:pt x="19348" y="10542"/>
                  <a:pt x="19348" y="10550"/>
                  <a:pt x="19348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65920" y="3705120"/>
            <a:ext cx="276120" cy="358920"/>
          </a:xfrm>
          <a:custGeom>
            <a:avLst/>
            <a:gdLst/>
            <a:ahLst/>
            <a:rect l="l" t="t" r="r" b="b"/>
            <a:pathLst>
              <a:path w="769" h="993">
                <a:moveTo>
                  <a:pt x="16619" y="10666"/>
                </a:moveTo>
                <a:cubicBezTo>
                  <a:pt x="16619" y="10641"/>
                  <a:pt x="16619" y="10633"/>
                  <a:pt x="16594" y="10641"/>
                </a:cubicBezTo>
                <a:cubicBezTo>
                  <a:pt x="16559" y="10653"/>
                  <a:pt x="16557" y="10718"/>
                  <a:pt x="16570" y="10765"/>
                </a:cubicBezTo>
                <a:cubicBezTo>
                  <a:pt x="16586" y="10823"/>
                  <a:pt x="16652" y="10905"/>
                  <a:pt x="16718" y="10889"/>
                </a:cubicBezTo>
                <a:cubicBezTo>
                  <a:pt x="16801" y="10869"/>
                  <a:pt x="16782" y="10783"/>
                  <a:pt x="16842" y="10740"/>
                </a:cubicBezTo>
                <a:cubicBezTo>
                  <a:pt x="16923" y="10683"/>
                  <a:pt x="17024" y="10801"/>
                  <a:pt x="17066" y="10864"/>
                </a:cubicBezTo>
                <a:cubicBezTo>
                  <a:pt x="17119" y="10944"/>
                  <a:pt x="17214" y="11083"/>
                  <a:pt x="17190" y="11187"/>
                </a:cubicBezTo>
                <a:cubicBezTo>
                  <a:pt x="17176" y="11247"/>
                  <a:pt x="17035" y="11279"/>
                  <a:pt x="16991" y="11286"/>
                </a:cubicBezTo>
                <a:cubicBezTo>
                  <a:pt x="16882" y="11302"/>
                  <a:pt x="16744" y="11295"/>
                  <a:pt x="16644" y="11261"/>
                </a:cubicBezTo>
              </a:path>
              <a:path w="769" h="993">
                <a:moveTo>
                  <a:pt x="17016" y="10393"/>
                </a:moveTo>
                <a:cubicBezTo>
                  <a:pt x="17026" y="10353"/>
                  <a:pt x="17045" y="10324"/>
                  <a:pt x="17090" y="10319"/>
                </a:cubicBezTo>
                <a:cubicBezTo>
                  <a:pt x="17131" y="10314"/>
                  <a:pt x="17144" y="10294"/>
                  <a:pt x="17190" y="10294"/>
                </a:cubicBezTo>
                <a:cubicBezTo>
                  <a:pt x="17190" y="10337"/>
                  <a:pt x="17169" y="10445"/>
                  <a:pt x="17214" y="10468"/>
                </a:cubicBezTo>
                <a:cubicBezTo>
                  <a:pt x="17253" y="10488"/>
                  <a:pt x="17315" y="10489"/>
                  <a:pt x="17338" y="10542"/>
                </a:cubicBezTo>
                <a:cubicBezTo>
                  <a:pt x="17356" y="10584"/>
                  <a:pt x="17331" y="10646"/>
                  <a:pt x="17289" y="10666"/>
                </a:cubicBezTo>
                <a:cubicBezTo>
                  <a:pt x="17227" y="10695"/>
                  <a:pt x="17180" y="10691"/>
                  <a:pt x="17115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905" t="5697" r="5882" b="57978"/>
          <a:stretch/>
        </p:blipFill>
        <p:spPr>
          <a:xfrm>
            <a:off x="0" y="0"/>
            <a:ext cx="89917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3965" t="43687" r="13687" b="10017"/>
          <a:stretch/>
        </p:blipFill>
        <p:spPr>
          <a:xfrm>
            <a:off x="0" y="0"/>
            <a:ext cx="8839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8722" t="6811" r="13826" b="5259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5762" t="48927" r="12867" b="5492"/>
          <a:stretch/>
        </p:blipFill>
        <p:spPr>
          <a:xfrm>
            <a:off x="0" y="0"/>
            <a:ext cx="88390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9152" t="6676" r="12418" b="49875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5924" t="50676" r="12705" b="8725"/>
          <a:stretch/>
        </p:blipFill>
        <p:spPr>
          <a:xfrm>
            <a:off x="0" y="0"/>
            <a:ext cx="876312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6313" t="62269" r="11339" b="6397"/>
          <a:stretch/>
        </p:blipFill>
        <p:spPr>
          <a:xfrm>
            <a:off x="228600" y="0"/>
            <a:ext cx="89154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4905" t="4987" r="12747" b="38744"/>
          <a:stretch/>
        </p:blipFill>
        <p:spPr>
          <a:xfrm>
            <a:off x="0" y="0"/>
            <a:ext cx="723888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941" t="4987" r="13520" b="38034"/>
          <a:stretch/>
        </p:blipFill>
        <p:spPr>
          <a:xfrm>
            <a:off x="152280" y="0"/>
            <a:ext cx="7239240" cy="6796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66960" y="4286160"/>
            <a:ext cx="312840" cy="214560"/>
          </a:xfrm>
          <a:custGeom>
            <a:avLst/>
            <a:gdLst/>
            <a:ahLst/>
            <a:rect l="l" t="t" r="r" b="b"/>
            <a:pathLst>
              <a:path w="869" h="597">
                <a:moveTo>
                  <a:pt x="5308" y="12204"/>
                </a:moveTo>
                <a:cubicBezTo>
                  <a:pt x="5368" y="12164"/>
                  <a:pt x="5358" y="12172"/>
                  <a:pt x="5358" y="12105"/>
                </a:cubicBezTo>
                <a:cubicBezTo>
                  <a:pt x="5285" y="12105"/>
                  <a:pt x="5268" y="12142"/>
                  <a:pt x="5234" y="12204"/>
                </a:cubicBezTo>
                <a:cubicBezTo>
                  <a:pt x="5195" y="12275"/>
                  <a:pt x="5162" y="12370"/>
                  <a:pt x="5184" y="12452"/>
                </a:cubicBezTo>
                <a:cubicBezTo>
                  <a:pt x="5201" y="12517"/>
                  <a:pt x="5293" y="12529"/>
                  <a:pt x="5333" y="12477"/>
                </a:cubicBezTo>
                <a:cubicBezTo>
                  <a:pt x="5381" y="12414"/>
                  <a:pt x="5402" y="12330"/>
                  <a:pt x="5407" y="12254"/>
                </a:cubicBezTo>
                <a:cubicBezTo>
                  <a:pt x="5407" y="12246"/>
                  <a:pt x="5407" y="12237"/>
                  <a:pt x="5407" y="12229"/>
                </a:cubicBezTo>
                <a:cubicBezTo>
                  <a:pt x="5443" y="12277"/>
                  <a:pt x="5475" y="12345"/>
                  <a:pt x="5507" y="12402"/>
                </a:cubicBezTo>
                <a:cubicBezTo>
                  <a:pt x="5537" y="12455"/>
                  <a:pt x="5560" y="12465"/>
                  <a:pt x="5606" y="12502"/>
                </a:cubicBezTo>
              </a:path>
              <a:path w="869" h="597">
                <a:moveTo>
                  <a:pt x="5730" y="12055"/>
                </a:moveTo>
                <a:cubicBezTo>
                  <a:pt x="5705" y="12055"/>
                  <a:pt x="5697" y="12055"/>
                  <a:pt x="5680" y="12055"/>
                </a:cubicBezTo>
                <a:cubicBezTo>
                  <a:pt x="5680" y="12002"/>
                  <a:pt x="5692" y="11994"/>
                  <a:pt x="5730" y="11956"/>
                </a:cubicBezTo>
                <a:cubicBezTo>
                  <a:pt x="5776" y="11910"/>
                  <a:pt x="5787" y="11906"/>
                  <a:pt x="5854" y="11906"/>
                </a:cubicBezTo>
                <a:cubicBezTo>
                  <a:pt x="5854" y="11973"/>
                  <a:pt x="5814" y="12222"/>
                  <a:pt x="5879" y="12254"/>
                </a:cubicBezTo>
                <a:cubicBezTo>
                  <a:pt x="5926" y="12277"/>
                  <a:pt x="5971" y="12224"/>
                  <a:pt x="6003" y="12204"/>
                </a:cubicBezTo>
                <a:cubicBezTo>
                  <a:pt x="6019" y="12196"/>
                  <a:pt x="6036" y="12187"/>
                  <a:pt x="6052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0920" y="4375080"/>
            <a:ext cx="117360" cy="9864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6648" y="12154"/>
                </a:moveTo>
                <a:cubicBezTo>
                  <a:pt x="6656" y="12154"/>
                  <a:pt x="6664" y="12154"/>
                  <a:pt x="6672" y="12154"/>
                </a:cubicBezTo>
                <a:cubicBezTo>
                  <a:pt x="6655" y="12206"/>
                  <a:pt x="6621" y="12180"/>
                  <a:pt x="6573" y="12204"/>
                </a:cubicBezTo>
                <a:cubicBezTo>
                  <a:pt x="6557" y="12212"/>
                  <a:pt x="6455" y="12221"/>
                  <a:pt x="6449" y="12229"/>
                </a:cubicBezTo>
                <a:cubicBezTo>
                  <a:pt x="6449" y="12237"/>
                  <a:pt x="6449" y="12246"/>
                  <a:pt x="6449" y="12254"/>
                </a:cubicBezTo>
              </a:path>
              <a:path w="324" h="274">
                <a:moveTo>
                  <a:pt x="6722" y="12353"/>
                </a:moveTo>
                <a:cubicBezTo>
                  <a:pt x="6739" y="12353"/>
                  <a:pt x="6755" y="12353"/>
                  <a:pt x="6772" y="12353"/>
                </a:cubicBezTo>
                <a:cubicBezTo>
                  <a:pt x="6723" y="12382"/>
                  <a:pt x="6679" y="12395"/>
                  <a:pt x="6623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5040" y="4303800"/>
            <a:ext cx="893880" cy="233280"/>
          </a:xfrm>
          <a:custGeom>
            <a:avLst/>
            <a:gdLst/>
            <a:ahLst/>
            <a:rect l="l" t="t" r="r" b="b"/>
            <a:pathLst>
              <a:path w="2481" h="646">
                <a:moveTo>
                  <a:pt x="7565" y="12055"/>
                </a:moveTo>
                <a:cubicBezTo>
                  <a:pt x="7557" y="12030"/>
                  <a:pt x="7549" y="12006"/>
                  <a:pt x="7541" y="11981"/>
                </a:cubicBezTo>
                <a:cubicBezTo>
                  <a:pt x="7541" y="11930"/>
                  <a:pt x="7522" y="12029"/>
                  <a:pt x="7516" y="12080"/>
                </a:cubicBezTo>
                <a:cubicBezTo>
                  <a:pt x="7502" y="12193"/>
                  <a:pt x="7526" y="12295"/>
                  <a:pt x="7541" y="12402"/>
                </a:cubicBezTo>
                <a:cubicBezTo>
                  <a:pt x="7541" y="12444"/>
                  <a:pt x="7541" y="12452"/>
                  <a:pt x="7541" y="12477"/>
                </a:cubicBezTo>
                <a:cubicBezTo>
                  <a:pt x="7583" y="12434"/>
                  <a:pt x="7605" y="12371"/>
                  <a:pt x="7665" y="12353"/>
                </a:cubicBezTo>
                <a:cubicBezTo>
                  <a:pt x="7741" y="12330"/>
                  <a:pt x="7783" y="12421"/>
                  <a:pt x="7789" y="12477"/>
                </a:cubicBezTo>
                <a:cubicBezTo>
                  <a:pt x="7800" y="12572"/>
                  <a:pt x="7784" y="12596"/>
                  <a:pt x="7689" y="12601"/>
                </a:cubicBezTo>
                <a:cubicBezTo>
                  <a:pt x="7632" y="12604"/>
                  <a:pt x="7573" y="12601"/>
                  <a:pt x="7516" y="12601"/>
                </a:cubicBezTo>
              </a:path>
              <a:path w="2481" h="646">
                <a:moveTo>
                  <a:pt x="7938" y="12055"/>
                </a:moveTo>
                <a:cubicBezTo>
                  <a:pt x="7951" y="12016"/>
                  <a:pt x="7976" y="12028"/>
                  <a:pt x="8012" y="12005"/>
                </a:cubicBezTo>
                <a:cubicBezTo>
                  <a:pt x="8049" y="11981"/>
                  <a:pt x="8064" y="11981"/>
                  <a:pt x="8111" y="11981"/>
                </a:cubicBezTo>
                <a:cubicBezTo>
                  <a:pt x="8111" y="12062"/>
                  <a:pt x="8096" y="12129"/>
                  <a:pt x="8086" y="12204"/>
                </a:cubicBezTo>
                <a:cubicBezTo>
                  <a:pt x="8080" y="12247"/>
                  <a:pt x="8086" y="12308"/>
                  <a:pt x="8086" y="12353"/>
                </a:cubicBezTo>
                <a:cubicBezTo>
                  <a:pt x="8142" y="12353"/>
                  <a:pt x="8185" y="12359"/>
                  <a:pt x="8235" y="12328"/>
                </a:cubicBezTo>
                <a:cubicBezTo>
                  <a:pt x="8263" y="12300"/>
                  <a:pt x="8277" y="12291"/>
                  <a:pt x="8310" y="12303"/>
                </a:cubicBezTo>
              </a:path>
              <a:path w="2481" h="646">
                <a:moveTo>
                  <a:pt x="8880" y="12378"/>
                </a:moveTo>
                <a:cubicBezTo>
                  <a:pt x="8897" y="12378"/>
                  <a:pt x="8913" y="12378"/>
                  <a:pt x="8930" y="12378"/>
                </a:cubicBezTo>
                <a:cubicBezTo>
                  <a:pt x="8817" y="12378"/>
                  <a:pt x="8713" y="12378"/>
                  <a:pt x="8607" y="12402"/>
                </a:cubicBezTo>
                <a:cubicBezTo>
                  <a:pt x="8582" y="12402"/>
                  <a:pt x="8574" y="12402"/>
                  <a:pt x="8558" y="12402"/>
                </a:cubicBezTo>
              </a:path>
              <a:path w="2481" h="646">
                <a:moveTo>
                  <a:pt x="8657" y="12303"/>
                </a:moveTo>
                <a:cubicBezTo>
                  <a:pt x="8739" y="12279"/>
                  <a:pt x="8731" y="12294"/>
                  <a:pt x="8731" y="12378"/>
                </a:cubicBezTo>
                <a:cubicBezTo>
                  <a:pt x="8731" y="12456"/>
                  <a:pt x="8751" y="12507"/>
                  <a:pt x="8781" y="12576"/>
                </a:cubicBezTo>
              </a:path>
              <a:path w="2481" h="646">
                <a:moveTo>
                  <a:pt x="9277" y="12278"/>
                </a:moveTo>
                <a:cubicBezTo>
                  <a:pt x="9339" y="12252"/>
                  <a:pt x="9371" y="12239"/>
                  <a:pt x="9302" y="12278"/>
                </a:cubicBezTo>
                <a:cubicBezTo>
                  <a:pt x="9246" y="12309"/>
                  <a:pt x="9171" y="12385"/>
                  <a:pt x="9153" y="12452"/>
                </a:cubicBezTo>
                <a:cubicBezTo>
                  <a:pt x="9130" y="12535"/>
                  <a:pt x="9219" y="12548"/>
                  <a:pt x="9277" y="12551"/>
                </a:cubicBezTo>
                <a:cubicBezTo>
                  <a:pt x="9347" y="12555"/>
                  <a:pt x="9399" y="12518"/>
                  <a:pt x="9451" y="12477"/>
                </a:cubicBezTo>
              </a:path>
              <a:path w="2481" h="646">
                <a:moveTo>
                  <a:pt x="9699" y="12105"/>
                </a:moveTo>
                <a:cubicBezTo>
                  <a:pt x="9682" y="12097"/>
                  <a:pt x="9666" y="12088"/>
                  <a:pt x="9649" y="12080"/>
                </a:cubicBezTo>
                <a:cubicBezTo>
                  <a:pt x="9687" y="12042"/>
                  <a:pt x="9716" y="12009"/>
                  <a:pt x="9773" y="12005"/>
                </a:cubicBezTo>
                <a:cubicBezTo>
                  <a:pt x="9842" y="12000"/>
                  <a:pt x="9847" y="12021"/>
                  <a:pt x="9847" y="12080"/>
                </a:cubicBezTo>
                <a:cubicBezTo>
                  <a:pt x="9847" y="12143"/>
                  <a:pt x="9823" y="12190"/>
                  <a:pt x="9823" y="12254"/>
                </a:cubicBezTo>
                <a:cubicBezTo>
                  <a:pt x="9823" y="12278"/>
                  <a:pt x="9823" y="12287"/>
                  <a:pt x="9823" y="12303"/>
                </a:cubicBezTo>
                <a:cubicBezTo>
                  <a:pt x="9891" y="12303"/>
                  <a:pt x="9933" y="12302"/>
                  <a:pt x="9996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491000"/>
            <a:ext cx="88920" cy="190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10740" y="12502"/>
                </a:moveTo>
                <a:cubicBezTo>
                  <a:pt x="10781" y="12482"/>
                  <a:pt x="10808" y="12473"/>
                  <a:pt x="10765" y="12477"/>
                </a:cubicBezTo>
                <a:cubicBezTo>
                  <a:pt x="10713" y="12488"/>
                  <a:pt x="10668" y="12513"/>
                  <a:pt x="10616" y="12526"/>
                </a:cubicBezTo>
                <a:cubicBezTo>
                  <a:pt x="10583" y="12526"/>
                  <a:pt x="10567" y="12526"/>
                  <a:pt x="10542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54320" y="4367160"/>
            <a:ext cx="588960" cy="231840"/>
          </a:xfrm>
          <a:custGeom>
            <a:avLst/>
            <a:gdLst/>
            <a:ahLst/>
            <a:rect l="l" t="t" r="r" b="b"/>
            <a:pathLst>
              <a:path w="1638" h="646">
                <a:moveTo>
                  <a:pt x="11361" y="12229"/>
                </a:moveTo>
                <a:cubicBezTo>
                  <a:pt x="11328" y="12229"/>
                  <a:pt x="11294" y="12229"/>
                  <a:pt x="11261" y="12229"/>
                </a:cubicBezTo>
                <a:cubicBezTo>
                  <a:pt x="11276" y="12169"/>
                  <a:pt x="11318" y="12142"/>
                  <a:pt x="11385" y="12129"/>
                </a:cubicBezTo>
                <a:cubicBezTo>
                  <a:pt x="11464" y="12113"/>
                  <a:pt x="11525" y="12130"/>
                  <a:pt x="11559" y="12204"/>
                </a:cubicBezTo>
                <a:cubicBezTo>
                  <a:pt x="11603" y="12300"/>
                  <a:pt x="11547" y="12409"/>
                  <a:pt x="11509" y="12502"/>
                </a:cubicBezTo>
                <a:cubicBezTo>
                  <a:pt x="11486" y="12558"/>
                  <a:pt x="11400" y="12606"/>
                  <a:pt x="11435" y="12675"/>
                </a:cubicBezTo>
                <a:cubicBezTo>
                  <a:pt x="11455" y="12714"/>
                  <a:pt x="11550" y="12710"/>
                  <a:pt x="11584" y="12700"/>
                </a:cubicBezTo>
                <a:cubicBezTo>
                  <a:pt x="11652" y="12681"/>
                  <a:pt x="11710" y="12656"/>
                  <a:pt x="11782" y="12650"/>
                </a:cubicBezTo>
                <a:cubicBezTo>
                  <a:pt x="11815" y="12647"/>
                  <a:pt x="11848" y="12650"/>
                  <a:pt x="11881" y="12650"/>
                </a:cubicBezTo>
              </a:path>
              <a:path w="1638" h="646">
                <a:moveTo>
                  <a:pt x="12080" y="12179"/>
                </a:moveTo>
                <a:cubicBezTo>
                  <a:pt x="12080" y="12266"/>
                  <a:pt x="12058" y="12340"/>
                  <a:pt x="12055" y="12427"/>
                </a:cubicBezTo>
                <a:cubicBezTo>
                  <a:pt x="12052" y="12520"/>
                  <a:pt x="12046" y="12578"/>
                  <a:pt x="12105" y="12650"/>
                </a:cubicBezTo>
                <a:cubicBezTo>
                  <a:pt x="12171" y="12634"/>
                  <a:pt x="12156" y="12588"/>
                  <a:pt x="12204" y="12551"/>
                </a:cubicBezTo>
                <a:cubicBezTo>
                  <a:pt x="12255" y="12511"/>
                  <a:pt x="12318" y="12583"/>
                  <a:pt x="12328" y="12626"/>
                </a:cubicBezTo>
                <a:cubicBezTo>
                  <a:pt x="12340" y="12677"/>
                  <a:pt x="12333" y="12750"/>
                  <a:pt x="12278" y="12774"/>
                </a:cubicBezTo>
                <a:cubicBezTo>
                  <a:pt x="12233" y="12794"/>
                  <a:pt x="12162" y="12774"/>
                  <a:pt x="12129" y="12750"/>
                </a:cubicBezTo>
              </a:path>
              <a:path w="1638" h="646">
                <a:moveTo>
                  <a:pt x="12526" y="12576"/>
                </a:moveTo>
                <a:cubicBezTo>
                  <a:pt x="12560" y="12560"/>
                  <a:pt x="12694" y="12526"/>
                  <a:pt x="12650" y="12526"/>
                </a:cubicBezTo>
                <a:cubicBezTo>
                  <a:pt x="12630" y="12526"/>
                  <a:pt x="12549" y="12576"/>
                  <a:pt x="12551" y="12601"/>
                </a:cubicBezTo>
                <a:cubicBezTo>
                  <a:pt x="12558" y="12704"/>
                  <a:pt x="12645" y="12722"/>
                  <a:pt x="12725" y="12725"/>
                </a:cubicBezTo>
                <a:cubicBezTo>
                  <a:pt x="12803" y="12728"/>
                  <a:pt x="12832" y="12709"/>
                  <a:pt x="12898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73760" y="4500720"/>
            <a:ext cx="384120" cy="107640"/>
          </a:xfrm>
          <a:custGeom>
            <a:avLst/>
            <a:gdLst/>
            <a:ahLst/>
            <a:rect l="l" t="t" r="r" b="b"/>
            <a:pathLst>
              <a:path w="1068" h="298">
                <a:moveTo>
                  <a:pt x="13915" y="12576"/>
                </a:moveTo>
                <a:cubicBezTo>
                  <a:pt x="13935" y="12536"/>
                  <a:pt x="13944" y="12529"/>
                  <a:pt x="13940" y="12502"/>
                </a:cubicBezTo>
                <a:cubicBezTo>
                  <a:pt x="13904" y="12511"/>
                  <a:pt x="13837" y="12538"/>
                  <a:pt x="13816" y="12576"/>
                </a:cubicBezTo>
                <a:cubicBezTo>
                  <a:pt x="13787" y="12628"/>
                  <a:pt x="13883" y="12706"/>
                  <a:pt x="13915" y="12725"/>
                </a:cubicBezTo>
                <a:cubicBezTo>
                  <a:pt x="13983" y="12765"/>
                  <a:pt x="14046" y="12756"/>
                  <a:pt x="14114" y="12725"/>
                </a:cubicBezTo>
                <a:cubicBezTo>
                  <a:pt x="14130" y="12717"/>
                  <a:pt x="14147" y="12708"/>
                  <a:pt x="14163" y="12700"/>
                </a:cubicBezTo>
              </a:path>
              <a:path w="1068" h="298">
                <a:moveTo>
                  <a:pt x="14263" y="12601"/>
                </a:moveTo>
                <a:cubicBezTo>
                  <a:pt x="14264" y="12597"/>
                  <a:pt x="14284" y="12530"/>
                  <a:pt x="14288" y="12526"/>
                </a:cubicBezTo>
                <a:cubicBezTo>
                  <a:pt x="14323" y="12497"/>
                  <a:pt x="14410" y="12537"/>
                  <a:pt x="14436" y="12551"/>
                </a:cubicBezTo>
                <a:cubicBezTo>
                  <a:pt x="14503" y="12587"/>
                  <a:pt x="14537" y="12643"/>
                  <a:pt x="14511" y="12725"/>
                </a:cubicBezTo>
                <a:cubicBezTo>
                  <a:pt x="14486" y="12805"/>
                  <a:pt x="14423" y="12777"/>
                  <a:pt x="14362" y="12750"/>
                </a:cubicBezTo>
                <a:cubicBezTo>
                  <a:pt x="14318" y="12728"/>
                  <a:pt x="14307" y="12725"/>
                  <a:pt x="14288" y="12700"/>
                </a:cubicBezTo>
              </a:path>
              <a:path w="1068" h="298">
                <a:moveTo>
                  <a:pt x="14833" y="12526"/>
                </a:moveTo>
                <a:cubicBezTo>
                  <a:pt x="14845" y="12492"/>
                  <a:pt x="14791" y="12479"/>
                  <a:pt x="14734" y="12502"/>
                </a:cubicBezTo>
                <a:cubicBezTo>
                  <a:pt x="14657" y="12533"/>
                  <a:pt x="14736" y="12606"/>
                  <a:pt x="14759" y="12626"/>
                </a:cubicBezTo>
                <a:cubicBezTo>
                  <a:pt x="14794" y="12657"/>
                  <a:pt x="14862" y="12679"/>
                  <a:pt x="14883" y="12725"/>
                </a:cubicBezTo>
                <a:cubicBezTo>
                  <a:pt x="14883" y="12733"/>
                  <a:pt x="14883" y="12742"/>
                  <a:pt x="14883" y="12750"/>
                </a:cubicBezTo>
                <a:cubicBezTo>
                  <a:pt x="14842" y="12760"/>
                  <a:pt x="14826" y="12794"/>
                  <a:pt x="14784" y="12799"/>
                </a:cubicBezTo>
                <a:cubicBezTo>
                  <a:pt x="14776" y="12799"/>
                  <a:pt x="14767" y="12799"/>
                  <a:pt x="14759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54800" y="4357800"/>
            <a:ext cx="214200" cy="26820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15429" y="12725"/>
                </a:moveTo>
                <a:cubicBezTo>
                  <a:pt x="15429" y="12769"/>
                  <a:pt x="15426" y="12782"/>
                  <a:pt x="15453" y="12799"/>
                </a:cubicBezTo>
                <a:cubicBezTo>
                  <a:pt x="15483" y="12779"/>
                  <a:pt x="15512" y="12681"/>
                  <a:pt x="15528" y="12626"/>
                </a:cubicBezTo>
                <a:cubicBezTo>
                  <a:pt x="15568" y="12489"/>
                  <a:pt x="15600" y="12362"/>
                  <a:pt x="15652" y="12229"/>
                </a:cubicBezTo>
                <a:cubicBezTo>
                  <a:pt x="15674" y="12162"/>
                  <a:pt x="15679" y="12144"/>
                  <a:pt x="15701" y="12105"/>
                </a:cubicBezTo>
                <a:cubicBezTo>
                  <a:pt x="15766" y="12121"/>
                  <a:pt x="15781" y="12161"/>
                  <a:pt x="15801" y="12229"/>
                </a:cubicBezTo>
                <a:cubicBezTo>
                  <a:pt x="15853" y="12403"/>
                  <a:pt x="15915" y="12598"/>
                  <a:pt x="15949" y="12774"/>
                </a:cubicBezTo>
                <a:cubicBezTo>
                  <a:pt x="15949" y="12819"/>
                  <a:pt x="15946" y="12832"/>
                  <a:pt x="15974" y="12849"/>
                </a:cubicBezTo>
              </a:path>
              <a:path w="596" h="745">
                <a:moveTo>
                  <a:pt x="16024" y="12700"/>
                </a:moveTo>
                <a:cubicBezTo>
                  <a:pt x="16012" y="12620"/>
                  <a:pt x="16005" y="12626"/>
                  <a:pt x="15925" y="12626"/>
                </a:cubicBezTo>
                <a:cubicBezTo>
                  <a:pt x="15867" y="12626"/>
                  <a:pt x="15809" y="12626"/>
                  <a:pt x="15751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93960" y="4660920"/>
            <a:ext cx="293760" cy="233280"/>
          </a:xfrm>
          <a:custGeom>
            <a:avLst/>
            <a:gdLst/>
            <a:ahLst/>
            <a:rect l="l" t="t" r="r" b="b"/>
            <a:pathLst>
              <a:path w="819" h="646">
                <a:moveTo>
                  <a:pt x="5358" y="13320"/>
                </a:moveTo>
                <a:cubicBezTo>
                  <a:pt x="5373" y="13300"/>
                  <a:pt x="5404" y="13251"/>
                  <a:pt x="5407" y="13246"/>
                </a:cubicBezTo>
                <a:cubicBezTo>
                  <a:pt x="5407" y="13221"/>
                  <a:pt x="5407" y="13213"/>
                  <a:pt x="5407" y="13196"/>
                </a:cubicBezTo>
                <a:cubicBezTo>
                  <a:pt x="5361" y="13196"/>
                  <a:pt x="5336" y="13204"/>
                  <a:pt x="5308" y="13246"/>
                </a:cubicBezTo>
                <a:cubicBezTo>
                  <a:pt x="5268" y="13307"/>
                  <a:pt x="5244" y="13396"/>
                  <a:pt x="5259" y="13469"/>
                </a:cubicBezTo>
                <a:cubicBezTo>
                  <a:pt x="5268" y="13511"/>
                  <a:pt x="5311" y="13622"/>
                  <a:pt x="5383" y="13593"/>
                </a:cubicBezTo>
                <a:cubicBezTo>
                  <a:pt x="5445" y="13568"/>
                  <a:pt x="5432" y="13496"/>
                  <a:pt x="5432" y="13444"/>
                </a:cubicBezTo>
                <a:cubicBezTo>
                  <a:pt x="5432" y="13403"/>
                  <a:pt x="5432" y="13361"/>
                  <a:pt x="5432" y="13320"/>
                </a:cubicBezTo>
                <a:cubicBezTo>
                  <a:pt x="5479" y="13367"/>
                  <a:pt x="5532" y="13403"/>
                  <a:pt x="5581" y="13444"/>
                </a:cubicBezTo>
                <a:cubicBezTo>
                  <a:pt x="5626" y="13489"/>
                  <a:pt x="5635" y="13506"/>
                  <a:pt x="5680" y="13494"/>
                </a:cubicBezTo>
              </a:path>
              <a:path w="819" h="646">
                <a:moveTo>
                  <a:pt x="5804" y="13022"/>
                </a:moveTo>
                <a:cubicBezTo>
                  <a:pt x="5779" y="13022"/>
                  <a:pt x="5771" y="13022"/>
                  <a:pt x="5779" y="12998"/>
                </a:cubicBezTo>
                <a:cubicBezTo>
                  <a:pt x="5789" y="12969"/>
                  <a:pt x="5813" y="12953"/>
                  <a:pt x="5854" y="12948"/>
                </a:cubicBezTo>
                <a:cubicBezTo>
                  <a:pt x="5895" y="12943"/>
                  <a:pt x="5926" y="12986"/>
                  <a:pt x="5928" y="13022"/>
                </a:cubicBezTo>
                <a:cubicBezTo>
                  <a:pt x="5934" y="13108"/>
                  <a:pt x="5871" y="13123"/>
                  <a:pt x="5854" y="13196"/>
                </a:cubicBezTo>
                <a:cubicBezTo>
                  <a:pt x="5848" y="13222"/>
                  <a:pt x="5854" y="13266"/>
                  <a:pt x="5854" y="13295"/>
                </a:cubicBezTo>
                <a:cubicBezTo>
                  <a:pt x="5916" y="13295"/>
                  <a:pt x="5947" y="13297"/>
                  <a:pt x="6003" y="13271"/>
                </a:cubicBezTo>
                <a:cubicBezTo>
                  <a:pt x="6046" y="13249"/>
                  <a:pt x="6058" y="13245"/>
                  <a:pt x="6077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4786200"/>
            <a:ext cx="88920" cy="637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6821" y="13320"/>
                </a:moveTo>
                <a:cubicBezTo>
                  <a:pt x="6821" y="13312"/>
                  <a:pt x="6821" y="13303"/>
                  <a:pt x="6821" y="13295"/>
                </a:cubicBezTo>
                <a:cubicBezTo>
                  <a:pt x="6739" y="13295"/>
                  <a:pt x="6667" y="13297"/>
                  <a:pt x="6598" y="13320"/>
                </a:cubicBezTo>
                <a:cubicBezTo>
                  <a:pt x="6590" y="13320"/>
                  <a:pt x="6581" y="13320"/>
                  <a:pt x="6573" y="13320"/>
                </a:cubicBezTo>
              </a:path>
              <a:path w="249" h="175">
                <a:moveTo>
                  <a:pt x="6796" y="13419"/>
                </a:moveTo>
                <a:cubicBezTo>
                  <a:pt x="6804" y="13427"/>
                  <a:pt x="6813" y="13436"/>
                  <a:pt x="6821" y="13444"/>
                </a:cubicBezTo>
                <a:cubicBezTo>
                  <a:pt x="6771" y="13457"/>
                  <a:pt x="6758" y="13469"/>
                  <a:pt x="6697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43120" y="4714920"/>
            <a:ext cx="277920" cy="206280"/>
          </a:xfrm>
          <a:custGeom>
            <a:avLst/>
            <a:gdLst/>
            <a:ahLst/>
            <a:rect l="l" t="t" r="r" b="b"/>
            <a:pathLst>
              <a:path w="770" h="571">
                <a:moveTo>
                  <a:pt x="7392" y="13246"/>
                </a:moveTo>
                <a:cubicBezTo>
                  <a:pt x="7367" y="13246"/>
                  <a:pt x="7359" y="13246"/>
                  <a:pt x="7342" y="13246"/>
                </a:cubicBezTo>
                <a:cubicBezTo>
                  <a:pt x="7342" y="13173"/>
                  <a:pt x="7379" y="13156"/>
                  <a:pt x="7441" y="13122"/>
                </a:cubicBezTo>
                <a:cubicBezTo>
                  <a:pt x="7501" y="13089"/>
                  <a:pt x="7569" y="13082"/>
                  <a:pt x="7615" y="13146"/>
                </a:cubicBezTo>
                <a:cubicBezTo>
                  <a:pt x="7673" y="13226"/>
                  <a:pt x="7628" y="13295"/>
                  <a:pt x="7590" y="13370"/>
                </a:cubicBezTo>
                <a:cubicBezTo>
                  <a:pt x="7561" y="13426"/>
                  <a:pt x="7498" y="13434"/>
                  <a:pt x="7491" y="13494"/>
                </a:cubicBezTo>
                <a:cubicBezTo>
                  <a:pt x="7491" y="13502"/>
                  <a:pt x="7491" y="13511"/>
                  <a:pt x="7491" y="13519"/>
                </a:cubicBezTo>
                <a:cubicBezTo>
                  <a:pt x="7542" y="13519"/>
                  <a:pt x="7649" y="13497"/>
                  <a:pt x="7689" y="13543"/>
                </a:cubicBezTo>
                <a:cubicBezTo>
                  <a:pt x="7717" y="13575"/>
                  <a:pt x="7673" y="13612"/>
                  <a:pt x="7665" y="13618"/>
                </a:cubicBezTo>
                <a:cubicBezTo>
                  <a:pt x="7611" y="13659"/>
                  <a:pt x="7584" y="13667"/>
                  <a:pt x="7516" y="13667"/>
                </a:cubicBezTo>
                <a:cubicBezTo>
                  <a:pt x="7474" y="13667"/>
                  <a:pt x="7466" y="13667"/>
                  <a:pt x="7441" y="13667"/>
                </a:cubicBezTo>
              </a:path>
              <a:path w="770" h="571">
                <a:moveTo>
                  <a:pt x="8012" y="13171"/>
                </a:moveTo>
                <a:cubicBezTo>
                  <a:pt x="8055" y="13171"/>
                  <a:pt x="8050" y="13181"/>
                  <a:pt x="8062" y="13146"/>
                </a:cubicBezTo>
                <a:cubicBezTo>
                  <a:pt x="8048" y="13106"/>
                  <a:pt x="7994" y="13135"/>
                  <a:pt x="7962" y="13171"/>
                </a:cubicBezTo>
                <a:cubicBezTo>
                  <a:pt x="7891" y="13252"/>
                  <a:pt x="7866" y="13366"/>
                  <a:pt x="7863" y="13469"/>
                </a:cubicBezTo>
                <a:cubicBezTo>
                  <a:pt x="7859" y="13584"/>
                  <a:pt x="7868" y="13636"/>
                  <a:pt x="7987" y="13643"/>
                </a:cubicBezTo>
                <a:cubicBezTo>
                  <a:pt x="8047" y="13646"/>
                  <a:pt x="8068" y="13628"/>
                  <a:pt x="8111" y="13593"/>
                </a:cubicBezTo>
                <a:cubicBezTo>
                  <a:pt x="8101" y="13552"/>
                  <a:pt x="8083" y="13524"/>
                  <a:pt x="8037" y="13519"/>
                </a:cubicBezTo>
                <a:cubicBezTo>
                  <a:pt x="7994" y="13514"/>
                  <a:pt x="7959" y="13543"/>
                  <a:pt x="7913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4240" y="476892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8731" y="13345"/>
                </a:moveTo>
                <a:cubicBezTo>
                  <a:pt x="8731" y="13320"/>
                  <a:pt x="8731" y="13312"/>
                  <a:pt x="8756" y="13320"/>
                </a:cubicBezTo>
                <a:cubicBezTo>
                  <a:pt x="8711" y="13331"/>
                  <a:pt x="8686" y="13345"/>
                  <a:pt x="8632" y="13345"/>
                </a:cubicBezTo>
                <a:cubicBezTo>
                  <a:pt x="8566" y="13345"/>
                  <a:pt x="8560" y="13353"/>
                  <a:pt x="8508" y="13370"/>
                </a:cubicBezTo>
                <a:cubicBezTo>
                  <a:pt x="8500" y="13370"/>
                  <a:pt x="8491" y="13370"/>
                  <a:pt x="8483" y="13370"/>
                </a:cubicBezTo>
              </a:path>
              <a:path w="274" h="323">
                <a:moveTo>
                  <a:pt x="8558" y="13246"/>
                </a:moveTo>
                <a:cubicBezTo>
                  <a:pt x="8582" y="13246"/>
                  <a:pt x="8591" y="13246"/>
                  <a:pt x="8607" y="13246"/>
                </a:cubicBezTo>
                <a:cubicBezTo>
                  <a:pt x="8607" y="13356"/>
                  <a:pt x="8593" y="13467"/>
                  <a:pt x="8632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30720" y="4687920"/>
            <a:ext cx="27756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9351" y="13122"/>
                </a:moveTo>
                <a:cubicBezTo>
                  <a:pt x="9391" y="13112"/>
                  <a:pt x="9414" y="13085"/>
                  <a:pt x="9451" y="13072"/>
                </a:cubicBezTo>
                <a:cubicBezTo>
                  <a:pt x="9485" y="13060"/>
                  <a:pt x="9475" y="13064"/>
                  <a:pt x="9475" y="13022"/>
                </a:cubicBezTo>
                <a:cubicBezTo>
                  <a:pt x="9421" y="13022"/>
                  <a:pt x="9391" y="13034"/>
                  <a:pt x="9351" y="13072"/>
                </a:cubicBezTo>
                <a:cubicBezTo>
                  <a:pt x="9286" y="13134"/>
                  <a:pt x="9252" y="13157"/>
                  <a:pt x="9252" y="13246"/>
                </a:cubicBezTo>
                <a:cubicBezTo>
                  <a:pt x="9252" y="13314"/>
                  <a:pt x="9293" y="13333"/>
                  <a:pt x="9351" y="13345"/>
                </a:cubicBezTo>
                <a:cubicBezTo>
                  <a:pt x="9420" y="13359"/>
                  <a:pt x="9488" y="13376"/>
                  <a:pt x="9550" y="13419"/>
                </a:cubicBezTo>
                <a:cubicBezTo>
                  <a:pt x="9588" y="13445"/>
                  <a:pt x="9592" y="13517"/>
                  <a:pt x="9550" y="13543"/>
                </a:cubicBezTo>
                <a:cubicBezTo>
                  <a:pt x="9515" y="13564"/>
                  <a:pt x="9429" y="13536"/>
                  <a:pt x="9401" y="13519"/>
                </a:cubicBezTo>
                <a:cubicBezTo>
                  <a:pt x="9356" y="13492"/>
                  <a:pt x="9367" y="13403"/>
                  <a:pt x="9401" y="13370"/>
                </a:cubicBezTo>
                <a:cubicBezTo>
                  <a:pt x="9454" y="13317"/>
                  <a:pt x="9513" y="13270"/>
                  <a:pt x="9575" y="13221"/>
                </a:cubicBezTo>
                <a:cubicBezTo>
                  <a:pt x="9610" y="13194"/>
                  <a:pt x="9630" y="13180"/>
                  <a:pt x="9674" y="13171"/>
                </a:cubicBezTo>
              </a:path>
              <a:path w="770" h="547">
                <a:moveTo>
                  <a:pt x="9971" y="13122"/>
                </a:moveTo>
                <a:cubicBezTo>
                  <a:pt x="9979" y="13105"/>
                  <a:pt x="9988" y="13089"/>
                  <a:pt x="9996" y="13072"/>
                </a:cubicBezTo>
                <a:cubicBezTo>
                  <a:pt x="9996" y="13150"/>
                  <a:pt x="9973" y="13216"/>
                  <a:pt x="9971" y="13295"/>
                </a:cubicBezTo>
                <a:cubicBezTo>
                  <a:pt x="9968" y="13402"/>
                  <a:pt x="9962" y="13480"/>
                  <a:pt x="10021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40120" y="4822920"/>
            <a:ext cx="71640" cy="442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10666" y="13519"/>
                </a:moveTo>
                <a:cubicBezTo>
                  <a:pt x="10679" y="13467"/>
                  <a:pt x="10703" y="13469"/>
                  <a:pt x="10740" y="13444"/>
                </a:cubicBezTo>
                <a:cubicBezTo>
                  <a:pt x="10786" y="13413"/>
                  <a:pt x="10805" y="13403"/>
                  <a:pt x="10864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6240" y="4768920"/>
            <a:ext cx="455760" cy="187200"/>
          </a:xfrm>
          <a:custGeom>
            <a:avLst/>
            <a:gdLst/>
            <a:ahLst/>
            <a:rect l="l" t="t" r="r" b="b"/>
            <a:pathLst>
              <a:path w="1266" h="522">
                <a:moveTo>
                  <a:pt x="11435" y="13320"/>
                </a:moveTo>
                <a:cubicBezTo>
                  <a:pt x="11440" y="13300"/>
                  <a:pt x="11460" y="13216"/>
                  <a:pt x="11460" y="13271"/>
                </a:cubicBezTo>
                <a:cubicBezTo>
                  <a:pt x="11460" y="13400"/>
                  <a:pt x="11463" y="13518"/>
                  <a:pt x="11485" y="13643"/>
                </a:cubicBezTo>
                <a:cubicBezTo>
                  <a:pt x="11485" y="13651"/>
                  <a:pt x="11485" y="13659"/>
                  <a:pt x="11485" y="13667"/>
                </a:cubicBezTo>
              </a:path>
              <a:path w="1266" h="522">
                <a:moveTo>
                  <a:pt x="11733" y="13444"/>
                </a:moveTo>
                <a:cubicBezTo>
                  <a:pt x="11719" y="13403"/>
                  <a:pt x="11689" y="13420"/>
                  <a:pt x="11733" y="13370"/>
                </a:cubicBezTo>
                <a:cubicBezTo>
                  <a:pt x="11770" y="13328"/>
                  <a:pt x="11828" y="13345"/>
                  <a:pt x="11881" y="13345"/>
                </a:cubicBezTo>
                <a:cubicBezTo>
                  <a:pt x="11974" y="13345"/>
                  <a:pt x="12014" y="13434"/>
                  <a:pt x="12030" y="13519"/>
                </a:cubicBezTo>
                <a:cubicBezTo>
                  <a:pt x="12045" y="13595"/>
                  <a:pt x="11997" y="13661"/>
                  <a:pt x="11931" y="13667"/>
                </a:cubicBezTo>
                <a:cubicBezTo>
                  <a:pt x="11853" y="13674"/>
                  <a:pt x="11772" y="13638"/>
                  <a:pt x="11708" y="13593"/>
                </a:cubicBezTo>
                <a:cubicBezTo>
                  <a:pt x="11685" y="13570"/>
                  <a:pt x="11677" y="13566"/>
                  <a:pt x="11683" y="13543"/>
                </a:cubicBezTo>
              </a:path>
              <a:path w="1266" h="522">
                <a:moveTo>
                  <a:pt x="12477" y="13345"/>
                </a:moveTo>
                <a:cubicBezTo>
                  <a:pt x="12514" y="13329"/>
                  <a:pt x="12563" y="13302"/>
                  <a:pt x="12576" y="13295"/>
                </a:cubicBezTo>
                <a:cubicBezTo>
                  <a:pt x="12584" y="13295"/>
                  <a:pt x="12593" y="13295"/>
                  <a:pt x="12601" y="13295"/>
                </a:cubicBezTo>
                <a:cubicBezTo>
                  <a:pt x="12588" y="13259"/>
                  <a:pt x="12570" y="13271"/>
                  <a:pt x="12526" y="13271"/>
                </a:cubicBezTo>
                <a:cubicBezTo>
                  <a:pt x="12451" y="13271"/>
                  <a:pt x="12396" y="13307"/>
                  <a:pt x="12353" y="13370"/>
                </a:cubicBezTo>
                <a:cubicBezTo>
                  <a:pt x="12320" y="13419"/>
                  <a:pt x="12316" y="13453"/>
                  <a:pt x="12353" y="13494"/>
                </a:cubicBezTo>
                <a:cubicBezTo>
                  <a:pt x="12399" y="13545"/>
                  <a:pt x="12471" y="13555"/>
                  <a:pt x="12526" y="13593"/>
                </a:cubicBezTo>
                <a:cubicBezTo>
                  <a:pt x="12577" y="13629"/>
                  <a:pt x="12621" y="13648"/>
                  <a:pt x="12626" y="13717"/>
                </a:cubicBezTo>
                <a:cubicBezTo>
                  <a:pt x="12626" y="13734"/>
                  <a:pt x="12626" y="13750"/>
                  <a:pt x="12626" y="13767"/>
                </a:cubicBezTo>
                <a:cubicBezTo>
                  <a:pt x="12575" y="13767"/>
                  <a:pt x="12492" y="13785"/>
                  <a:pt x="12452" y="13742"/>
                </a:cubicBezTo>
                <a:cubicBezTo>
                  <a:pt x="12403" y="13689"/>
                  <a:pt x="12444" y="13592"/>
                  <a:pt x="12477" y="13543"/>
                </a:cubicBezTo>
                <a:cubicBezTo>
                  <a:pt x="12531" y="13462"/>
                  <a:pt x="12613" y="13414"/>
                  <a:pt x="12700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3840" y="4848120"/>
            <a:ext cx="447480" cy="135000"/>
          </a:xfrm>
          <a:custGeom>
            <a:avLst/>
            <a:gdLst/>
            <a:ahLst/>
            <a:rect l="l" t="t" r="r" b="b"/>
            <a:pathLst>
              <a:path w="1241" h="373">
                <a:moveTo>
                  <a:pt x="13469" y="13692"/>
                </a:moveTo>
                <a:cubicBezTo>
                  <a:pt x="13480" y="13667"/>
                  <a:pt x="13527" y="13586"/>
                  <a:pt x="13469" y="13568"/>
                </a:cubicBezTo>
                <a:cubicBezTo>
                  <a:pt x="13408" y="13549"/>
                  <a:pt x="13359" y="13582"/>
                  <a:pt x="13345" y="13643"/>
                </a:cubicBezTo>
                <a:cubicBezTo>
                  <a:pt x="13330" y="13708"/>
                  <a:pt x="13381" y="13777"/>
                  <a:pt x="13444" y="13791"/>
                </a:cubicBezTo>
                <a:cubicBezTo>
                  <a:pt x="13494" y="13791"/>
                  <a:pt x="13510" y="13791"/>
                  <a:pt x="13543" y="13791"/>
                </a:cubicBezTo>
              </a:path>
              <a:path w="1241" h="373">
                <a:moveTo>
                  <a:pt x="13692" y="13643"/>
                </a:moveTo>
                <a:cubicBezTo>
                  <a:pt x="13730" y="13630"/>
                  <a:pt x="13721" y="13621"/>
                  <a:pt x="13742" y="13593"/>
                </a:cubicBezTo>
                <a:cubicBezTo>
                  <a:pt x="13774" y="13551"/>
                  <a:pt x="13840" y="13526"/>
                  <a:pt x="13891" y="13543"/>
                </a:cubicBezTo>
                <a:cubicBezTo>
                  <a:pt x="13948" y="13562"/>
                  <a:pt x="13980" y="13609"/>
                  <a:pt x="13990" y="13667"/>
                </a:cubicBezTo>
                <a:cubicBezTo>
                  <a:pt x="13999" y="13718"/>
                  <a:pt x="13960" y="13757"/>
                  <a:pt x="13915" y="13767"/>
                </a:cubicBezTo>
                <a:cubicBezTo>
                  <a:pt x="13846" y="13782"/>
                  <a:pt x="13720" y="13782"/>
                  <a:pt x="13667" y="13742"/>
                </a:cubicBezTo>
              </a:path>
              <a:path w="1241" h="373">
                <a:moveTo>
                  <a:pt x="14412" y="13543"/>
                </a:moveTo>
                <a:cubicBezTo>
                  <a:pt x="14470" y="13509"/>
                  <a:pt x="14498" y="13507"/>
                  <a:pt x="14511" y="13469"/>
                </a:cubicBezTo>
                <a:cubicBezTo>
                  <a:pt x="14477" y="13476"/>
                  <a:pt x="14388" y="13491"/>
                  <a:pt x="14362" y="13519"/>
                </a:cubicBezTo>
                <a:cubicBezTo>
                  <a:pt x="14316" y="13568"/>
                  <a:pt x="14339" y="13612"/>
                  <a:pt x="14387" y="13643"/>
                </a:cubicBezTo>
                <a:cubicBezTo>
                  <a:pt x="14435" y="13673"/>
                  <a:pt x="14511" y="13722"/>
                  <a:pt x="14560" y="13742"/>
                </a:cubicBezTo>
                <a:cubicBezTo>
                  <a:pt x="14649" y="13778"/>
                  <a:pt x="14543" y="13805"/>
                  <a:pt x="14511" y="13816"/>
                </a:cubicBezTo>
                <a:cubicBezTo>
                  <a:pt x="14494" y="13824"/>
                  <a:pt x="14478" y="13833"/>
                  <a:pt x="14461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37160" y="485784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5677" y="13593"/>
                </a:moveTo>
                <a:cubicBezTo>
                  <a:pt x="15704" y="13584"/>
                  <a:pt x="15723" y="13542"/>
                  <a:pt x="15677" y="13519"/>
                </a:cubicBezTo>
                <a:cubicBezTo>
                  <a:pt x="15630" y="13496"/>
                  <a:pt x="15562" y="13480"/>
                  <a:pt x="15503" y="13494"/>
                </a:cubicBezTo>
                <a:cubicBezTo>
                  <a:pt x="15459" y="13504"/>
                  <a:pt x="15354" y="13554"/>
                  <a:pt x="15379" y="13618"/>
                </a:cubicBezTo>
                <a:cubicBezTo>
                  <a:pt x="15406" y="13684"/>
                  <a:pt x="15508" y="13676"/>
                  <a:pt x="15553" y="13643"/>
                </a:cubicBezTo>
                <a:cubicBezTo>
                  <a:pt x="15565" y="13634"/>
                  <a:pt x="15667" y="13524"/>
                  <a:pt x="15701" y="13568"/>
                </a:cubicBezTo>
                <a:cubicBezTo>
                  <a:pt x="15737" y="13615"/>
                  <a:pt x="15726" y="13734"/>
                  <a:pt x="15726" y="13791"/>
                </a:cubicBezTo>
                <a:cubicBezTo>
                  <a:pt x="15726" y="13807"/>
                  <a:pt x="15734" y="13951"/>
                  <a:pt x="15751" y="13965"/>
                </a:cubicBezTo>
                <a:cubicBezTo>
                  <a:pt x="15759" y="13965"/>
                  <a:pt x="15768" y="13965"/>
                  <a:pt x="15776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3280" y="4822920"/>
            <a:ext cx="295560" cy="222120"/>
          </a:xfrm>
          <a:custGeom>
            <a:avLst/>
            <a:gdLst/>
            <a:ahLst/>
            <a:rect l="l" t="t" r="r" b="b"/>
            <a:pathLst>
              <a:path w="819" h="621">
                <a:moveTo>
                  <a:pt x="16222" y="13593"/>
                </a:moveTo>
                <a:cubicBezTo>
                  <a:pt x="16242" y="13553"/>
                  <a:pt x="16251" y="13546"/>
                  <a:pt x="16247" y="13519"/>
                </a:cubicBezTo>
                <a:cubicBezTo>
                  <a:pt x="16209" y="13547"/>
                  <a:pt x="16168" y="13568"/>
                  <a:pt x="16148" y="13618"/>
                </a:cubicBezTo>
                <a:cubicBezTo>
                  <a:pt x="16116" y="13698"/>
                  <a:pt x="16192" y="13714"/>
                  <a:pt x="16247" y="13742"/>
                </a:cubicBezTo>
                <a:cubicBezTo>
                  <a:pt x="16306" y="13772"/>
                  <a:pt x="16389" y="13802"/>
                  <a:pt x="16421" y="13866"/>
                </a:cubicBezTo>
                <a:cubicBezTo>
                  <a:pt x="16441" y="13905"/>
                  <a:pt x="16421" y="13962"/>
                  <a:pt x="16396" y="13990"/>
                </a:cubicBezTo>
                <a:cubicBezTo>
                  <a:pt x="16354" y="14037"/>
                  <a:pt x="16271" y="14021"/>
                  <a:pt x="16222" y="13990"/>
                </a:cubicBezTo>
                <a:cubicBezTo>
                  <a:pt x="16214" y="13982"/>
                  <a:pt x="16205" y="13973"/>
                  <a:pt x="16197" y="13965"/>
                </a:cubicBezTo>
              </a:path>
              <a:path w="819" h="621">
                <a:moveTo>
                  <a:pt x="16346" y="13568"/>
                </a:moveTo>
                <a:cubicBezTo>
                  <a:pt x="16402" y="13513"/>
                  <a:pt x="16446" y="13473"/>
                  <a:pt x="16520" y="13444"/>
                </a:cubicBezTo>
                <a:cubicBezTo>
                  <a:pt x="16622" y="13404"/>
                  <a:pt x="16757" y="13398"/>
                  <a:pt x="16867" y="13395"/>
                </a:cubicBezTo>
                <a:cubicBezTo>
                  <a:pt x="16900" y="13395"/>
                  <a:pt x="16933" y="13395"/>
                  <a:pt x="16966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63800" y="5153040"/>
            <a:ext cx="322200" cy="187200"/>
          </a:xfrm>
          <a:custGeom>
            <a:avLst/>
            <a:gdLst/>
            <a:ahLst/>
            <a:rect l="l" t="t" r="r" b="b"/>
            <a:pathLst>
              <a:path w="894" h="522">
                <a:moveTo>
                  <a:pt x="5606" y="14536"/>
                </a:moveTo>
                <a:cubicBezTo>
                  <a:pt x="5642" y="14509"/>
                  <a:pt x="5644" y="14520"/>
                  <a:pt x="5655" y="14486"/>
                </a:cubicBezTo>
                <a:cubicBezTo>
                  <a:pt x="5587" y="14486"/>
                  <a:pt x="5566" y="14500"/>
                  <a:pt x="5531" y="14560"/>
                </a:cubicBezTo>
                <a:cubicBezTo>
                  <a:pt x="5501" y="14611"/>
                  <a:pt x="5443" y="14697"/>
                  <a:pt x="5457" y="14759"/>
                </a:cubicBezTo>
                <a:cubicBezTo>
                  <a:pt x="5470" y="14815"/>
                  <a:pt x="5540" y="14866"/>
                  <a:pt x="5581" y="14808"/>
                </a:cubicBezTo>
                <a:cubicBezTo>
                  <a:pt x="5625" y="14745"/>
                  <a:pt x="5627" y="14670"/>
                  <a:pt x="5655" y="14610"/>
                </a:cubicBezTo>
                <a:cubicBezTo>
                  <a:pt x="5663" y="14602"/>
                  <a:pt x="5672" y="14593"/>
                  <a:pt x="5680" y="14585"/>
                </a:cubicBezTo>
                <a:cubicBezTo>
                  <a:pt x="5727" y="14632"/>
                  <a:pt x="5750" y="14675"/>
                  <a:pt x="5779" y="14734"/>
                </a:cubicBezTo>
                <a:cubicBezTo>
                  <a:pt x="5801" y="14778"/>
                  <a:pt x="5804" y="14789"/>
                  <a:pt x="5829" y="14808"/>
                </a:cubicBezTo>
              </a:path>
              <a:path w="894" h="522">
                <a:moveTo>
                  <a:pt x="6052" y="14337"/>
                </a:moveTo>
                <a:cubicBezTo>
                  <a:pt x="6017" y="14364"/>
                  <a:pt x="6022" y="14362"/>
                  <a:pt x="5978" y="14362"/>
                </a:cubicBezTo>
                <a:cubicBezTo>
                  <a:pt x="6021" y="14329"/>
                  <a:pt x="6045" y="14317"/>
                  <a:pt x="6102" y="14312"/>
                </a:cubicBezTo>
                <a:cubicBezTo>
                  <a:pt x="6144" y="14308"/>
                  <a:pt x="6173" y="14350"/>
                  <a:pt x="6176" y="14387"/>
                </a:cubicBezTo>
                <a:cubicBezTo>
                  <a:pt x="6182" y="14467"/>
                  <a:pt x="6129" y="14450"/>
                  <a:pt x="6102" y="14511"/>
                </a:cubicBezTo>
                <a:cubicBezTo>
                  <a:pt x="6091" y="14535"/>
                  <a:pt x="6098" y="14601"/>
                  <a:pt x="6127" y="14610"/>
                </a:cubicBezTo>
                <a:cubicBezTo>
                  <a:pt x="6201" y="14633"/>
                  <a:pt x="6243" y="14551"/>
                  <a:pt x="6300" y="14536"/>
                </a:cubicBezTo>
                <a:cubicBezTo>
                  <a:pt x="6317" y="14536"/>
                  <a:pt x="6333" y="14536"/>
                  <a:pt x="6350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73200" y="5241960"/>
            <a:ext cx="108000" cy="6192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7045" y="14560"/>
                </a:moveTo>
                <a:cubicBezTo>
                  <a:pt x="7069" y="14560"/>
                  <a:pt x="7078" y="14560"/>
                  <a:pt x="7094" y="14560"/>
                </a:cubicBezTo>
                <a:cubicBezTo>
                  <a:pt x="7039" y="14560"/>
                  <a:pt x="7023" y="14572"/>
                  <a:pt x="6970" y="14585"/>
                </a:cubicBezTo>
                <a:cubicBezTo>
                  <a:pt x="6931" y="14595"/>
                  <a:pt x="6916" y="14610"/>
                  <a:pt x="6871" y="14610"/>
                </a:cubicBezTo>
              </a:path>
              <a:path w="299" h="175">
                <a:moveTo>
                  <a:pt x="7094" y="14684"/>
                </a:moveTo>
                <a:cubicBezTo>
                  <a:pt x="7136" y="14684"/>
                  <a:pt x="7144" y="14684"/>
                  <a:pt x="7169" y="14684"/>
                </a:cubicBezTo>
                <a:cubicBezTo>
                  <a:pt x="7160" y="14712"/>
                  <a:pt x="7104" y="14727"/>
                  <a:pt x="7069" y="14734"/>
                </a:cubicBezTo>
                <a:cubicBezTo>
                  <a:pt x="7020" y="14734"/>
                  <a:pt x="7003" y="14734"/>
                  <a:pt x="6970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03680" y="5180040"/>
            <a:ext cx="928440" cy="222120"/>
          </a:xfrm>
          <a:custGeom>
            <a:avLst/>
            <a:gdLst/>
            <a:ahLst/>
            <a:rect l="l" t="t" r="r" b="b"/>
            <a:pathLst>
              <a:path w="2580" h="621">
                <a:moveTo>
                  <a:pt x="7813" y="14486"/>
                </a:moveTo>
                <a:cubicBezTo>
                  <a:pt x="7813" y="14458"/>
                  <a:pt x="7811" y="14447"/>
                  <a:pt x="7789" y="14436"/>
                </a:cubicBezTo>
                <a:cubicBezTo>
                  <a:pt x="7789" y="14525"/>
                  <a:pt x="7793" y="14596"/>
                  <a:pt x="7813" y="14684"/>
                </a:cubicBezTo>
                <a:cubicBezTo>
                  <a:pt x="7831" y="14764"/>
                  <a:pt x="7838" y="14833"/>
                  <a:pt x="7863" y="14908"/>
                </a:cubicBezTo>
              </a:path>
              <a:path w="2580" h="621">
                <a:moveTo>
                  <a:pt x="8062" y="14585"/>
                </a:moveTo>
                <a:cubicBezTo>
                  <a:pt x="8062" y="14522"/>
                  <a:pt x="8050" y="14521"/>
                  <a:pt x="8111" y="14486"/>
                </a:cubicBezTo>
                <a:cubicBezTo>
                  <a:pt x="8152" y="14463"/>
                  <a:pt x="8267" y="14434"/>
                  <a:pt x="8310" y="14461"/>
                </a:cubicBezTo>
                <a:cubicBezTo>
                  <a:pt x="8389" y="14511"/>
                  <a:pt x="8364" y="14589"/>
                  <a:pt x="8334" y="14660"/>
                </a:cubicBezTo>
                <a:cubicBezTo>
                  <a:pt x="8310" y="14718"/>
                  <a:pt x="8266" y="14771"/>
                  <a:pt x="8260" y="14833"/>
                </a:cubicBezTo>
                <a:cubicBezTo>
                  <a:pt x="8255" y="14879"/>
                  <a:pt x="8262" y="14903"/>
                  <a:pt x="8310" y="14908"/>
                </a:cubicBezTo>
                <a:cubicBezTo>
                  <a:pt x="8374" y="14915"/>
                  <a:pt x="8591" y="14931"/>
                  <a:pt x="8607" y="14883"/>
                </a:cubicBezTo>
              </a:path>
              <a:path w="2580" h="621">
                <a:moveTo>
                  <a:pt x="8880" y="14436"/>
                </a:moveTo>
                <a:cubicBezTo>
                  <a:pt x="8888" y="14420"/>
                  <a:pt x="8897" y="14403"/>
                  <a:pt x="8905" y="14387"/>
                </a:cubicBezTo>
                <a:cubicBezTo>
                  <a:pt x="8828" y="14464"/>
                  <a:pt x="8810" y="14530"/>
                  <a:pt x="8781" y="14635"/>
                </a:cubicBezTo>
                <a:cubicBezTo>
                  <a:pt x="8757" y="14722"/>
                  <a:pt x="8754" y="14879"/>
                  <a:pt x="8855" y="14932"/>
                </a:cubicBezTo>
                <a:cubicBezTo>
                  <a:pt x="8910" y="14961"/>
                  <a:pt x="8985" y="14934"/>
                  <a:pt x="9004" y="14883"/>
                </a:cubicBezTo>
                <a:cubicBezTo>
                  <a:pt x="9004" y="14858"/>
                  <a:pt x="9004" y="14850"/>
                  <a:pt x="9004" y="14833"/>
                </a:cubicBezTo>
                <a:cubicBezTo>
                  <a:pt x="8960" y="14807"/>
                  <a:pt x="8933" y="14808"/>
                  <a:pt x="8880" y="14808"/>
                </a:cubicBezTo>
                <a:cubicBezTo>
                  <a:pt x="8797" y="14808"/>
                  <a:pt x="8857" y="14815"/>
                  <a:pt x="8806" y="14833"/>
                </a:cubicBezTo>
              </a:path>
              <a:path w="2580" h="621">
                <a:moveTo>
                  <a:pt x="9252" y="14833"/>
                </a:moveTo>
                <a:cubicBezTo>
                  <a:pt x="9323" y="14862"/>
                  <a:pt x="9336" y="14845"/>
                  <a:pt x="9351" y="14908"/>
                </a:cubicBezTo>
              </a:path>
              <a:path w="2580" h="621">
                <a:moveTo>
                  <a:pt x="9575" y="14536"/>
                </a:moveTo>
                <a:cubicBezTo>
                  <a:pt x="9583" y="14519"/>
                  <a:pt x="9591" y="14503"/>
                  <a:pt x="9599" y="14486"/>
                </a:cubicBezTo>
                <a:cubicBezTo>
                  <a:pt x="9599" y="14558"/>
                  <a:pt x="9578" y="14612"/>
                  <a:pt x="9575" y="14684"/>
                </a:cubicBezTo>
                <a:cubicBezTo>
                  <a:pt x="9573" y="14729"/>
                  <a:pt x="9594" y="14817"/>
                  <a:pt x="9649" y="14833"/>
                </a:cubicBezTo>
                <a:cubicBezTo>
                  <a:pt x="9784" y="14871"/>
                  <a:pt x="10162" y="14833"/>
                  <a:pt x="10021" y="14833"/>
                </a:cubicBezTo>
              </a:path>
              <a:path w="2580" h="621">
                <a:moveTo>
                  <a:pt x="9897" y="14734"/>
                </a:moveTo>
                <a:cubicBezTo>
                  <a:pt x="9845" y="14734"/>
                  <a:pt x="9834" y="14746"/>
                  <a:pt x="9823" y="14808"/>
                </a:cubicBezTo>
                <a:cubicBezTo>
                  <a:pt x="9809" y="14888"/>
                  <a:pt x="9824" y="14946"/>
                  <a:pt x="9872" y="15007"/>
                </a:cubicBezTo>
              </a:path>
              <a:path w="2580" h="621">
                <a:moveTo>
                  <a:pt x="10319" y="14511"/>
                </a:moveTo>
                <a:cubicBezTo>
                  <a:pt x="10355" y="14438"/>
                  <a:pt x="10372" y="14376"/>
                  <a:pt x="10368" y="14436"/>
                </a:cubicBezTo>
                <a:cubicBezTo>
                  <a:pt x="10356" y="14546"/>
                  <a:pt x="10322" y="14645"/>
                  <a:pt x="10319" y="14759"/>
                </a:cubicBezTo>
                <a:cubicBezTo>
                  <a:pt x="10319" y="14792"/>
                  <a:pt x="10319" y="14825"/>
                  <a:pt x="10319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160" y="5545080"/>
            <a:ext cx="115920" cy="9864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5854" y="15503"/>
                </a:moveTo>
                <a:cubicBezTo>
                  <a:pt x="5889" y="15450"/>
                  <a:pt x="5904" y="15461"/>
                  <a:pt x="5904" y="15404"/>
                </a:cubicBezTo>
                <a:cubicBezTo>
                  <a:pt x="5836" y="15418"/>
                  <a:pt x="5795" y="15455"/>
                  <a:pt x="5779" y="15528"/>
                </a:cubicBezTo>
                <a:cubicBezTo>
                  <a:pt x="5763" y="15598"/>
                  <a:pt x="5783" y="15631"/>
                  <a:pt x="5829" y="15677"/>
                </a:cubicBezTo>
                <a:cubicBezTo>
                  <a:pt x="5891" y="15652"/>
                  <a:pt x="5932" y="15598"/>
                  <a:pt x="5953" y="15528"/>
                </a:cubicBezTo>
                <a:cubicBezTo>
                  <a:pt x="5953" y="15520"/>
                  <a:pt x="5953" y="15511"/>
                  <a:pt x="5953" y="15503"/>
                </a:cubicBezTo>
                <a:cubicBezTo>
                  <a:pt x="6009" y="15522"/>
                  <a:pt x="6010" y="15571"/>
                  <a:pt x="6052" y="15627"/>
                </a:cubicBezTo>
                <a:cubicBezTo>
                  <a:pt x="6069" y="15644"/>
                  <a:pt x="6085" y="15660"/>
                  <a:pt x="6102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44840" y="5562720"/>
            <a:ext cx="7128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7243" y="15453"/>
                </a:moveTo>
                <a:cubicBezTo>
                  <a:pt x="7203" y="15453"/>
                  <a:pt x="7151" y="15459"/>
                  <a:pt x="7119" y="15478"/>
                </a:cubicBezTo>
                <a:cubicBezTo>
                  <a:pt x="7096" y="15501"/>
                  <a:pt x="7092" y="15509"/>
                  <a:pt x="7069" y="15503"/>
                </a:cubicBezTo>
              </a:path>
              <a:path w="200" h="150">
                <a:moveTo>
                  <a:pt x="7218" y="15577"/>
                </a:moveTo>
                <a:cubicBezTo>
                  <a:pt x="7259" y="15557"/>
                  <a:pt x="7286" y="15549"/>
                  <a:pt x="7243" y="15553"/>
                </a:cubicBezTo>
                <a:cubicBezTo>
                  <a:pt x="7229" y="15594"/>
                  <a:pt x="7195" y="15595"/>
                  <a:pt x="7144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2960" y="5537160"/>
            <a:ext cx="785880" cy="204840"/>
          </a:xfrm>
          <a:custGeom>
            <a:avLst/>
            <a:gdLst/>
            <a:ahLst/>
            <a:rect l="l" t="t" r="r" b="b"/>
            <a:pathLst>
              <a:path w="2184" h="571">
                <a:moveTo>
                  <a:pt x="8334" y="15503"/>
                </a:moveTo>
                <a:cubicBezTo>
                  <a:pt x="8312" y="15472"/>
                  <a:pt x="8289" y="15442"/>
                  <a:pt x="8285" y="15404"/>
                </a:cubicBezTo>
                <a:cubicBezTo>
                  <a:pt x="8285" y="15396"/>
                  <a:pt x="8285" y="15387"/>
                  <a:pt x="8285" y="15379"/>
                </a:cubicBezTo>
                <a:cubicBezTo>
                  <a:pt x="8285" y="15515"/>
                  <a:pt x="8292" y="15644"/>
                  <a:pt x="8310" y="15776"/>
                </a:cubicBezTo>
                <a:cubicBezTo>
                  <a:pt x="8310" y="15817"/>
                  <a:pt x="8310" y="15825"/>
                  <a:pt x="8310" y="15850"/>
                </a:cubicBezTo>
              </a:path>
              <a:path w="2184" h="571">
                <a:moveTo>
                  <a:pt x="8582" y="15478"/>
                </a:moveTo>
                <a:cubicBezTo>
                  <a:pt x="8599" y="15453"/>
                  <a:pt x="8615" y="15429"/>
                  <a:pt x="8632" y="15404"/>
                </a:cubicBezTo>
                <a:cubicBezTo>
                  <a:pt x="8632" y="15483"/>
                  <a:pt x="8614" y="15552"/>
                  <a:pt x="8607" y="15627"/>
                </a:cubicBezTo>
                <a:cubicBezTo>
                  <a:pt x="8596" y="15742"/>
                  <a:pt x="8607" y="15825"/>
                  <a:pt x="8657" y="15925"/>
                </a:cubicBezTo>
              </a:path>
              <a:path w="2184" h="571">
                <a:moveTo>
                  <a:pt x="8979" y="15776"/>
                </a:moveTo>
                <a:cubicBezTo>
                  <a:pt x="8979" y="15784"/>
                  <a:pt x="8979" y="15793"/>
                  <a:pt x="8979" y="15801"/>
                </a:cubicBezTo>
              </a:path>
              <a:path w="2184" h="571">
                <a:moveTo>
                  <a:pt x="9203" y="15503"/>
                </a:moveTo>
                <a:cubicBezTo>
                  <a:pt x="9218" y="15455"/>
                  <a:pt x="9251" y="15471"/>
                  <a:pt x="9302" y="15453"/>
                </a:cubicBezTo>
                <a:cubicBezTo>
                  <a:pt x="9365" y="15431"/>
                  <a:pt x="9359" y="15429"/>
                  <a:pt x="9426" y="15429"/>
                </a:cubicBezTo>
                <a:cubicBezTo>
                  <a:pt x="9426" y="15503"/>
                  <a:pt x="9428" y="15556"/>
                  <a:pt x="9401" y="15627"/>
                </a:cubicBezTo>
                <a:cubicBezTo>
                  <a:pt x="9374" y="15697"/>
                  <a:pt x="9307" y="15749"/>
                  <a:pt x="9302" y="15825"/>
                </a:cubicBezTo>
                <a:cubicBezTo>
                  <a:pt x="9297" y="15900"/>
                  <a:pt x="9299" y="15920"/>
                  <a:pt x="9376" y="15925"/>
                </a:cubicBezTo>
                <a:cubicBezTo>
                  <a:pt x="9507" y="15933"/>
                  <a:pt x="9641" y="15925"/>
                  <a:pt x="9773" y="15925"/>
                </a:cubicBezTo>
              </a:path>
              <a:path w="2184" h="571">
                <a:moveTo>
                  <a:pt x="9996" y="15677"/>
                </a:moveTo>
                <a:cubicBezTo>
                  <a:pt x="9996" y="15768"/>
                  <a:pt x="9996" y="15858"/>
                  <a:pt x="9996" y="15949"/>
                </a:cubicBezTo>
                <a:cubicBezTo>
                  <a:pt x="10030" y="15905"/>
                  <a:pt x="10060" y="15834"/>
                  <a:pt x="10071" y="15776"/>
                </a:cubicBezTo>
                <a:cubicBezTo>
                  <a:pt x="10083" y="15716"/>
                  <a:pt x="10090" y="15679"/>
                  <a:pt x="10145" y="15652"/>
                </a:cubicBezTo>
                <a:cubicBezTo>
                  <a:pt x="10169" y="15692"/>
                  <a:pt x="10171" y="15740"/>
                  <a:pt x="10195" y="15776"/>
                </a:cubicBezTo>
                <a:cubicBezTo>
                  <a:pt x="10203" y="15784"/>
                  <a:pt x="10212" y="15793"/>
                  <a:pt x="10220" y="15801"/>
                </a:cubicBezTo>
                <a:cubicBezTo>
                  <a:pt x="10261" y="15759"/>
                  <a:pt x="10302" y="15718"/>
                  <a:pt x="10344" y="15677"/>
                </a:cubicBezTo>
                <a:cubicBezTo>
                  <a:pt x="10392" y="15737"/>
                  <a:pt x="10426" y="15810"/>
                  <a:pt x="10468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4880" y="5518080"/>
            <a:ext cx="608040" cy="474840"/>
          </a:xfrm>
          <a:custGeom>
            <a:avLst/>
            <a:gdLst/>
            <a:ahLst/>
            <a:rect l="l" t="t" r="r" b="b"/>
            <a:pathLst>
              <a:path w="1688" h="1316">
                <a:moveTo>
                  <a:pt x="11981" y="15627"/>
                </a:moveTo>
                <a:cubicBezTo>
                  <a:pt x="11981" y="15619"/>
                  <a:pt x="11981" y="15610"/>
                  <a:pt x="11981" y="15602"/>
                </a:cubicBezTo>
                <a:cubicBezTo>
                  <a:pt x="12016" y="15614"/>
                  <a:pt x="12047" y="15702"/>
                  <a:pt x="12055" y="15751"/>
                </a:cubicBezTo>
                <a:cubicBezTo>
                  <a:pt x="12072" y="15857"/>
                  <a:pt x="12091" y="15968"/>
                  <a:pt x="12105" y="16073"/>
                </a:cubicBezTo>
                <a:cubicBezTo>
                  <a:pt x="12105" y="16115"/>
                  <a:pt x="12105" y="16123"/>
                  <a:pt x="12105" y="16148"/>
                </a:cubicBezTo>
              </a:path>
              <a:path w="1688" h="1316">
                <a:moveTo>
                  <a:pt x="12378" y="15949"/>
                </a:moveTo>
                <a:cubicBezTo>
                  <a:pt x="12429" y="15889"/>
                  <a:pt x="12427" y="15912"/>
                  <a:pt x="12427" y="15850"/>
                </a:cubicBezTo>
                <a:cubicBezTo>
                  <a:pt x="12367" y="15865"/>
                  <a:pt x="12334" y="15918"/>
                  <a:pt x="12303" y="15974"/>
                </a:cubicBezTo>
                <a:cubicBezTo>
                  <a:pt x="12267" y="16038"/>
                  <a:pt x="12274" y="16066"/>
                  <a:pt x="12303" y="16123"/>
                </a:cubicBezTo>
                <a:cubicBezTo>
                  <a:pt x="12413" y="16101"/>
                  <a:pt x="12423" y="16026"/>
                  <a:pt x="12452" y="15925"/>
                </a:cubicBezTo>
                <a:cubicBezTo>
                  <a:pt x="12477" y="15836"/>
                  <a:pt x="12477" y="15768"/>
                  <a:pt x="12477" y="15677"/>
                </a:cubicBezTo>
                <a:cubicBezTo>
                  <a:pt x="12439" y="15739"/>
                  <a:pt x="12441" y="15848"/>
                  <a:pt x="12452" y="15925"/>
                </a:cubicBezTo>
                <a:cubicBezTo>
                  <a:pt x="12468" y="16035"/>
                  <a:pt x="12506" y="16146"/>
                  <a:pt x="12551" y="16247"/>
                </a:cubicBezTo>
              </a:path>
              <a:path w="1688" h="1316">
                <a:moveTo>
                  <a:pt x="12774" y="16247"/>
                </a:moveTo>
                <a:cubicBezTo>
                  <a:pt x="12805" y="16361"/>
                  <a:pt x="12864" y="16463"/>
                  <a:pt x="12898" y="16570"/>
                </a:cubicBezTo>
                <a:cubicBezTo>
                  <a:pt x="12898" y="16611"/>
                  <a:pt x="12898" y="16619"/>
                  <a:pt x="12898" y="16644"/>
                </a:cubicBezTo>
                <a:cubicBezTo>
                  <a:pt x="12898" y="16561"/>
                  <a:pt x="12859" y="16500"/>
                  <a:pt x="12849" y="16421"/>
                </a:cubicBezTo>
                <a:cubicBezTo>
                  <a:pt x="12833" y="16290"/>
                  <a:pt x="12825" y="16100"/>
                  <a:pt x="12898" y="15999"/>
                </a:cubicBezTo>
                <a:cubicBezTo>
                  <a:pt x="12906" y="15991"/>
                  <a:pt x="12915" y="15982"/>
                  <a:pt x="12923" y="15974"/>
                </a:cubicBezTo>
                <a:cubicBezTo>
                  <a:pt x="13014" y="16039"/>
                  <a:pt x="12998" y="16085"/>
                  <a:pt x="12998" y="16197"/>
                </a:cubicBezTo>
                <a:cubicBezTo>
                  <a:pt x="12998" y="16275"/>
                  <a:pt x="12994" y="16289"/>
                  <a:pt x="12948" y="16346"/>
                </a:cubicBezTo>
              </a:path>
              <a:path w="1688" h="1316">
                <a:moveTo>
                  <a:pt x="12948" y="15701"/>
                </a:moveTo>
                <a:cubicBezTo>
                  <a:pt x="13127" y="15694"/>
                  <a:pt x="13290" y="15690"/>
                  <a:pt x="13370" y="15900"/>
                </a:cubicBezTo>
                <a:cubicBezTo>
                  <a:pt x="13412" y="16011"/>
                  <a:pt x="13429" y="16262"/>
                  <a:pt x="13370" y="16371"/>
                </a:cubicBezTo>
                <a:cubicBezTo>
                  <a:pt x="13318" y="16423"/>
                  <a:pt x="13299" y="16440"/>
                  <a:pt x="13246" y="16446"/>
                </a:cubicBezTo>
              </a:path>
              <a:path w="1688" h="1316">
                <a:moveTo>
                  <a:pt x="11782" y="15429"/>
                </a:moveTo>
                <a:cubicBezTo>
                  <a:pt x="11824" y="15387"/>
                  <a:pt x="11832" y="15379"/>
                  <a:pt x="11857" y="15354"/>
                </a:cubicBezTo>
                <a:cubicBezTo>
                  <a:pt x="11837" y="15314"/>
                  <a:pt x="11773" y="15436"/>
                  <a:pt x="11757" y="15478"/>
                </a:cubicBezTo>
                <a:cubicBezTo>
                  <a:pt x="11698" y="15632"/>
                  <a:pt x="11702" y="15819"/>
                  <a:pt x="11757" y="15974"/>
                </a:cubicBezTo>
                <a:cubicBezTo>
                  <a:pt x="11810" y="16122"/>
                  <a:pt x="11903" y="16237"/>
                  <a:pt x="12030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71920" y="2768760"/>
            <a:ext cx="241200" cy="160200"/>
          </a:xfrm>
          <a:custGeom>
            <a:avLst/>
            <a:gdLst/>
            <a:ahLst/>
            <a:rect l="l" t="t" r="r" b="b"/>
            <a:pathLst>
              <a:path w="671" h="448">
                <a:moveTo>
                  <a:pt x="10096" y="7764"/>
                </a:moveTo>
                <a:cubicBezTo>
                  <a:pt x="10120" y="7764"/>
                  <a:pt x="10129" y="7764"/>
                  <a:pt x="10145" y="7764"/>
                </a:cubicBezTo>
                <a:cubicBezTo>
                  <a:pt x="10145" y="7732"/>
                  <a:pt x="10137" y="7698"/>
                  <a:pt x="10120" y="7689"/>
                </a:cubicBezTo>
                <a:cubicBezTo>
                  <a:pt x="10089" y="7673"/>
                  <a:pt x="10039" y="7746"/>
                  <a:pt x="10021" y="7764"/>
                </a:cubicBezTo>
                <a:cubicBezTo>
                  <a:pt x="9974" y="7811"/>
                  <a:pt x="9935" y="7899"/>
                  <a:pt x="9922" y="7962"/>
                </a:cubicBezTo>
                <a:cubicBezTo>
                  <a:pt x="9911" y="8015"/>
                  <a:pt x="9917" y="8106"/>
                  <a:pt x="9971" y="8136"/>
                </a:cubicBezTo>
                <a:cubicBezTo>
                  <a:pt x="10010" y="8158"/>
                  <a:pt x="10095" y="8115"/>
                  <a:pt x="10120" y="8086"/>
                </a:cubicBezTo>
                <a:cubicBezTo>
                  <a:pt x="10163" y="8036"/>
                  <a:pt x="10145" y="7949"/>
                  <a:pt x="10145" y="7888"/>
                </a:cubicBezTo>
                <a:cubicBezTo>
                  <a:pt x="10145" y="7847"/>
                  <a:pt x="10145" y="7772"/>
                  <a:pt x="10145" y="7813"/>
                </a:cubicBezTo>
                <a:cubicBezTo>
                  <a:pt x="10185" y="7879"/>
                  <a:pt x="10206" y="7924"/>
                  <a:pt x="10269" y="7987"/>
                </a:cubicBezTo>
                <a:cubicBezTo>
                  <a:pt x="10342" y="8060"/>
                  <a:pt x="10399" y="8079"/>
                  <a:pt x="10492" y="8037"/>
                </a:cubicBezTo>
                <a:cubicBezTo>
                  <a:pt x="10542" y="8012"/>
                  <a:pt x="10559" y="8004"/>
                  <a:pt x="10592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98920" y="231840"/>
            <a:ext cx="179280" cy="287280"/>
          </a:xfrm>
          <a:custGeom>
            <a:avLst/>
            <a:gdLst/>
            <a:ahLst/>
            <a:rect l="l" t="t" r="r" b="b"/>
            <a:pathLst>
              <a:path w="497" h="795">
                <a:moveTo>
                  <a:pt x="9996" y="1339"/>
                </a:moveTo>
                <a:cubicBezTo>
                  <a:pt x="9996" y="1381"/>
                  <a:pt x="9996" y="1389"/>
                  <a:pt x="9996" y="1414"/>
                </a:cubicBezTo>
                <a:cubicBezTo>
                  <a:pt x="9996" y="1456"/>
                  <a:pt x="9984" y="1379"/>
                  <a:pt x="9996" y="1339"/>
                </a:cubicBezTo>
                <a:cubicBezTo>
                  <a:pt x="10026" y="1240"/>
                  <a:pt x="10061" y="1146"/>
                  <a:pt x="10071" y="1042"/>
                </a:cubicBezTo>
                <a:cubicBezTo>
                  <a:pt x="10081" y="931"/>
                  <a:pt x="10104" y="825"/>
                  <a:pt x="10120" y="719"/>
                </a:cubicBezTo>
                <a:cubicBezTo>
                  <a:pt x="10120" y="675"/>
                  <a:pt x="10117" y="661"/>
                  <a:pt x="10145" y="645"/>
                </a:cubicBezTo>
                <a:cubicBezTo>
                  <a:pt x="10204" y="704"/>
                  <a:pt x="10218" y="763"/>
                  <a:pt x="10244" y="843"/>
                </a:cubicBezTo>
                <a:cubicBezTo>
                  <a:pt x="10290" y="982"/>
                  <a:pt x="10313" y="1129"/>
                  <a:pt x="10368" y="1265"/>
                </a:cubicBezTo>
                <a:cubicBezTo>
                  <a:pt x="10386" y="1309"/>
                  <a:pt x="10419" y="1392"/>
                  <a:pt x="10468" y="1414"/>
                </a:cubicBezTo>
                <a:cubicBezTo>
                  <a:pt x="10476" y="1414"/>
                  <a:pt x="10484" y="1414"/>
                  <a:pt x="10492" y="1414"/>
                </a:cubicBezTo>
                <a:cubicBezTo>
                  <a:pt x="10492" y="1378"/>
                  <a:pt x="10486" y="1341"/>
                  <a:pt x="10468" y="1315"/>
                </a:cubicBezTo>
                <a:cubicBezTo>
                  <a:pt x="10428" y="1255"/>
                  <a:pt x="10361" y="1196"/>
                  <a:pt x="10294" y="1191"/>
                </a:cubicBezTo>
                <a:cubicBezTo>
                  <a:pt x="10261" y="1191"/>
                  <a:pt x="10245" y="1191"/>
                  <a:pt x="10220" y="1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2120" y="1027080"/>
            <a:ext cx="135000" cy="268200"/>
          </a:xfrm>
          <a:custGeom>
            <a:avLst/>
            <a:gdLst/>
            <a:ahLst/>
            <a:rect l="l" t="t" r="r" b="b"/>
            <a:pathLst>
              <a:path w="373" h="745">
                <a:moveTo>
                  <a:pt x="13667" y="3026"/>
                </a:moveTo>
                <a:cubicBezTo>
                  <a:pt x="13667" y="3013"/>
                  <a:pt x="13667" y="2820"/>
                  <a:pt x="13667" y="2877"/>
                </a:cubicBezTo>
                <a:cubicBezTo>
                  <a:pt x="13634" y="2980"/>
                  <a:pt x="13621" y="3089"/>
                  <a:pt x="13618" y="3200"/>
                </a:cubicBezTo>
                <a:cubicBezTo>
                  <a:pt x="13615" y="3308"/>
                  <a:pt x="13652" y="3367"/>
                  <a:pt x="13717" y="3448"/>
                </a:cubicBezTo>
                <a:cubicBezTo>
                  <a:pt x="13752" y="3419"/>
                  <a:pt x="13843" y="3346"/>
                  <a:pt x="13891" y="3349"/>
                </a:cubicBezTo>
                <a:cubicBezTo>
                  <a:pt x="13968" y="3353"/>
                  <a:pt x="14003" y="3461"/>
                  <a:pt x="13990" y="3522"/>
                </a:cubicBezTo>
                <a:cubicBezTo>
                  <a:pt x="13974" y="3597"/>
                  <a:pt x="13880" y="3615"/>
                  <a:pt x="13816" y="3597"/>
                </a:cubicBezTo>
                <a:cubicBezTo>
                  <a:pt x="13762" y="3582"/>
                  <a:pt x="13713" y="3570"/>
                  <a:pt x="13667" y="3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4720" y="1152360"/>
            <a:ext cx="125280" cy="18756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6251" y="3274"/>
                </a:moveTo>
                <a:cubicBezTo>
                  <a:pt x="6271" y="3234"/>
                  <a:pt x="6280" y="3228"/>
                  <a:pt x="6276" y="3200"/>
                </a:cubicBezTo>
                <a:cubicBezTo>
                  <a:pt x="6208" y="3233"/>
                  <a:pt x="6199" y="3322"/>
                  <a:pt x="6176" y="3398"/>
                </a:cubicBezTo>
                <a:cubicBezTo>
                  <a:pt x="6155" y="3468"/>
                  <a:pt x="6116" y="3608"/>
                  <a:pt x="6176" y="3671"/>
                </a:cubicBezTo>
                <a:cubicBezTo>
                  <a:pt x="6236" y="3734"/>
                  <a:pt x="6350" y="3742"/>
                  <a:pt x="6424" y="3696"/>
                </a:cubicBezTo>
                <a:cubicBezTo>
                  <a:pt x="6470" y="3650"/>
                  <a:pt x="6485" y="3638"/>
                  <a:pt x="6499" y="3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3080" y="4394160"/>
            <a:ext cx="285840" cy="249120"/>
          </a:xfrm>
          <a:custGeom>
            <a:avLst/>
            <a:gdLst/>
            <a:ahLst/>
            <a:rect l="l" t="t" r="r" b="b"/>
            <a:pathLst>
              <a:path w="794" h="695">
                <a:moveTo>
                  <a:pt x="3076" y="12477"/>
                </a:moveTo>
                <a:cubicBezTo>
                  <a:pt x="3092" y="12472"/>
                  <a:pt x="3137" y="12454"/>
                  <a:pt x="3150" y="12427"/>
                </a:cubicBezTo>
                <a:cubicBezTo>
                  <a:pt x="3150" y="12419"/>
                  <a:pt x="3150" y="12410"/>
                  <a:pt x="3150" y="12402"/>
                </a:cubicBezTo>
                <a:cubicBezTo>
                  <a:pt x="3100" y="12402"/>
                  <a:pt x="3057" y="12438"/>
                  <a:pt x="3026" y="12477"/>
                </a:cubicBezTo>
                <a:cubicBezTo>
                  <a:pt x="2997" y="12513"/>
                  <a:pt x="2954" y="12603"/>
                  <a:pt x="2977" y="12650"/>
                </a:cubicBezTo>
                <a:cubicBezTo>
                  <a:pt x="2985" y="12658"/>
                  <a:pt x="2993" y="12667"/>
                  <a:pt x="3001" y="12675"/>
                </a:cubicBezTo>
                <a:cubicBezTo>
                  <a:pt x="3055" y="12622"/>
                  <a:pt x="3048" y="12586"/>
                  <a:pt x="3076" y="12526"/>
                </a:cubicBezTo>
                <a:cubicBezTo>
                  <a:pt x="3091" y="12494"/>
                  <a:pt x="3101" y="12485"/>
                  <a:pt x="3125" y="12477"/>
                </a:cubicBezTo>
                <a:cubicBezTo>
                  <a:pt x="3162" y="12541"/>
                  <a:pt x="3185" y="12564"/>
                  <a:pt x="3249" y="12601"/>
                </a:cubicBezTo>
              </a:path>
              <a:path w="794" h="695">
                <a:moveTo>
                  <a:pt x="3150" y="12303"/>
                </a:moveTo>
                <a:cubicBezTo>
                  <a:pt x="3232" y="12242"/>
                  <a:pt x="3267" y="12229"/>
                  <a:pt x="3349" y="12303"/>
                </a:cubicBezTo>
                <a:cubicBezTo>
                  <a:pt x="3437" y="12381"/>
                  <a:pt x="3482" y="12485"/>
                  <a:pt x="3497" y="12601"/>
                </a:cubicBezTo>
                <a:cubicBezTo>
                  <a:pt x="3506" y="12667"/>
                  <a:pt x="3512" y="12828"/>
                  <a:pt x="3448" y="12874"/>
                </a:cubicBezTo>
                <a:cubicBezTo>
                  <a:pt x="3390" y="12916"/>
                  <a:pt x="3291" y="12898"/>
                  <a:pt x="3225" y="12898"/>
                </a:cubicBezTo>
              </a:path>
              <a:path w="794" h="695">
                <a:moveTo>
                  <a:pt x="2778" y="12229"/>
                </a:moveTo>
                <a:cubicBezTo>
                  <a:pt x="2778" y="12165"/>
                  <a:pt x="2733" y="12338"/>
                  <a:pt x="2729" y="12353"/>
                </a:cubicBezTo>
                <a:cubicBezTo>
                  <a:pt x="2691" y="12484"/>
                  <a:pt x="2679" y="12630"/>
                  <a:pt x="2753" y="12750"/>
                </a:cubicBezTo>
                <a:cubicBezTo>
                  <a:pt x="2770" y="12766"/>
                  <a:pt x="2786" y="12783"/>
                  <a:pt x="2803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8160" y="598320"/>
            <a:ext cx="277920" cy="268560"/>
          </a:xfrm>
          <a:custGeom>
            <a:avLst/>
            <a:gdLst/>
            <a:ahLst/>
            <a:rect l="l" t="t" r="r" b="b"/>
            <a:pathLst>
              <a:path w="770" h="745">
                <a:moveTo>
                  <a:pt x="18355" y="1860"/>
                </a:moveTo>
                <a:cubicBezTo>
                  <a:pt x="18355" y="1819"/>
                  <a:pt x="18355" y="1777"/>
                  <a:pt x="18355" y="1736"/>
                </a:cubicBezTo>
                <a:cubicBezTo>
                  <a:pt x="18317" y="1801"/>
                  <a:pt x="18331" y="1880"/>
                  <a:pt x="18331" y="1960"/>
                </a:cubicBezTo>
                <a:cubicBezTo>
                  <a:pt x="18331" y="2051"/>
                  <a:pt x="18331" y="2141"/>
                  <a:pt x="18331" y="2232"/>
                </a:cubicBezTo>
                <a:cubicBezTo>
                  <a:pt x="18331" y="2283"/>
                  <a:pt x="18332" y="2187"/>
                  <a:pt x="18355" y="2158"/>
                </a:cubicBezTo>
                <a:cubicBezTo>
                  <a:pt x="18396" y="2107"/>
                  <a:pt x="18427" y="2091"/>
                  <a:pt x="18479" y="2133"/>
                </a:cubicBezTo>
                <a:cubicBezTo>
                  <a:pt x="18530" y="2175"/>
                  <a:pt x="18529" y="2222"/>
                  <a:pt x="18529" y="2282"/>
                </a:cubicBezTo>
                <a:cubicBezTo>
                  <a:pt x="18529" y="2347"/>
                  <a:pt x="18495" y="2352"/>
                  <a:pt x="18430" y="2356"/>
                </a:cubicBezTo>
                <a:cubicBezTo>
                  <a:pt x="18385" y="2356"/>
                  <a:pt x="18372" y="2360"/>
                  <a:pt x="18355" y="2332"/>
                </a:cubicBezTo>
              </a:path>
              <a:path w="770" h="745">
                <a:moveTo>
                  <a:pt x="18529" y="1712"/>
                </a:moveTo>
                <a:cubicBezTo>
                  <a:pt x="18556" y="1692"/>
                  <a:pt x="18589" y="1673"/>
                  <a:pt x="18628" y="1687"/>
                </a:cubicBezTo>
                <a:cubicBezTo>
                  <a:pt x="18679" y="1705"/>
                  <a:pt x="18775" y="1812"/>
                  <a:pt x="18802" y="1860"/>
                </a:cubicBezTo>
                <a:cubicBezTo>
                  <a:pt x="18856" y="1955"/>
                  <a:pt x="18872" y="2078"/>
                  <a:pt x="18876" y="2183"/>
                </a:cubicBezTo>
                <a:cubicBezTo>
                  <a:pt x="18880" y="2284"/>
                  <a:pt x="18844" y="2325"/>
                  <a:pt x="18777" y="2381"/>
                </a:cubicBezTo>
                <a:cubicBezTo>
                  <a:pt x="18725" y="2424"/>
                  <a:pt x="18646" y="2406"/>
                  <a:pt x="18579" y="2406"/>
                </a:cubicBezTo>
              </a:path>
              <a:path w="770" h="745">
                <a:moveTo>
                  <a:pt x="18256" y="1736"/>
                </a:moveTo>
                <a:cubicBezTo>
                  <a:pt x="18276" y="1696"/>
                  <a:pt x="18285" y="1690"/>
                  <a:pt x="18281" y="1662"/>
                </a:cubicBezTo>
                <a:cubicBezTo>
                  <a:pt x="18233" y="1721"/>
                  <a:pt x="18179" y="1813"/>
                  <a:pt x="18157" y="1885"/>
                </a:cubicBezTo>
                <a:cubicBezTo>
                  <a:pt x="18115" y="2021"/>
                  <a:pt x="18093" y="2146"/>
                  <a:pt x="18132" y="2282"/>
                </a:cubicBezTo>
                <a:cubicBezTo>
                  <a:pt x="18157" y="2368"/>
                  <a:pt x="18161" y="2365"/>
                  <a:pt x="18231" y="2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18200" y="517680"/>
            <a:ext cx="233640" cy="349200"/>
          </a:xfrm>
          <a:custGeom>
            <a:avLst/>
            <a:gdLst/>
            <a:ahLst/>
            <a:rect l="l" t="t" r="r" b="b"/>
            <a:pathLst>
              <a:path w="646" h="968">
                <a:moveTo>
                  <a:pt x="19496" y="1488"/>
                </a:moveTo>
                <a:cubicBezTo>
                  <a:pt x="19496" y="1463"/>
                  <a:pt x="19496" y="1455"/>
                  <a:pt x="19496" y="1439"/>
                </a:cubicBezTo>
                <a:cubicBezTo>
                  <a:pt x="19496" y="1521"/>
                  <a:pt x="19508" y="1586"/>
                  <a:pt x="19521" y="1662"/>
                </a:cubicBezTo>
                <a:cubicBezTo>
                  <a:pt x="19526" y="1691"/>
                  <a:pt x="19521" y="1730"/>
                  <a:pt x="19521" y="1761"/>
                </a:cubicBezTo>
              </a:path>
              <a:path w="646" h="968">
                <a:moveTo>
                  <a:pt x="19943" y="1860"/>
                </a:moveTo>
                <a:cubicBezTo>
                  <a:pt x="19908" y="1849"/>
                  <a:pt x="19907" y="1818"/>
                  <a:pt x="19844" y="1836"/>
                </a:cubicBezTo>
                <a:cubicBezTo>
                  <a:pt x="19765" y="1858"/>
                  <a:pt x="19707" y="1860"/>
                  <a:pt x="19621" y="1860"/>
                </a:cubicBezTo>
                <a:cubicBezTo>
                  <a:pt x="19579" y="1860"/>
                  <a:pt x="19538" y="1860"/>
                  <a:pt x="19496" y="1860"/>
                </a:cubicBezTo>
              </a:path>
              <a:path w="646" h="968">
                <a:moveTo>
                  <a:pt x="19621" y="2133"/>
                </a:moveTo>
                <a:cubicBezTo>
                  <a:pt x="19581" y="2146"/>
                  <a:pt x="19611" y="2145"/>
                  <a:pt x="19571" y="2158"/>
                </a:cubicBezTo>
                <a:cubicBezTo>
                  <a:pt x="19610" y="2106"/>
                  <a:pt x="19628" y="2092"/>
                  <a:pt x="19695" y="2059"/>
                </a:cubicBezTo>
                <a:cubicBezTo>
                  <a:pt x="19734" y="2040"/>
                  <a:pt x="19869" y="1996"/>
                  <a:pt x="19893" y="2059"/>
                </a:cubicBezTo>
                <a:cubicBezTo>
                  <a:pt x="19915" y="2118"/>
                  <a:pt x="19880" y="2211"/>
                  <a:pt x="19844" y="2257"/>
                </a:cubicBezTo>
                <a:cubicBezTo>
                  <a:pt x="19804" y="2308"/>
                  <a:pt x="19723" y="2347"/>
                  <a:pt x="19695" y="2381"/>
                </a:cubicBezTo>
                <a:cubicBezTo>
                  <a:pt x="19695" y="2389"/>
                  <a:pt x="19695" y="2398"/>
                  <a:pt x="19695" y="2406"/>
                </a:cubicBezTo>
                <a:cubicBezTo>
                  <a:pt x="19774" y="2406"/>
                  <a:pt x="19839" y="2384"/>
                  <a:pt x="19918" y="2381"/>
                </a:cubicBezTo>
                <a:cubicBezTo>
                  <a:pt x="20002" y="2378"/>
                  <a:pt x="20062" y="2396"/>
                  <a:pt x="20141" y="2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6320" y="490680"/>
            <a:ext cx="303480" cy="23328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20886" y="1786"/>
                </a:moveTo>
                <a:cubicBezTo>
                  <a:pt x="20908" y="1763"/>
                  <a:pt x="20916" y="1758"/>
                  <a:pt x="20910" y="1736"/>
                </a:cubicBezTo>
                <a:cubicBezTo>
                  <a:pt x="20833" y="1736"/>
                  <a:pt x="20823" y="1729"/>
                  <a:pt x="20762" y="1786"/>
                </a:cubicBezTo>
                <a:cubicBezTo>
                  <a:pt x="20736" y="1810"/>
                  <a:pt x="20676" y="1925"/>
                  <a:pt x="20712" y="1960"/>
                </a:cubicBezTo>
                <a:cubicBezTo>
                  <a:pt x="20756" y="2003"/>
                  <a:pt x="20836" y="1993"/>
                  <a:pt x="20861" y="1935"/>
                </a:cubicBezTo>
                <a:cubicBezTo>
                  <a:pt x="20873" y="1908"/>
                  <a:pt x="20869" y="1818"/>
                  <a:pt x="20935" y="1836"/>
                </a:cubicBezTo>
                <a:cubicBezTo>
                  <a:pt x="20988" y="1851"/>
                  <a:pt x="21037" y="1925"/>
                  <a:pt x="21084" y="1960"/>
                </a:cubicBezTo>
                <a:cubicBezTo>
                  <a:pt x="21092" y="1968"/>
                  <a:pt x="21101" y="1976"/>
                  <a:pt x="21109" y="1984"/>
                </a:cubicBezTo>
              </a:path>
              <a:path w="844" h="646">
                <a:moveTo>
                  <a:pt x="21282" y="1463"/>
                </a:moveTo>
                <a:cubicBezTo>
                  <a:pt x="21282" y="1405"/>
                  <a:pt x="21282" y="1397"/>
                  <a:pt x="21282" y="1364"/>
                </a:cubicBezTo>
                <a:cubicBezTo>
                  <a:pt x="21349" y="1386"/>
                  <a:pt x="21287" y="1481"/>
                  <a:pt x="21282" y="1538"/>
                </a:cubicBezTo>
                <a:cubicBezTo>
                  <a:pt x="21272" y="1648"/>
                  <a:pt x="21267" y="1785"/>
                  <a:pt x="21307" y="1885"/>
                </a:cubicBezTo>
                <a:cubicBezTo>
                  <a:pt x="21315" y="1902"/>
                  <a:pt x="21324" y="1918"/>
                  <a:pt x="21332" y="1935"/>
                </a:cubicBezTo>
                <a:cubicBezTo>
                  <a:pt x="21391" y="1923"/>
                  <a:pt x="21430" y="1881"/>
                  <a:pt x="21481" y="1860"/>
                </a:cubicBezTo>
                <a:cubicBezTo>
                  <a:pt x="21530" y="1840"/>
                  <a:pt x="21563" y="1927"/>
                  <a:pt x="21555" y="1960"/>
                </a:cubicBezTo>
                <a:cubicBezTo>
                  <a:pt x="21541" y="2017"/>
                  <a:pt x="21484" y="2027"/>
                  <a:pt x="21431" y="2009"/>
                </a:cubicBezTo>
                <a:cubicBezTo>
                  <a:pt x="21415" y="2001"/>
                  <a:pt x="21398" y="1992"/>
                  <a:pt x="21382" y="1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615960"/>
            <a:ext cx="339840" cy="125280"/>
          </a:xfrm>
          <a:custGeom>
            <a:avLst/>
            <a:gdLst/>
            <a:ahLst/>
            <a:rect l="l" t="t" r="r" b="b"/>
            <a:pathLst>
              <a:path w="944" h="348">
                <a:moveTo>
                  <a:pt x="22349" y="1860"/>
                </a:moveTo>
                <a:cubicBezTo>
                  <a:pt x="22395" y="1821"/>
                  <a:pt x="22412" y="1821"/>
                  <a:pt x="22423" y="1786"/>
                </a:cubicBezTo>
                <a:cubicBezTo>
                  <a:pt x="22399" y="1749"/>
                  <a:pt x="22356" y="1761"/>
                  <a:pt x="22299" y="1761"/>
                </a:cubicBezTo>
                <a:cubicBezTo>
                  <a:pt x="22260" y="1761"/>
                  <a:pt x="22196" y="1786"/>
                  <a:pt x="22225" y="1836"/>
                </a:cubicBezTo>
                <a:cubicBezTo>
                  <a:pt x="22257" y="1893"/>
                  <a:pt x="22321" y="1886"/>
                  <a:pt x="22374" y="1910"/>
                </a:cubicBezTo>
                <a:cubicBezTo>
                  <a:pt x="22420" y="1931"/>
                  <a:pt x="22467" y="1958"/>
                  <a:pt x="22473" y="2009"/>
                </a:cubicBezTo>
                <a:cubicBezTo>
                  <a:pt x="22477" y="2045"/>
                  <a:pt x="22410" y="2057"/>
                  <a:pt x="22374" y="2059"/>
                </a:cubicBezTo>
                <a:cubicBezTo>
                  <a:pt x="22318" y="2063"/>
                  <a:pt x="22291" y="2065"/>
                  <a:pt x="22250" y="2034"/>
                </a:cubicBezTo>
              </a:path>
              <a:path w="944" h="348">
                <a:moveTo>
                  <a:pt x="22647" y="1885"/>
                </a:moveTo>
                <a:cubicBezTo>
                  <a:pt x="22663" y="1885"/>
                  <a:pt x="22680" y="1885"/>
                  <a:pt x="22696" y="1885"/>
                </a:cubicBezTo>
                <a:cubicBezTo>
                  <a:pt x="22696" y="1932"/>
                  <a:pt x="22716" y="1964"/>
                  <a:pt x="22721" y="2009"/>
                </a:cubicBezTo>
                <a:cubicBezTo>
                  <a:pt x="22721" y="2034"/>
                  <a:pt x="22721" y="2042"/>
                  <a:pt x="22721" y="2059"/>
                </a:cubicBezTo>
              </a:path>
              <a:path w="944" h="348">
                <a:moveTo>
                  <a:pt x="22721" y="1736"/>
                </a:moveTo>
                <a:cubicBezTo>
                  <a:pt x="22721" y="1712"/>
                  <a:pt x="22721" y="1704"/>
                  <a:pt x="22746" y="1712"/>
                </a:cubicBezTo>
              </a:path>
              <a:path w="944" h="348">
                <a:moveTo>
                  <a:pt x="22870" y="1885"/>
                </a:moveTo>
                <a:cubicBezTo>
                  <a:pt x="22870" y="1962"/>
                  <a:pt x="22858" y="1960"/>
                  <a:pt x="22895" y="2009"/>
                </a:cubicBezTo>
                <a:cubicBezTo>
                  <a:pt x="22915" y="1962"/>
                  <a:pt x="22924" y="1892"/>
                  <a:pt x="22969" y="1860"/>
                </a:cubicBezTo>
                <a:cubicBezTo>
                  <a:pt x="23032" y="1816"/>
                  <a:pt x="23110" y="1874"/>
                  <a:pt x="23143" y="1935"/>
                </a:cubicBezTo>
                <a:cubicBezTo>
                  <a:pt x="23151" y="1960"/>
                  <a:pt x="23160" y="1984"/>
                  <a:pt x="23168" y="20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589960" y="473040"/>
            <a:ext cx="1890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24036" y="1389"/>
                </a:moveTo>
                <a:cubicBezTo>
                  <a:pt x="24105" y="1361"/>
                  <a:pt x="24112" y="1361"/>
                  <a:pt x="24160" y="1315"/>
                </a:cubicBezTo>
                <a:cubicBezTo>
                  <a:pt x="24077" y="1335"/>
                  <a:pt x="24046" y="1376"/>
                  <a:pt x="23986" y="1439"/>
                </a:cubicBezTo>
                <a:cubicBezTo>
                  <a:pt x="23884" y="1546"/>
                  <a:pt x="23804" y="1654"/>
                  <a:pt x="23887" y="1811"/>
                </a:cubicBezTo>
                <a:cubicBezTo>
                  <a:pt x="23944" y="1918"/>
                  <a:pt x="24093" y="2015"/>
                  <a:pt x="24209" y="2034"/>
                </a:cubicBezTo>
                <a:cubicBezTo>
                  <a:pt x="24296" y="2034"/>
                  <a:pt x="24332" y="2029"/>
                  <a:pt x="24383" y="1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57960" y="1295280"/>
            <a:ext cx="98280" cy="7164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17884" y="3597"/>
                </a:moveTo>
                <a:cubicBezTo>
                  <a:pt x="17892" y="3597"/>
                  <a:pt x="17901" y="3597"/>
                  <a:pt x="17909" y="3597"/>
                </a:cubicBezTo>
                <a:cubicBezTo>
                  <a:pt x="17835" y="3597"/>
                  <a:pt x="17760" y="3597"/>
                  <a:pt x="17686" y="3597"/>
                </a:cubicBezTo>
                <a:cubicBezTo>
                  <a:pt x="17686" y="3621"/>
                  <a:pt x="17686" y="3629"/>
                  <a:pt x="17661" y="3621"/>
                </a:cubicBezTo>
              </a:path>
              <a:path w="274" h="199">
                <a:moveTo>
                  <a:pt x="17810" y="3696"/>
                </a:moveTo>
                <a:cubicBezTo>
                  <a:pt x="17874" y="3716"/>
                  <a:pt x="17918" y="3709"/>
                  <a:pt x="17934" y="3770"/>
                </a:cubicBezTo>
                <a:cubicBezTo>
                  <a:pt x="17864" y="3770"/>
                  <a:pt x="17819" y="3777"/>
                  <a:pt x="17760" y="3795"/>
                </a:cubicBezTo>
                <a:cubicBezTo>
                  <a:pt x="17752" y="3795"/>
                  <a:pt x="17743" y="3795"/>
                  <a:pt x="17735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9800" y="1160640"/>
            <a:ext cx="403200" cy="21420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18355" y="3497"/>
                </a:moveTo>
                <a:cubicBezTo>
                  <a:pt x="18316" y="3484"/>
                  <a:pt x="18346" y="3486"/>
                  <a:pt x="18306" y="3473"/>
                </a:cubicBezTo>
                <a:cubicBezTo>
                  <a:pt x="18356" y="3432"/>
                  <a:pt x="18413" y="3408"/>
                  <a:pt x="18479" y="3398"/>
                </a:cubicBezTo>
                <a:cubicBezTo>
                  <a:pt x="18545" y="3388"/>
                  <a:pt x="18607" y="3402"/>
                  <a:pt x="18628" y="3473"/>
                </a:cubicBezTo>
                <a:cubicBezTo>
                  <a:pt x="18643" y="3525"/>
                  <a:pt x="18641" y="3656"/>
                  <a:pt x="18604" y="3696"/>
                </a:cubicBezTo>
                <a:cubicBezTo>
                  <a:pt x="18566" y="3737"/>
                  <a:pt x="18523" y="3739"/>
                  <a:pt x="18504" y="3795"/>
                </a:cubicBezTo>
                <a:cubicBezTo>
                  <a:pt x="18504" y="3803"/>
                  <a:pt x="18504" y="3812"/>
                  <a:pt x="18504" y="3820"/>
                </a:cubicBezTo>
                <a:cubicBezTo>
                  <a:pt x="18570" y="3820"/>
                  <a:pt x="18618" y="3803"/>
                  <a:pt x="18678" y="3795"/>
                </a:cubicBezTo>
                <a:cubicBezTo>
                  <a:pt x="18748" y="3785"/>
                  <a:pt x="18805" y="3770"/>
                  <a:pt x="18876" y="3770"/>
                </a:cubicBezTo>
                <a:cubicBezTo>
                  <a:pt x="18884" y="3770"/>
                  <a:pt x="18893" y="3770"/>
                  <a:pt x="18901" y="3770"/>
                </a:cubicBezTo>
              </a:path>
              <a:path w="1117" h="596">
                <a:moveTo>
                  <a:pt x="19273" y="3299"/>
                </a:moveTo>
                <a:cubicBezTo>
                  <a:pt x="19299" y="3264"/>
                  <a:pt x="19298" y="3268"/>
                  <a:pt x="19298" y="3225"/>
                </a:cubicBezTo>
                <a:cubicBezTo>
                  <a:pt x="19263" y="3236"/>
                  <a:pt x="19248" y="3279"/>
                  <a:pt x="19224" y="3324"/>
                </a:cubicBezTo>
                <a:cubicBezTo>
                  <a:pt x="19177" y="3412"/>
                  <a:pt x="19154" y="3499"/>
                  <a:pt x="19149" y="3597"/>
                </a:cubicBezTo>
                <a:cubicBezTo>
                  <a:pt x="19146" y="3661"/>
                  <a:pt x="19190" y="3789"/>
                  <a:pt x="19248" y="3820"/>
                </a:cubicBezTo>
                <a:cubicBezTo>
                  <a:pt x="19281" y="3838"/>
                  <a:pt x="19374" y="3828"/>
                  <a:pt x="19397" y="3795"/>
                </a:cubicBezTo>
                <a:cubicBezTo>
                  <a:pt x="19421" y="3760"/>
                  <a:pt x="19449" y="3672"/>
                  <a:pt x="19397" y="3646"/>
                </a:cubicBezTo>
                <a:cubicBezTo>
                  <a:pt x="19352" y="3624"/>
                  <a:pt x="19300" y="3621"/>
                  <a:pt x="19248" y="3621"/>
                </a:cubicBezTo>
                <a:cubicBezTo>
                  <a:pt x="19224" y="3621"/>
                  <a:pt x="19215" y="3621"/>
                  <a:pt x="19199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88120" y="1152360"/>
            <a:ext cx="196920" cy="222480"/>
          </a:xfrm>
          <a:custGeom>
            <a:avLst/>
            <a:gdLst/>
            <a:ahLst/>
            <a:rect l="l" t="t" r="r" b="b"/>
            <a:pathLst>
              <a:path w="546" h="621">
                <a:moveTo>
                  <a:pt x="19968" y="3696"/>
                </a:moveTo>
                <a:cubicBezTo>
                  <a:pt x="19968" y="3721"/>
                  <a:pt x="19968" y="3729"/>
                  <a:pt x="19993" y="3721"/>
                </a:cubicBezTo>
              </a:path>
              <a:path w="546" h="621">
                <a:moveTo>
                  <a:pt x="20439" y="3324"/>
                </a:moveTo>
                <a:cubicBezTo>
                  <a:pt x="20477" y="3311"/>
                  <a:pt x="20464" y="3294"/>
                  <a:pt x="20464" y="3249"/>
                </a:cubicBezTo>
                <a:cubicBezTo>
                  <a:pt x="20464" y="3197"/>
                  <a:pt x="20430" y="3200"/>
                  <a:pt x="20389" y="3200"/>
                </a:cubicBezTo>
                <a:cubicBezTo>
                  <a:pt x="20333" y="3200"/>
                  <a:pt x="20218" y="3249"/>
                  <a:pt x="20191" y="3299"/>
                </a:cubicBezTo>
                <a:cubicBezTo>
                  <a:pt x="20169" y="3341"/>
                  <a:pt x="20191" y="3442"/>
                  <a:pt x="20216" y="3473"/>
                </a:cubicBezTo>
                <a:cubicBezTo>
                  <a:pt x="20270" y="3540"/>
                  <a:pt x="20311" y="3471"/>
                  <a:pt x="20340" y="3423"/>
                </a:cubicBezTo>
                <a:cubicBezTo>
                  <a:pt x="20371" y="3372"/>
                  <a:pt x="20386" y="3262"/>
                  <a:pt x="20414" y="3225"/>
                </a:cubicBezTo>
                <a:cubicBezTo>
                  <a:pt x="20422" y="3225"/>
                  <a:pt x="20431" y="3225"/>
                  <a:pt x="20439" y="3225"/>
                </a:cubicBezTo>
                <a:cubicBezTo>
                  <a:pt x="20439" y="3305"/>
                  <a:pt x="20457" y="3369"/>
                  <a:pt x="20464" y="3448"/>
                </a:cubicBezTo>
                <a:cubicBezTo>
                  <a:pt x="20473" y="3550"/>
                  <a:pt x="20449" y="3674"/>
                  <a:pt x="20489" y="3770"/>
                </a:cubicBezTo>
                <a:cubicBezTo>
                  <a:pt x="20511" y="3793"/>
                  <a:pt x="20519" y="3798"/>
                  <a:pt x="20513" y="38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43880" y="1116000"/>
            <a:ext cx="330120" cy="241200"/>
          </a:xfrm>
          <a:custGeom>
            <a:avLst/>
            <a:gdLst/>
            <a:ahLst/>
            <a:rect l="l" t="t" r="r" b="b"/>
            <a:pathLst>
              <a:path w="919" h="670">
                <a:moveTo>
                  <a:pt x="21233" y="3547"/>
                </a:moveTo>
                <a:cubicBezTo>
                  <a:pt x="21233" y="3621"/>
                  <a:pt x="21233" y="3696"/>
                  <a:pt x="21233" y="3770"/>
                </a:cubicBezTo>
                <a:cubicBezTo>
                  <a:pt x="21246" y="3708"/>
                  <a:pt x="21283" y="3657"/>
                  <a:pt x="21307" y="3597"/>
                </a:cubicBezTo>
                <a:cubicBezTo>
                  <a:pt x="21332" y="3533"/>
                  <a:pt x="21349" y="3505"/>
                  <a:pt x="21382" y="3448"/>
                </a:cubicBezTo>
                <a:cubicBezTo>
                  <a:pt x="21411" y="3488"/>
                  <a:pt x="21419" y="3547"/>
                  <a:pt x="21431" y="3597"/>
                </a:cubicBezTo>
                <a:cubicBezTo>
                  <a:pt x="21444" y="3652"/>
                  <a:pt x="21411" y="3647"/>
                  <a:pt x="21456" y="3597"/>
                </a:cubicBezTo>
                <a:cubicBezTo>
                  <a:pt x="21494" y="3555"/>
                  <a:pt x="21463" y="3505"/>
                  <a:pt x="21530" y="3497"/>
                </a:cubicBezTo>
                <a:cubicBezTo>
                  <a:pt x="21581" y="3491"/>
                  <a:pt x="21621" y="3580"/>
                  <a:pt x="21630" y="3621"/>
                </a:cubicBezTo>
                <a:cubicBezTo>
                  <a:pt x="21639" y="3663"/>
                  <a:pt x="21645" y="3683"/>
                  <a:pt x="21654" y="3721"/>
                </a:cubicBezTo>
              </a:path>
              <a:path w="919" h="670">
                <a:moveTo>
                  <a:pt x="21927" y="3249"/>
                </a:moveTo>
                <a:cubicBezTo>
                  <a:pt x="21927" y="3203"/>
                  <a:pt x="21921" y="3185"/>
                  <a:pt x="21952" y="3150"/>
                </a:cubicBezTo>
                <a:cubicBezTo>
                  <a:pt x="21977" y="3122"/>
                  <a:pt x="22017" y="3109"/>
                  <a:pt x="22051" y="3101"/>
                </a:cubicBezTo>
                <a:cubicBezTo>
                  <a:pt x="22051" y="3162"/>
                  <a:pt x="22041" y="3192"/>
                  <a:pt x="22027" y="3249"/>
                </a:cubicBezTo>
                <a:cubicBezTo>
                  <a:pt x="22016" y="3294"/>
                  <a:pt x="22033" y="3319"/>
                  <a:pt x="22076" y="3324"/>
                </a:cubicBezTo>
                <a:cubicBezTo>
                  <a:pt x="22111" y="3324"/>
                  <a:pt x="22129" y="3319"/>
                  <a:pt x="22151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11765" b="53705"/>
          <a:stretch/>
        </p:blipFill>
        <p:spPr>
          <a:xfrm>
            <a:off x="228600" y="152280"/>
            <a:ext cx="8534520" cy="6164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84320" y="1670040"/>
            <a:ext cx="822600" cy="509760"/>
          </a:xfrm>
          <a:custGeom>
            <a:avLst/>
            <a:gdLst/>
            <a:ahLst/>
            <a:rect l="l" t="t" r="r" b="b"/>
            <a:pathLst>
              <a:path w="2283" h="1415">
                <a:moveTo>
                  <a:pt x="8632" y="5680"/>
                </a:moveTo>
                <a:cubicBezTo>
                  <a:pt x="8632" y="5705"/>
                  <a:pt x="8632" y="5713"/>
                  <a:pt x="8657" y="5705"/>
                </a:cubicBezTo>
                <a:cubicBezTo>
                  <a:pt x="8595" y="5705"/>
                  <a:pt x="8567" y="5715"/>
                  <a:pt x="8508" y="5730"/>
                </a:cubicBezTo>
                <a:cubicBezTo>
                  <a:pt x="8457" y="5743"/>
                  <a:pt x="8443" y="5779"/>
                  <a:pt x="8384" y="5779"/>
                </a:cubicBezTo>
              </a:path>
              <a:path w="2283" h="1415">
                <a:moveTo>
                  <a:pt x="8930" y="5606"/>
                </a:moveTo>
                <a:cubicBezTo>
                  <a:pt x="8913" y="5602"/>
                  <a:pt x="8841" y="5562"/>
                  <a:pt x="8880" y="5531"/>
                </a:cubicBezTo>
                <a:cubicBezTo>
                  <a:pt x="8898" y="5516"/>
                  <a:pt x="8918" y="5486"/>
                  <a:pt x="8954" y="5482"/>
                </a:cubicBezTo>
                <a:cubicBezTo>
                  <a:pt x="9005" y="5476"/>
                  <a:pt x="9019" y="5497"/>
                  <a:pt x="9054" y="5531"/>
                </a:cubicBezTo>
                <a:cubicBezTo>
                  <a:pt x="9102" y="5579"/>
                  <a:pt x="9103" y="5587"/>
                  <a:pt x="9103" y="5655"/>
                </a:cubicBezTo>
                <a:cubicBezTo>
                  <a:pt x="9103" y="5732"/>
                  <a:pt x="9100" y="5788"/>
                  <a:pt x="9054" y="5854"/>
                </a:cubicBezTo>
                <a:cubicBezTo>
                  <a:pt x="9036" y="5880"/>
                  <a:pt x="9009" y="5941"/>
                  <a:pt x="9029" y="5978"/>
                </a:cubicBezTo>
                <a:cubicBezTo>
                  <a:pt x="9045" y="6006"/>
                  <a:pt x="9098" y="6014"/>
                  <a:pt x="9128" y="6003"/>
                </a:cubicBezTo>
                <a:cubicBezTo>
                  <a:pt x="9173" y="5987"/>
                  <a:pt x="9209" y="5958"/>
                  <a:pt x="9252" y="5953"/>
                </a:cubicBezTo>
                <a:cubicBezTo>
                  <a:pt x="9295" y="5948"/>
                  <a:pt x="9289" y="5967"/>
                  <a:pt x="9302" y="5928"/>
                </a:cubicBezTo>
              </a:path>
              <a:path w="2283" h="1415">
                <a:moveTo>
                  <a:pt x="9649" y="5755"/>
                </a:moveTo>
                <a:cubicBezTo>
                  <a:pt x="9657" y="5755"/>
                  <a:pt x="9666" y="5755"/>
                  <a:pt x="9674" y="5755"/>
                </a:cubicBezTo>
                <a:cubicBezTo>
                  <a:pt x="9631" y="5755"/>
                  <a:pt x="9588" y="5764"/>
                  <a:pt x="9550" y="5779"/>
                </a:cubicBezTo>
                <a:cubicBezTo>
                  <a:pt x="9497" y="5800"/>
                  <a:pt x="9481" y="5804"/>
                  <a:pt x="9426" y="5804"/>
                </a:cubicBezTo>
                <a:cubicBezTo>
                  <a:pt x="9401" y="5804"/>
                  <a:pt x="9393" y="5804"/>
                  <a:pt x="9376" y="5804"/>
                </a:cubicBezTo>
              </a:path>
              <a:path w="2283" h="1415">
                <a:moveTo>
                  <a:pt x="9451" y="5655"/>
                </a:moveTo>
                <a:cubicBezTo>
                  <a:pt x="9475" y="5655"/>
                  <a:pt x="9483" y="5655"/>
                  <a:pt x="9475" y="5631"/>
                </a:cubicBezTo>
                <a:cubicBezTo>
                  <a:pt x="9489" y="5671"/>
                  <a:pt x="9500" y="5687"/>
                  <a:pt x="9500" y="5755"/>
                </a:cubicBezTo>
                <a:cubicBezTo>
                  <a:pt x="9500" y="5818"/>
                  <a:pt x="9525" y="5863"/>
                  <a:pt x="9525" y="5928"/>
                </a:cubicBezTo>
                <a:cubicBezTo>
                  <a:pt x="9525" y="5936"/>
                  <a:pt x="9525" y="5945"/>
                  <a:pt x="9525" y="5953"/>
                </a:cubicBezTo>
              </a:path>
              <a:path w="2283" h="1415">
                <a:moveTo>
                  <a:pt x="9922" y="5655"/>
                </a:moveTo>
                <a:cubicBezTo>
                  <a:pt x="9922" y="5620"/>
                  <a:pt x="9909" y="5575"/>
                  <a:pt x="9947" y="5556"/>
                </a:cubicBezTo>
                <a:cubicBezTo>
                  <a:pt x="9976" y="5541"/>
                  <a:pt x="10031" y="5514"/>
                  <a:pt x="10071" y="5531"/>
                </a:cubicBezTo>
                <a:cubicBezTo>
                  <a:pt x="10127" y="5555"/>
                  <a:pt x="10187" y="5630"/>
                  <a:pt x="10220" y="5680"/>
                </a:cubicBezTo>
                <a:cubicBezTo>
                  <a:pt x="10268" y="5753"/>
                  <a:pt x="10289" y="5845"/>
                  <a:pt x="10294" y="5928"/>
                </a:cubicBezTo>
                <a:cubicBezTo>
                  <a:pt x="10298" y="5994"/>
                  <a:pt x="10218" y="6000"/>
                  <a:pt x="10170" y="6003"/>
                </a:cubicBezTo>
                <a:cubicBezTo>
                  <a:pt x="10120" y="6006"/>
                  <a:pt x="10052" y="5971"/>
                  <a:pt x="10021" y="5928"/>
                </a:cubicBezTo>
                <a:cubicBezTo>
                  <a:pt x="9980" y="5871"/>
                  <a:pt x="9971" y="5822"/>
                  <a:pt x="9971" y="5755"/>
                </a:cubicBezTo>
                <a:cubicBezTo>
                  <a:pt x="9971" y="5698"/>
                  <a:pt x="9983" y="5680"/>
                  <a:pt x="9996" y="5655"/>
                </a:cubicBezTo>
                <a:cubicBezTo>
                  <a:pt x="9996" y="5647"/>
                  <a:pt x="9996" y="5639"/>
                  <a:pt x="9996" y="5631"/>
                </a:cubicBezTo>
              </a:path>
              <a:path w="2283" h="1415">
                <a:moveTo>
                  <a:pt x="8186" y="4663"/>
                </a:moveTo>
                <a:cubicBezTo>
                  <a:pt x="8194" y="4655"/>
                  <a:pt x="8202" y="4646"/>
                  <a:pt x="8210" y="4638"/>
                </a:cubicBezTo>
                <a:cubicBezTo>
                  <a:pt x="8180" y="4659"/>
                  <a:pt x="8151" y="4669"/>
                  <a:pt x="8136" y="4713"/>
                </a:cubicBezTo>
                <a:cubicBezTo>
                  <a:pt x="8123" y="4752"/>
                  <a:pt x="8102" y="4796"/>
                  <a:pt x="8086" y="4837"/>
                </a:cubicBezTo>
                <a:cubicBezTo>
                  <a:pt x="8067" y="4885"/>
                  <a:pt x="8044" y="4960"/>
                  <a:pt x="8037" y="5011"/>
                </a:cubicBezTo>
                <a:cubicBezTo>
                  <a:pt x="8029" y="5068"/>
                  <a:pt x="8015" y="5105"/>
                  <a:pt x="8012" y="5159"/>
                </a:cubicBezTo>
                <a:cubicBezTo>
                  <a:pt x="8004" y="5287"/>
                  <a:pt x="8017" y="5411"/>
                  <a:pt x="8037" y="5531"/>
                </a:cubicBezTo>
                <a:cubicBezTo>
                  <a:pt x="8049" y="5604"/>
                  <a:pt x="8095" y="5659"/>
                  <a:pt x="8111" y="5730"/>
                </a:cubicBezTo>
                <a:cubicBezTo>
                  <a:pt x="8127" y="5802"/>
                  <a:pt x="8138" y="5885"/>
                  <a:pt x="8161" y="5953"/>
                </a:cubicBezTo>
                <a:cubicBezTo>
                  <a:pt x="8175" y="5996"/>
                  <a:pt x="8186" y="6020"/>
                  <a:pt x="8210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18000" y="1963800"/>
            <a:ext cx="509760" cy="189000"/>
          </a:xfrm>
          <a:custGeom>
            <a:avLst/>
            <a:gdLst/>
            <a:ahLst/>
            <a:rect l="l" t="t" r="r" b="b"/>
            <a:pathLst>
              <a:path w="1415" h="522">
                <a:moveTo>
                  <a:pt x="12576" y="5482"/>
                </a:moveTo>
                <a:cubicBezTo>
                  <a:pt x="12631" y="5500"/>
                  <a:pt x="12589" y="5517"/>
                  <a:pt x="12576" y="5556"/>
                </a:cubicBezTo>
                <a:cubicBezTo>
                  <a:pt x="12563" y="5596"/>
                  <a:pt x="12561" y="5642"/>
                  <a:pt x="12551" y="5680"/>
                </a:cubicBezTo>
                <a:cubicBezTo>
                  <a:pt x="12603" y="5719"/>
                  <a:pt x="12637" y="5691"/>
                  <a:pt x="12700" y="5705"/>
                </a:cubicBezTo>
                <a:cubicBezTo>
                  <a:pt x="12750" y="5716"/>
                  <a:pt x="12842" y="5733"/>
                  <a:pt x="12874" y="5779"/>
                </a:cubicBezTo>
                <a:cubicBezTo>
                  <a:pt x="12891" y="5803"/>
                  <a:pt x="12924" y="5927"/>
                  <a:pt x="12898" y="5953"/>
                </a:cubicBezTo>
                <a:cubicBezTo>
                  <a:pt x="12852" y="6000"/>
                  <a:pt x="12757" y="5978"/>
                  <a:pt x="12700" y="5978"/>
                </a:cubicBezTo>
                <a:cubicBezTo>
                  <a:pt x="12642" y="5978"/>
                  <a:pt x="12622" y="5981"/>
                  <a:pt x="12576" y="5953"/>
                </a:cubicBezTo>
              </a:path>
              <a:path w="1415" h="522">
                <a:moveTo>
                  <a:pt x="12948" y="5457"/>
                </a:moveTo>
                <a:cubicBezTo>
                  <a:pt x="13000" y="5457"/>
                  <a:pt x="12898" y="5471"/>
                  <a:pt x="12874" y="5482"/>
                </a:cubicBezTo>
                <a:cubicBezTo>
                  <a:pt x="12811" y="5512"/>
                  <a:pt x="12744" y="5523"/>
                  <a:pt x="12675" y="5531"/>
                </a:cubicBezTo>
              </a:path>
              <a:path w="1415" h="522">
                <a:moveTo>
                  <a:pt x="13246" y="5730"/>
                </a:moveTo>
                <a:cubicBezTo>
                  <a:pt x="13254" y="5730"/>
                  <a:pt x="13263" y="5730"/>
                  <a:pt x="13271" y="5730"/>
                </a:cubicBezTo>
                <a:cubicBezTo>
                  <a:pt x="13224" y="5765"/>
                  <a:pt x="13200" y="5738"/>
                  <a:pt x="13146" y="5755"/>
                </a:cubicBezTo>
                <a:cubicBezTo>
                  <a:pt x="13096" y="5771"/>
                  <a:pt x="13095" y="5779"/>
                  <a:pt x="13047" y="5779"/>
                </a:cubicBezTo>
              </a:path>
              <a:path w="1415" h="522">
                <a:moveTo>
                  <a:pt x="13543" y="5680"/>
                </a:moveTo>
                <a:cubicBezTo>
                  <a:pt x="13501" y="5648"/>
                  <a:pt x="13494" y="5661"/>
                  <a:pt x="13494" y="5606"/>
                </a:cubicBezTo>
                <a:cubicBezTo>
                  <a:pt x="13494" y="5570"/>
                  <a:pt x="13499" y="5519"/>
                  <a:pt x="13543" y="5507"/>
                </a:cubicBezTo>
                <a:cubicBezTo>
                  <a:pt x="13619" y="5486"/>
                  <a:pt x="13707" y="5494"/>
                  <a:pt x="13742" y="5556"/>
                </a:cubicBezTo>
                <a:cubicBezTo>
                  <a:pt x="13779" y="5622"/>
                  <a:pt x="13774" y="5671"/>
                  <a:pt x="13742" y="5730"/>
                </a:cubicBezTo>
                <a:cubicBezTo>
                  <a:pt x="13713" y="5784"/>
                  <a:pt x="13679" y="5819"/>
                  <a:pt x="13667" y="5879"/>
                </a:cubicBezTo>
                <a:cubicBezTo>
                  <a:pt x="13720" y="5879"/>
                  <a:pt x="13741" y="5863"/>
                  <a:pt x="13791" y="5854"/>
                </a:cubicBezTo>
                <a:cubicBezTo>
                  <a:pt x="13847" y="5844"/>
                  <a:pt x="13879" y="5829"/>
                  <a:pt x="13940" y="5829"/>
                </a:cubicBezTo>
                <a:cubicBezTo>
                  <a:pt x="13948" y="5829"/>
                  <a:pt x="13957" y="5829"/>
                  <a:pt x="13965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70320" y="1598760"/>
            <a:ext cx="115920" cy="581040"/>
          </a:xfrm>
          <a:custGeom>
            <a:avLst/>
            <a:gdLst/>
            <a:ahLst/>
            <a:rect l="l" t="t" r="r" b="b"/>
            <a:pathLst>
              <a:path w="323" h="1613">
                <a:moveTo>
                  <a:pt x="14412" y="4440"/>
                </a:moveTo>
                <a:cubicBezTo>
                  <a:pt x="14428" y="4456"/>
                  <a:pt x="14442" y="4488"/>
                  <a:pt x="14461" y="4514"/>
                </a:cubicBezTo>
                <a:cubicBezTo>
                  <a:pt x="14496" y="4561"/>
                  <a:pt x="14532" y="4584"/>
                  <a:pt x="14560" y="4638"/>
                </a:cubicBezTo>
                <a:cubicBezTo>
                  <a:pt x="14611" y="4734"/>
                  <a:pt x="14633" y="4812"/>
                  <a:pt x="14660" y="4911"/>
                </a:cubicBezTo>
                <a:cubicBezTo>
                  <a:pt x="14682" y="4991"/>
                  <a:pt x="14684" y="5049"/>
                  <a:pt x="14684" y="5135"/>
                </a:cubicBezTo>
                <a:cubicBezTo>
                  <a:pt x="14684" y="5245"/>
                  <a:pt x="14696" y="5354"/>
                  <a:pt x="14660" y="5457"/>
                </a:cubicBezTo>
                <a:cubicBezTo>
                  <a:pt x="14634" y="5532"/>
                  <a:pt x="14591" y="5700"/>
                  <a:pt x="14536" y="5755"/>
                </a:cubicBezTo>
                <a:cubicBezTo>
                  <a:pt x="14479" y="5812"/>
                  <a:pt x="14451" y="5849"/>
                  <a:pt x="14412" y="5928"/>
                </a:cubicBezTo>
                <a:cubicBezTo>
                  <a:pt x="14382" y="5988"/>
                  <a:pt x="14371" y="5989"/>
                  <a:pt x="14362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38920" y="1625760"/>
            <a:ext cx="106200" cy="598320"/>
          </a:xfrm>
          <a:custGeom>
            <a:avLst/>
            <a:gdLst/>
            <a:ahLst/>
            <a:rect l="l" t="t" r="r" b="b"/>
            <a:pathLst>
              <a:path w="299" h="1663">
                <a:moveTo>
                  <a:pt x="16793" y="4514"/>
                </a:moveTo>
                <a:cubicBezTo>
                  <a:pt x="16793" y="4522"/>
                  <a:pt x="16793" y="4531"/>
                  <a:pt x="16793" y="4539"/>
                </a:cubicBezTo>
                <a:cubicBezTo>
                  <a:pt x="16776" y="4556"/>
                  <a:pt x="16763" y="4587"/>
                  <a:pt x="16743" y="4614"/>
                </a:cubicBezTo>
                <a:cubicBezTo>
                  <a:pt x="16712" y="4654"/>
                  <a:pt x="16705" y="4662"/>
                  <a:pt x="16669" y="4688"/>
                </a:cubicBezTo>
                <a:cubicBezTo>
                  <a:pt x="16663" y="4733"/>
                  <a:pt x="16655" y="4749"/>
                  <a:pt x="16644" y="4787"/>
                </a:cubicBezTo>
                <a:cubicBezTo>
                  <a:pt x="16644" y="4795"/>
                  <a:pt x="16644" y="4804"/>
                  <a:pt x="16644" y="4812"/>
                </a:cubicBezTo>
                <a:cubicBezTo>
                  <a:pt x="16635" y="4823"/>
                  <a:pt x="16600" y="4855"/>
                  <a:pt x="16594" y="4887"/>
                </a:cubicBezTo>
                <a:cubicBezTo>
                  <a:pt x="16586" y="4929"/>
                  <a:pt x="16583" y="4970"/>
                  <a:pt x="16570" y="5011"/>
                </a:cubicBezTo>
                <a:cubicBezTo>
                  <a:pt x="16558" y="5050"/>
                  <a:pt x="16529" y="5100"/>
                  <a:pt x="16520" y="5135"/>
                </a:cubicBezTo>
                <a:cubicBezTo>
                  <a:pt x="16511" y="5171"/>
                  <a:pt x="16501" y="5200"/>
                  <a:pt x="16495" y="5234"/>
                </a:cubicBezTo>
                <a:cubicBezTo>
                  <a:pt x="16474" y="5361"/>
                  <a:pt x="16497" y="5519"/>
                  <a:pt x="16520" y="5631"/>
                </a:cubicBezTo>
                <a:cubicBezTo>
                  <a:pt x="16533" y="5697"/>
                  <a:pt x="16524" y="5765"/>
                  <a:pt x="16545" y="5829"/>
                </a:cubicBezTo>
                <a:cubicBezTo>
                  <a:pt x="16566" y="5893"/>
                  <a:pt x="16577" y="5947"/>
                  <a:pt x="16619" y="6003"/>
                </a:cubicBezTo>
                <a:cubicBezTo>
                  <a:pt x="16648" y="6041"/>
                  <a:pt x="16657" y="6079"/>
                  <a:pt x="16669" y="6127"/>
                </a:cubicBezTo>
                <a:cubicBezTo>
                  <a:pt x="16677" y="6160"/>
                  <a:pt x="16678" y="6149"/>
                  <a:pt x="16694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88040" y="2054160"/>
            <a:ext cx="339840" cy="142920"/>
          </a:xfrm>
          <a:custGeom>
            <a:avLst/>
            <a:gdLst/>
            <a:ahLst/>
            <a:rect l="l" t="t" r="r" b="b"/>
            <a:pathLst>
              <a:path w="943" h="398">
                <a:moveTo>
                  <a:pt x="17413" y="5928"/>
                </a:moveTo>
                <a:cubicBezTo>
                  <a:pt x="17356" y="5928"/>
                  <a:pt x="17335" y="5938"/>
                  <a:pt x="17289" y="5953"/>
                </a:cubicBezTo>
                <a:cubicBezTo>
                  <a:pt x="17242" y="5969"/>
                  <a:pt x="17203" y="5963"/>
                  <a:pt x="17190" y="6003"/>
                </a:cubicBezTo>
              </a:path>
              <a:path w="943" h="398">
                <a:moveTo>
                  <a:pt x="17686" y="5779"/>
                </a:moveTo>
                <a:cubicBezTo>
                  <a:pt x="17678" y="5779"/>
                  <a:pt x="17669" y="5779"/>
                  <a:pt x="17661" y="5779"/>
                </a:cubicBezTo>
                <a:cubicBezTo>
                  <a:pt x="17674" y="5730"/>
                  <a:pt x="17704" y="5709"/>
                  <a:pt x="17760" y="5705"/>
                </a:cubicBezTo>
                <a:cubicBezTo>
                  <a:pt x="17830" y="5700"/>
                  <a:pt x="17889" y="5696"/>
                  <a:pt x="17909" y="5779"/>
                </a:cubicBezTo>
                <a:cubicBezTo>
                  <a:pt x="17927" y="5855"/>
                  <a:pt x="17891" y="5913"/>
                  <a:pt x="17859" y="5978"/>
                </a:cubicBezTo>
                <a:cubicBezTo>
                  <a:pt x="17839" y="6019"/>
                  <a:pt x="17820" y="6039"/>
                  <a:pt x="17810" y="6077"/>
                </a:cubicBezTo>
                <a:cubicBezTo>
                  <a:pt x="17841" y="6124"/>
                  <a:pt x="17873" y="6081"/>
                  <a:pt x="17934" y="6077"/>
                </a:cubicBezTo>
                <a:cubicBezTo>
                  <a:pt x="18000" y="6073"/>
                  <a:pt x="18066" y="6077"/>
                  <a:pt x="18132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91200" y="1616040"/>
            <a:ext cx="331920" cy="615960"/>
          </a:xfrm>
          <a:custGeom>
            <a:avLst/>
            <a:gdLst/>
            <a:ahLst/>
            <a:rect l="l" t="t" r="r" b="b"/>
            <a:pathLst>
              <a:path w="919" h="1712">
                <a:moveTo>
                  <a:pt x="19447" y="5606"/>
                </a:moveTo>
                <a:cubicBezTo>
                  <a:pt x="19409" y="5587"/>
                  <a:pt x="19477" y="5546"/>
                  <a:pt x="19521" y="5531"/>
                </a:cubicBezTo>
                <a:cubicBezTo>
                  <a:pt x="19567" y="5515"/>
                  <a:pt x="19637" y="5526"/>
                  <a:pt x="19670" y="5556"/>
                </a:cubicBezTo>
                <a:cubicBezTo>
                  <a:pt x="19712" y="5593"/>
                  <a:pt x="19702" y="5640"/>
                  <a:pt x="19670" y="5680"/>
                </a:cubicBezTo>
                <a:cubicBezTo>
                  <a:pt x="19639" y="5719"/>
                  <a:pt x="19607" y="5759"/>
                  <a:pt x="19596" y="5804"/>
                </a:cubicBezTo>
                <a:cubicBezTo>
                  <a:pt x="19646" y="5834"/>
                  <a:pt x="19693" y="5840"/>
                  <a:pt x="19745" y="5879"/>
                </a:cubicBezTo>
                <a:cubicBezTo>
                  <a:pt x="19781" y="5907"/>
                  <a:pt x="19809" y="5964"/>
                  <a:pt x="19819" y="6003"/>
                </a:cubicBezTo>
                <a:cubicBezTo>
                  <a:pt x="19772" y="6031"/>
                  <a:pt x="19727" y="6049"/>
                  <a:pt x="19670" y="6052"/>
                </a:cubicBezTo>
                <a:cubicBezTo>
                  <a:pt x="19621" y="6052"/>
                  <a:pt x="19604" y="6052"/>
                  <a:pt x="19571" y="6052"/>
                </a:cubicBezTo>
              </a:path>
              <a:path w="919" h="1712">
                <a:moveTo>
                  <a:pt x="19869" y="4490"/>
                </a:moveTo>
                <a:cubicBezTo>
                  <a:pt x="19884" y="4505"/>
                  <a:pt x="19920" y="4522"/>
                  <a:pt x="19943" y="4539"/>
                </a:cubicBezTo>
                <a:cubicBezTo>
                  <a:pt x="19956" y="4549"/>
                  <a:pt x="19992" y="4589"/>
                  <a:pt x="20017" y="4614"/>
                </a:cubicBezTo>
                <a:cubicBezTo>
                  <a:pt x="20066" y="4663"/>
                  <a:pt x="20101" y="4708"/>
                  <a:pt x="20141" y="4762"/>
                </a:cubicBezTo>
                <a:cubicBezTo>
                  <a:pt x="20177" y="4810"/>
                  <a:pt x="20189" y="4838"/>
                  <a:pt x="20216" y="4887"/>
                </a:cubicBezTo>
                <a:cubicBezTo>
                  <a:pt x="20244" y="4938"/>
                  <a:pt x="20278" y="5004"/>
                  <a:pt x="20290" y="5060"/>
                </a:cubicBezTo>
                <a:cubicBezTo>
                  <a:pt x="20304" y="5126"/>
                  <a:pt x="20329" y="5194"/>
                  <a:pt x="20340" y="5259"/>
                </a:cubicBezTo>
                <a:cubicBezTo>
                  <a:pt x="20364" y="5402"/>
                  <a:pt x="20337" y="5570"/>
                  <a:pt x="20315" y="5705"/>
                </a:cubicBezTo>
                <a:cubicBezTo>
                  <a:pt x="20303" y="5779"/>
                  <a:pt x="20276" y="5834"/>
                  <a:pt x="20241" y="5904"/>
                </a:cubicBezTo>
                <a:cubicBezTo>
                  <a:pt x="20211" y="5964"/>
                  <a:pt x="20185" y="6027"/>
                  <a:pt x="20141" y="6077"/>
                </a:cubicBezTo>
                <a:cubicBezTo>
                  <a:pt x="20109" y="6113"/>
                  <a:pt x="20108" y="6159"/>
                  <a:pt x="20092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43720" y="1857240"/>
            <a:ext cx="142560" cy="125640"/>
          </a:xfrm>
          <a:custGeom>
            <a:avLst/>
            <a:gdLst/>
            <a:ahLst/>
            <a:rect l="l" t="t" r="r" b="b"/>
            <a:pathLst>
              <a:path w="397" h="349">
                <a:moveTo>
                  <a:pt x="15949" y="5184"/>
                </a:moveTo>
                <a:cubicBezTo>
                  <a:pt x="15949" y="5176"/>
                  <a:pt x="15949" y="5167"/>
                  <a:pt x="15949" y="5159"/>
                </a:cubicBezTo>
                <a:cubicBezTo>
                  <a:pt x="15917" y="5167"/>
                  <a:pt x="15853" y="5195"/>
                  <a:pt x="15825" y="5209"/>
                </a:cubicBezTo>
                <a:cubicBezTo>
                  <a:pt x="15787" y="5228"/>
                  <a:pt x="15766" y="5270"/>
                  <a:pt x="15726" y="5283"/>
                </a:cubicBezTo>
                <a:cubicBezTo>
                  <a:pt x="15683" y="5297"/>
                  <a:pt x="15692" y="5262"/>
                  <a:pt x="15677" y="5308"/>
                </a:cubicBezTo>
              </a:path>
              <a:path w="397" h="349">
                <a:moveTo>
                  <a:pt x="16073" y="5407"/>
                </a:moveTo>
                <a:cubicBezTo>
                  <a:pt x="16030" y="5407"/>
                  <a:pt x="15987" y="5417"/>
                  <a:pt x="15949" y="5432"/>
                </a:cubicBezTo>
                <a:cubicBezTo>
                  <a:pt x="15899" y="5452"/>
                  <a:pt x="15846" y="5492"/>
                  <a:pt x="15801" y="5507"/>
                </a:cubicBezTo>
                <a:cubicBezTo>
                  <a:pt x="15793" y="5507"/>
                  <a:pt x="15784" y="5507"/>
                  <a:pt x="15776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4760" y="1677960"/>
            <a:ext cx="196560" cy="162000"/>
          </a:xfrm>
          <a:custGeom>
            <a:avLst/>
            <a:gdLst/>
            <a:ahLst/>
            <a:rect l="l" t="t" r="r" b="b"/>
            <a:pathLst>
              <a:path w="547" h="448">
                <a:moveTo>
                  <a:pt x="17289" y="4688"/>
                </a:moveTo>
                <a:cubicBezTo>
                  <a:pt x="17314" y="4688"/>
                  <a:pt x="17322" y="4688"/>
                  <a:pt x="17314" y="4663"/>
                </a:cubicBezTo>
                <a:cubicBezTo>
                  <a:pt x="17314" y="4767"/>
                  <a:pt x="17273" y="5065"/>
                  <a:pt x="17338" y="5110"/>
                </a:cubicBezTo>
              </a:path>
              <a:path w="547" h="448">
                <a:moveTo>
                  <a:pt x="17537" y="4887"/>
                </a:moveTo>
                <a:cubicBezTo>
                  <a:pt x="17537" y="4861"/>
                  <a:pt x="17544" y="4799"/>
                  <a:pt x="17562" y="4787"/>
                </a:cubicBezTo>
                <a:cubicBezTo>
                  <a:pt x="17597" y="4764"/>
                  <a:pt x="17597" y="4762"/>
                  <a:pt x="17661" y="4762"/>
                </a:cubicBezTo>
                <a:cubicBezTo>
                  <a:pt x="17700" y="4762"/>
                  <a:pt x="17735" y="4751"/>
                  <a:pt x="17760" y="4787"/>
                </a:cubicBezTo>
                <a:cubicBezTo>
                  <a:pt x="17809" y="4858"/>
                  <a:pt x="17789" y="4885"/>
                  <a:pt x="17810" y="4961"/>
                </a:cubicBezTo>
                <a:cubicBezTo>
                  <a:pt x="17832" y="5039"/>
                  <a:pt x="17845" y="5025"/>
                  <a:pt x="17785" y="5085"/>
                </a:cubicBezTo>
                <a:cubicBezTo>
                  <a:pt x="17759" y="5111"/>
                  <a:pt x="17676" y="5127"/>
                  <a:pt x="17636" y="5110"/>
                </a:cubicBezTo>
                <a:cubicBezTo>
                  <a:pt x="17599" y="5095"/>
                  <a:pt x="17590" y="5017"/>
                  <a:pt x="17587" y="4986"/>
                </a:cubicBezTo>
                <a:cubicBezTo>
                  <a:pt x="17587" y="4953"/>
                  <a:pt x="17587" y="4936"/>
                  <a:pt x="17587" y="4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80160" y="1758960"/>
            <a:ext cx="88920" cy="9360"/>
          </a:xfrm>
          <a:custGeom>
            <a:avLst/>
            <a:gdLst/>
            <a:ahLst/>
            <a:rect l="l" t="t" r="r" b="b"/>
            <a:pathLst>
              <a:path w="249" h="25">
                <a:moveTo>
                  <a:pt x="18554" y="4911"/>
                </a:moveTo>
                <a:cubicBezTo>
                  <a:pt x="18612" y="4911"/>
                  <a:pt x="18657" y="4897"/>
                  <a:pt x="18703" y="4887"/>
                </a:cubicBezTo>
                <a:cubicBezTo>
                  <a:pt x="18731" y="4881"/>
                  <a:pt x="18772" y="4887"/>
                  <a:pt x="18802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85000" y="1677960"/>
            <a:ext cx="223920" cy="135000"/>
          </a:xfrm>
          <a:custGeom>
            <a:avLst/>
            <a:gdLst/>
            <a:ahLst/>
            <a:rect l="l" t="t" r="r" b="b"/>
            <a:pathLst>
              <a:path w="622" h="373">
                <a:moveTo>
                  <a:pt x="19124" y="4738"/>
                </a:moveTo>
                <a:cubicBezTo>
                  <a:pt x="19124" y="4829"/>
                  <a:pt x="19124" y="4920"/>
                  <a:pt x="19124" y="5011"/>
                </a:cubicBezTo>
              </a:path>
              <a:path w="622" h="373">
                <a:moveTo>
                  <a:pt x="19422" y="4713"/>
                </a:moveTo>
                <a:cubicBezTo>
                  <a:pt x="19430" y="4705"/>
                  <a:pt x="19439" y="4696"/>
                  <a:pt x="19447" y="4688"/>
                </a:cubicBezTo>
                <a:cubicBezTo>
                  <a:pt x="19424" y="4719"/>
                  <a:pt x="19401" y="4748"/>
                  <a:pt x="19397" y="4787"/>
                </a:cubicBezTo>
                <a:cubicBezTo>
                  <a:pt x="19397" y="4812"/>
                  <a:pt x="19397" y="4820"/>
                  <a:pt x="19397" y="4837"/>
                </a:cubicBezTo>
                <a:cubicBezTo>
                  <a:pt x="19450" y="4837"/>
                  <a:pt x="19467" y="4857"/>
                  <a:pt x="19521" y="4862"/>
                </a:cubicBezTo>
                <a:cubicBezTo>
                  <a:pt x="19561" y="4865"/>
                  <a:pt x="19600" y="4865"/>
                  <a:pt x="19621" y="4911"/>
                </a:cubicBezTo>
                <a:cubicBezTo>
                  <a:pt x="19632" y="4935"/>
                  <a:pt x="19639" y="4960"/>
                  <a:pt x="19645" y="4986"/>
                </a:cubicBezTo>
                <a:cubicBezTo>
                  <a:pt x="19620" y="4992"/>
                  <a:pt x="19568" y="4999"/>
                  <a:pt x="19546" y="5011"/>
                </a:cubicBezTo>
                <a:cubicBezTo>
                  <a:pt x="19513" y="5029"/>
                  <a:pt x="19467" y="5057"/>
                  <a:pt x="19422" y="5035"/>
                </a:cubicBezTo>
                <a:cubicBezTo>
                  <a:pt x="19414" y="5027"/>
                  <a:pt x="19405" y="5019"/>
                  <a:pt x="19397" y="5011"/>
                </a:cubicBezTo>
              </a:path>
              <a:path w="622" h="373">
                <a:moveTo>
                  <a:pt x="19745" y="4688"/>
                </a:moveTo>
                <a:cubicBezTo>
                  <a:pt x="19735" y="4657"/>
                  <a:pt x="19690" y="4649"/>
                  <a:pt x="19645" y="4663"/>
                </a:cubicBezTo>
                <a:cubicBezTo>
                  <a:pt x="19586" y="4681"/>
                  <a:pt x="19560" y="4688"/>
                  <a:pt x="19496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4880" y="1687680"/>
            <a:ext cx="544320" cy="179280"/>
          </a:xfrm>
          <a:custGeom>
            <a:avLst/>
            <a:gdLst/>
            <a:ahLst/>
            <a:rect l="l" t="t" r="r" b="b"/>
            <a:pathLst>
              <a:path w="1514" h="497">
                <a:moveTo>
                  <a:pt x="8483" y="4911"/>
                </a:moveTo>
                <a:cubicBezTo>
                  <a:pt x="8483" y="4936"/>
                  <a:pt x="8483" y="4944"/>
                  <a:pt x="8458" y="4936"/>
                </a:cubicBezTo>
                <a:cubicBezTo>
                  <a:pt x="8458" y="4898"/>
                  <a:pt x="8442" y="4832"/>
                  <a:pt x="8483" y="4812"/>
                </a:cubicBezTo>
                <a:cubicBezTo>
                  <a:pt x="8518" y="4795"/>
                  <a:pt x="8563" y="4765"/>
                  <a:pt x="8607" y="4762"/>
                </a:cubicBezTo>
                <a:cubicBezTo>
                  <a:pt x="8687" y="4757"/>
                  <a:pt x="8695" y="4818"/>
                  <a:pt x="8706" y="4887"/>
                </a:cubicBezTo>
                <a:cubicBezTo>
                  <a:pt x="8718" y="4960"/>
                  <a:pt x="8697" y="5018"/>
                  <a:pt x="8682" y="5085"/>
                </a:cubicBezTo>
                <a:cubicBezTo>
                  <a:pt x="8673" y="5123"/>
                  <a:pt x="8694" y="5167"/>
                  <a:pt x="8731" y="5184"/>
                </a:cubicBezTo>
                <a:cubicBezTo>
                  <a:pt x="8767" y="5200"/>
                  <a:pt x="8874" y="5173"/>
                  <a:pt x="8905" y="5159"/>
                </a:cubicBezTo>
                <a:cubicBezTo>
                  <a:pt x="8949" y="5139"/>
                  <a:pt x="8977" y="5135"/>
                  <a:pt x="9029" y="5135"/>
                </a:cubicBezTo>
                <a:cubicBezTo>
                  <a:pt x="9072" y="5135"/>
                  <a:pt x="9070" y="5119"/>
                  <a:pt x="9079" y="5085"/>
                </a:cubicBezTo>
              </a:path>
              <a:path w="1514" h="497">
                <a:moveTo>
                  <a:pt x="9376" y="4936"/>
                </a:moveTo>
                <a:cubicBezTo>
                  <a:pt x="9384" y="4936"/>
                  <a:pt x="9393" y="4936"/>
                  <a:pt x="9401" y="4936"/>
                </a:cubicBezTo>
                <a:cubicBezTo>
                  <a:pt x="9343" y="4936"/>
                  <a:pt x="9298" y="4952"/>
                  <a:pt x="9252" y="4961"/>
                </a:cubicBezTo>
                <a:cubicBezTo>
                  <a:pt x="9202" y="4971"/>
                  <a:pt x="9153" y="4976"/>
                  <a:pt x="9103" y="4986"/>
                </a:cubicBezTo>
              </a:path>
              <a:path w="1514" h="497">
                <a:moveTo>
                  <a:pt x="9178" y="4837"/>
                </a:moveTo>
                <a:cubicBezTo>
                  <a:pt x="9186" y="4829"/>
                  <a:pt x="9195" y="4820"/>
                  <a:pt x="9203" y="4812"/>
                </a:cubicBezTo>
                <a:cubicBezTo>
                  <a:pt x="9228" y="4872"/>
                  <a:pt x="9243" y="4946"/>
                  <a:pt x="9252" y="5011"/>
                </a:cubicBezTo>
                <a:cubicBezTo>
                  <a:pt x="9259" y="5059"/>
                  <a:pt x="9267" y="5069"/>
                  <a:pt x="9277" y="5110"/>
                </a:cubicBezTo>
              </a:path>
              <a:path w="1514" h="497">
                <a:moveTo>
                  <a:pt x="9823" y="4738"/>
                </a:moveTo>
                <a:cubicBezTo>
                  <a:pt x="9865" y="4738"/>
                  <a:pt x="9860" y="4748"/>
                  <a:pt x="9872" y="4713"/>
                </a:cubicBezTo>
                <a:cubicBezTo>
                  <a:pt x="9850" y="4696"/>
                  <a:pt x="9807" y="4669"/>
                  <a:pt x="9773" y="4688"/>
                </a:cubicBezTo>
                <a:cubicBezTo>
                  <a:pt x="9739" y="4707"/>
                  <a:pt x="9703" y="4752"/>
                  <a:pt x="9699" y="4787"/>
                </a:cubicBezTo>
                <a:cubicBezTo>
                  <a:pt x="9695" y="4828"/>
                  <a:pt x="9684" y="4906"/>
                  <a:pt x="9723" y="4911"/>
                </a:cubicBezTo>
                <a:cubicBezTo>
                  <a:pt x="9752" y="4914"/>
                  <a:pt x="9794" y="4925"/>
                  <a:pt x="9823" y="4936"/>
                </a:cubicBezTo>
                <a:cubicBezTo>
                  <a:pt x="9858" y="4949"/>
                  <a:pt x="9920" y="4968"/>
                  <a:pt x="9947" y="4986"/>
                </a:cubicBezTo>
                <a:cubicBezTo>
                  <a:pt x="9979" y="5008"/>
                  <a:pt x="9971" y="5027"/>
                  <a:pt x="9971" y="5060"/>
                </a:cubicBezTo>
                <a:cubicBezTo>
                  <a:pt x="9936" y="5082"/>
                  <a:pt x="9889" y="5107"/>
                  <a:pt x="9847" y="5110"/>
                </a:cubicBezTo>
                <a:cubicBezTo>
                  <a:pt x="9778" y="5115"/>
                  <a:pt x="9773" y="5093"/>
                  <a:pt x="9773" y="5035"/>
                </a:cubicBezTo>
                <a:cubicBezTo>
                  <a:pt x="9773" y="4974"/>
                  <a:pt x="9825" y="4918"/>
                  <a:pt x="9847" y="4862"/>
                </a:cubicBezTo>
                <a:cubicBezTo>
                  <a:pt x="9866" y="4813"/>
                  <a:pt x="9868" y="4718"/>
                  <a:pt x="9922" y="4688"/>
                </a:cubicBezTo>
                <a:cubicBezTo>
                  <a:pt x="9930" y="4688"/>
                  <a:pt x="9939" y="4688"/>
                  <a:pt x="9947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3160" y="1670040"/>
            <a:ext cx="839880" cy="179280"/>
          </a:xfrm>
          <a:custGeom>
            <a:avLst/>
            <a:gdLst/>
            <a:ahLst/>
            <a:rect l="l" t="t" r="r" b="b"/>
            <a:pathLst>
              <a:path w="2332" h="498">
                <a:moveTo>
                  <a:pt x="12179" y="4911"/>
                </a:moveTo>
                <a:cubicBezTo>
                  <a:pt x="12187" y="4911"/>
                  <a:pt x="12196" y="4911"/>
                  <a:pt x="12204" y="4911"/>
                </a:cubicBezTo>
                <a:cubicBezTo>
                  <a:pt x="12168" y="4911"/>
                  <a:pt x="12132" y="4918"/>
                  <a:pt x="12105" y="4936"/>
                </a:cubicBezTo>
                <a:cubicBezTo>
                  <a:pt x="12071" y="4959"/>
                  <a:pt x="12034" y="4992"/>
                  <a:pt x="12005" y="5011"/>
                </a:cubicBezTo>
                <a:cubicBezTo>
                  <a:pt x="11997" y="5019"/>
                  <a:pt x="11989" y="5027"/>
                  <a:pt x="11981" y="5035"/>
                </a:cubicBezTo>
              </a:path>
              <a:path w="2332" h="498">
                <a:moveTo>
                  <a:pt x="12477" y="4713"/>
                </a:moveTo>
                <a:cubicBezTo>
                  <a:pt x="12452" y="4713"/>
                  <a:pt x="12444" y="4713"/>
                  <a:pt x="12452" y="4738"/>
                </a:cubicBezTo>
                <a:cubicBezTo>
                  <a:pt x="12467" y="4678"/>
                  <a:pt x="12491" y="4688"/>
                  <a:pt x="12551" y="4688"/>
                </a:cubicBezTo>
                <a:cubicBezTo>
                  <a:pt x="12600" y="4688"/>
                  <a:pt x="12667" y="4671"/>
                  <a:pt x="12700" y="4713"/>
                </a:cubicBezTo>
                <a:cubicBezTo>
                  <a:pt x="12742" y="4768"/>
                  <a:pt x="12727" y="4812"/>
                  <a:pt x="12700" y="4862"/>
                </a:cubicBezTo>
                <a:cubicBezTo>
                  <a:pt x="12678" y="4903"/>
                  <a:pt x="12639" y="4946"/>
                  <a:pt x="12626" y="4986"/>
                </a:cubicBezTo>
                <a:cubicBezTo>
                  <a:pt x="12626" y="4994"/>
                  <a:pt x="12626" y="5003"/>
                  <a:pt x="12626" y="5011"/>
                </a:cubicBezTo>
                <a:cubicBezTo>
                  <a:pt x="12671" y="5038"/>
                  <a:pt x="12723" y="5040"/>
                  <a:pt x="12774" y="5060"/>
                </a:cubicBezTo>
                <a:cubicBezTo>
                  <a:pt x="12826" y="5081"/>
                  <a:pt x="12837" y="5075"/>
                  <a:pt x="12849" y="5110"/>
                </a:cubicBezTo>
                <a:cubicBezTo>
                  <a:pt x="12834" y="5154"/>
                  <a:pt x="12778" y="5135"/>
                  <a:pt x="12725" y="5135"/>
                </a:cubicBezTo>
                <a:cubicBezTo>
                  <a:pt x="12667" y="5135"/>
                  <a:pt x="12609" y="5135"/>
                  <a:pt x="12551" y="5135"/>
                </a:cubicBezTo>
              </a:path>
              <a:path w="2332" h="498">
                <a:moveTo>
                  <a:pt x="13246" y="4911"/>
                </a:moveTo>
                <a:cubicBezTo>
                  <a:pt x="13199" y="4911"/>
                  <a:pt x="13167" y="4933"/>
                  <a:pt x="13122" y="4936"/>
                </a:cubicBezTo>
                <a:cubicBezTo>
                  <a:pt x="13063" y="4940"/>
                  <a:pt x="13048" y="4948"/>
                  <a:pt x="12998" y="4961"/>
                </a:cubicBezTo>
              </a:path>
              <a:path w="2332" h="498">
                <a:moveTo>
                  <a:pt x="13072" y="4837"/>
                </a:moveTo>
                <a:cubicBezTo>
                  <a:pt x="13111" y="4889"/>
                  <a:pt x="13079" y="4899"/>
                  <a:pt x="13097" y="4961"/>
                </a:cubicBezTo>
                <a:cubicBezTo>
                  <a:pt x="13112" y="5013"/>
                  <a:pt x="13122" y="5011"/>
                  <a:pt x="13122" y="5060"/>
                </a:cubicBezTo>
              </a:path>
              <a:path w="2332" h="498">
                <a:moveTo>
                  <a:pt x="13543" y="4663"/>
                </a:moveTo>
                <a:cubicBezTo>
                  <a:pt x="13543" y="4655"/>
                  <a:pt x="13543" y="4646"/>
                  <a:pt x="13543" y="4638"/>
                </a:cubicBezTo>
                <a:cubicBezTo>
                  <a:pt x="13575" y="4654"/>
                  <a:pt x="13542" y="4673"/>
                  <a:pt x="13519" y="4713"/>
                </a:cubicBezTo>
                <a:cubicBezTo>
                  <a:pt x="13483" y="4776"/>
                  <a:pt x="13474" y="4864"/>
                  <a:pt x="13469" y="4936"/>
                </a:cubicBezTo>
                <a:cubicBezTo>
                  <a:pt x="13466" y="4978"/>
                  <a:pt x="13465" y="5045"/>
                  <a:pt x="13519" y="5060"/>
                </a:cubicBezTo>
                <a:cubicBezTo>
                  <a:pt x="13572" y="5075"/>
                  <a:pt x="13613" y="5032"/>
                  <a:pt x="13618" y="4986"/>
                </a:cubicBezTo>
                <a:cubicBezTo>
                  <a:pt x="13618" y="4961"/>
                  <a:pt x="13618" y="4953"/>
                  <a:pt x="13618" y="4936"/>
                </a:cubicBezTo>
                <a:cubicBezTo>
                  <a:pt x="13577" y="4936"/>
                  <a:pt x="13535" y="4936"/>
                  <a:pt x="13494" y="4936"/>
                </a:cubicBezTo>
              </a:path>
              <a:path w="2332" h="498">
                <a:moveTo>
                  <a:pt x="13841" y="4887"/>
                </a:moveTo>
                <a:cubicBezTo>
                  <a:pt x="13854" y="4847"/>
                  <a:pt x="13888" y="4841"/>
                  <a:pt x="13940" y="4837"/>
                </a:cubicBezTo>
                <a:cubicBezTo>
                  <a:pt x="14007" y="4831"/>
                  <a:pt x="14001" y="4896"/>
                  <a:pt x="14015" y="4936"/>
                </a:cubicBezTo>
                <a:cubicBezTo>
                  <a:pt x="14032" y="4986"/>
                  <a:pt x="14039" y="5007"/>
                  <a:pt x="14039" y="5060"/>
                </a:cubicBezTo>
                <a:cubicBezTo>
                  <a:pt x="13994" y="5060"/>
                  <a:pt x="13980" y="5081"/>
                  <a:pt x="13940" y="5085"/>
                </a:cubicBezTo>
                <a:cubicBezTo>
                  <a:pt x="13899" y="5090"/>
                  <a:pt x="13901" y="5092"/>
                  <a:pt x="13891" y="5060"/>
                </a:cubicBezTo>
              </a:path>
              <a:path w="2332" h="498">
                <a:moveTo>
                  <a:pt x="14163" y="4837"/>
                </a:moveTo>
                <a:cubicBezTo>
                  <a:pt x="14180" y="4820"/>
                  <a:pt x="14196" y="4804"/>
                  <a:pt x="14213" y="4787"/>
                </a:cubicBezTo>
                <a:cubicBezTo>
                  <a:pt x="14153" y="4821"/>
                  <a:pt x="14106" y="4862"/>
                  <a:pt x="14089" y="4936"/>
                </a:cubicBezTo>
                <a:cubicBezTo>
                  <a:pt x="14075" y="4998"/>
                  <a:pt x="14135" y="5042"/>
                  <a:pt x="14188" y="5060"/>
                </a:cubicBezTo>
                <a:cubicBezTo>
                  <a:pt x="14246" y="5079"/>
                  <a:pt x="14275" y="5048"/>
                  <a:pt x="14312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71760" y="250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366" y="6945"/>
                </a:moveTo>
                <a:lnTo>
                  <a:pt x="4366" y="69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98920" y="2320920"/>
            <a:ext cx="2857320" cy="760320"/>
          </a:xfrm>
          <a:custGeom>
            <a:avLst/>
            <a:gdLst/>
            <a:ahLst/>
            <a:rect l="l" t="t" r="r" b="b"/>
            <a:pathLst>
              <a:path w="7939" h="2110">
                <a:moveTo>
                  <a:pt x="12849" y="7144"/>
                </a:moveTo>
                <a:cubicBezTo>
                  <a:pt x="12857" y="7144"/>
                  <a:pt x="12866" y="7144"/>
                  <a:pt x="12874" y="7144"/>
                </a:cubicBezTo>
                <a:cubicBezTo>
                  <a:pt x="12861" y="7182"/>
                  <a:pt x="12844" y="7169"/>
                  <a:pt x="12799" y="7169"/>
                </a:cubicBezTo>
                <a:cubicBezTo>
                  <a:pt x="12737" y="7169"/>
                  <a:pt x="12690" y="7193"/>
                  <a:pt x="12626" y="7193"/>
                </a:cubicBezTo>
                <a:cubicBezTo>
                  <a:pt x="12587" y="7193"/>
                  <a:pt x="12570" y="7169"/>
                  <a:pt x="12526" y="7169"/>
                </a:cubicBezTo>
                <a:cubicBezTo>
                  <a:pt x="12526" y="7193"/>
                  <a:pt x="12526" y="7202"/>
                  <a:pt x="12526" y="7218"/>
                </a:cubicBezTo>
              </a:path>
              <a:path w="7939" h="2110">
                <a:moveTo>
                  <a:pt x="13146" y="6970"/>
                </a:moveTo>
                <a:cubicBezTo>
                  <a:pt x="13111" y="6943"/>
                  <a:pt x="13108" y="6953"/>
                  <a:pt x="13097" y="6921"/>
                </a:cubicBezTo>
                <a:cubicBezTo>
                  <a:pt x="13140" y="6877"/>
                  <a:pt x="13184" y="6856"/>
                  <a:pt x="13246" y="6846"/>
                </a:cubicBezTo>
                <a:cubicBezTo>
                  <a:pt x="13290" y="6839"/>
                  <a:pt x="13380" y="6870"/>
                  <a:pt x="13395" y="6921"/>
                </a:cubicBezTo>
                <a:cubicBezTo>
                  <a:pt x="13410" y="6973"/>
                  <a:pt x="13391" y="7030"/>
                  <a:pt x="13370" y="7069"/>
                </a:cubicBezTo>
                <a:cubicBezTo>
                  <a:pt x="13346" y="7113"/>
                  <a:pt x="13289" y="7151"/>
                  <a:pt x="13271" y="7193"/>
                </a:cubicBezTo>
                <a:cubicBezTo>
                  <a:pt x="13271" y="7201"/>
                  <a:pt x="13271" y="7210"/>
                  <a:pt x="13271" y="7218"/>
                </a:cubicBezTo>
                <a:cubicBezTo>
                  <a:pt x="13315" y="7227"/>
                  <a:pt x="13410" y="7235"/>
                  <a:pt x="13444" y="7268"/>
                </a:cubicBezTo>
                <a:cubicBezTo>
                  <a:pt x="13484" y="7307"/>
                  <a:pt x="13519" y="7337"/>
                  <a:pt x="13519" y="7392"/>
                </a:cubicBezTo>
                <a:cubicBezTo>
                  <a:pt x="13519" y="7445"/>
                  <a:pt x="13486" y="7441"/>
                  <a:pt x="13444" y="7441"/>
                </a:cubicBezTo>
                <a:cubicBezTo>
                  <a:pt x="13386" y="7441"/>
                  <a:pt x="13329" y="7441"/>
                  <a:pt x="13271" y="7441"/>
                </a:cubicBezTo>
              </a:path>
              <a:path w="7939" h="2110">
                <a:moveTo>
                  <a:pt x="13990" y="7144"/>
                </a:moveTo>
                <a:cubicBezTo>
                  <a:pt x="14029" y="7157"/>
                  <a:pt x="14000" y="7156"/>
                  <a:pt x="14039" y="7169"/>
                </a:cubicBezTo>
                <a:cubicBezTo>
                  <a:pt x="13988" y="7169"/>
                  <a:pt x="13956" y="7181"/>
                  <a:pt x="13915" y="7193"/>
                </a:cubicBezTo>
                <a:cubicBezTo>
                  <a:pt x="13882" y="7203"/>
                  <a:pt x="13847" y="7215"/>
                  <a:pt x="13816" y="7218"/>
                </a:cubicBezTo>
                <a:cubicBezTo>
                  <a:pt x="13791" y="7218"/>
                  <a:pt x="13783" y="7218"/>
                  <a:pt x="13791" y="7193"/>
                </a:cubicBezTo>
              </a:path>
              <a:path w="7939" h="2110">
                <a:moveTo>
                  <a:pt x="13866" y="7045"/>
                </a:moveTo>
                <a:cubicBezTo>
                  <a:pt x="13911" y="7059"/>
                  <a:pt x="13891" y="7116"/>
                  <a:pt x="13891" y="7169"/>
                </a:cubicBezTo>
                <a:cubicBezTo>
                  <a:pt x="13891" y="7252"/>
                  <a:pt x="13891" y="7334"/>
                  <a:pt x="13891" y="7417"/>
                </a:cubicBezTo>
              </a:path>
              <a:path w="7939" h="2110">
                <a:moveTo>
                  <a:pt x="14784" y="6871"/>
                </a:moveTo>
                <a:cubicBezTo>
                  <a:pt x="14784" y="6846"/>
                  <a:pt x="14784" y="6838"/>
                  <a:pt x="14808" y="6846"/>
                </a:cubicBezTo>
                <a:cubicBezTo>
                  <a:pt x="14759" y="6846"/>
                  <a:pt x="14715" y="6883"/>
                  <a:pt x="14684" y="6921"/>
                </a:cubicBezTo>
                <a:cubicBezTo>
                  <a:pt x="14628" y="6991"/>
                  <a:pt x="14613" y="7109"/>
                  <a:pt x="14610" y="7193"/>
                </a:cubicBezTo>
                <a:cubicBezTo>
                  <a:pt x="14606" y="7291"/>
                  <a:pt x="14677" y="7367"/>
                  <a:pt x="14759" y="7417"/>
                </a:cubicBezTo>
                <a:cubicBezTo>
                  <a:pt x="14823" y="7456"/>
                  <a:pt x="14896" y="7455"/>
                  <a:pt x="14908" y="7367"/>
                </a:cubicBezTo>
                <a:cubicBezTo>
                  <a:pt x="14917" y="7300"/>
                  <a:pt x="14906" y="7238"/>
                  <a:pt x="14833" y="7218"/>
                </a:cubicBezTo>
                <a:cubicBezTo>
                  <a:pt x="14776" y="7203"/>
                  <a:pt x="14704" y="7216"/>
                  <a:pt x="14660" y="7243"/>
                </a:cubicBezTo>
              </a:path>
              <a:path w="7939" h="2110">
                <a:moveTo>
                  <a:pt x="15032" y="7243"/>
                </a:moveTo>
                <a:cubicBezTo>
                  <a:pt x="14976" y="7243"/>
                  <a:pt x="15062" y="7219"/>
                  <a:pt x="15081" y="7218"/>
                </a:cubicBezTo>
                <a:cubicBezTo>
                  <a:pt x="15167" y="7212"/>
                  <a:pt x="15175" y="7232"/>
                  <a:pt x="15180" y="7317"/>
                </a:cubicBezTo>
                <a:cubicBezTo>
                  <a:pt x="15183" y="7369"/>
                  <a:pt x="15157" y="7463"/>
                  <a:pt x="15106" y="7491"/>
                </a:cubicBezTo>
                <a:cubicBezTo>
                  <a:pt x="15069" y="7511"/>
                  <a:pt x="15034" y="7482"/>
                  <a:pt x="15007" y="7466"/>
                </a:cubicBezTo>
              </a:path>
              <a:path w="7939" h="2110">
                <a:moveTo>
                  <a:pt x="15354" y="7218"/>
                </a:moveTo>
                <a:cubicBezTo>
                  <a:pt x="15405" y="7244"/>
                  <a:pt x="15318" y="7246"/>
                  <a:pt x="15304" y="7293"/>
                </a:cubicBezTo>
                <a:cubicBezTo>
                  <a:pt x="15284" y="7361"/>
                  <a:pt x="15306" y="7424"/>
                  <a:pt x="15379" y="7441"/>
                </a:cubicBezTo>
                <a:cubicBezTo>
                  <a:pt x="15429" y="7441"/>
                  <a:pt x="15445" y="7441"/>
                  <a:pt x="15478" y="7441"/>
                </a:cubicBezTo>
              </a:path>
              <a:path w="7939" h="2110">
                <a:moveTo>
                  <a:pt x="16173" y="7193"/>
                </a:moveTo>
                <a:cubicBezTo>
                  <a:pt x="16110" y="7193"/>
                  <a:pt x="16083" y="7215"/>
                  <a:pt x="16024" y="7218"/>
                </a:cubicBezTo>
                <a:cubicBezTo>
                  <a:pt x="15972" y="7221"/>
                  <a:pt x="15968" y="7232"/>
                  <a:pt x="15925" y="7243"/>
                </a:cubicBezTo>
              </a:path>
              <a:path w="7939" h="2110">
                <a:moveTo>
                  <a:pt x="16073" y="7293"/>
                </a:moveTo>
                <a:cubicBezTo>
                  <a:pt x="16118" y="7293"/>
                  <a:pt x="16131" y="7289"/>
                  <a:pt x="16148" y="7317"/>
                </a:cubicBezTo>
                <a:cubicBezTo>
                  <a:pt x="16092" y="7328"/>
                  <a:pt x="16058" y="7342"/>
                  <a:pt x="15999" y="7342"/>
                </a:cubicBezTo>
                <a:cubicBezTo>
                  <a:pt x="15974" y="7342"/>
                  <a:pt x="15966" y="7342"/>
                  <a:pt x="15949" y="7342"/>
                </a:cubicBezTo>
              </a:path>
              <a:path w="7939" h="2110">
                <a:moveTo>
                  <a:pt x="16570" y="7169"/>
                </a:moveTo>
                <a:cubicBezTo>
                  <a:pt x="16614" y="7135"/>
                  <a:pt x="16659" y="7122"/>
                  <a:pt x="16718" y="7119"/>
                </a:cubicBezTo>
                <a:cubicBezTo>
                  <a:pt x="16784" y="7115"/>
                  <a:pt x="16851" y="7119"/>
                  <a:pt x="16917" y="7119"/>
                </a:cubicBezTo>
              </a:path>
              <a:path w="7939" h="2110">
                <a:moveTo>
                  <a:pt x="17239" y="6896"/>
                </a:moveTo>
                <a:cubicBezTo>
                  <a:pt x="17239" y="6959"/>
                  <a:pt x="17217" y="7004"/>
                  <a:pt x="17214" y="7069"/>
                </a:cubicBezTo>
                <a:cubicBezTo>
                  <a:pt x="17209" y="7168"/>
                  <a:pt x="17214" y="7268"/>
                  <a:pt x="17214" y="7367"/>
                </a:cubicBezTo>
              </a:path>
              <a:path w="7939" h="2110">
                <a:moveTo>
                  <a:pt x="17636" y="7020"/>
                </a:moveTo>
                <a:cubicBezTo>
                  <a:pt x="17620" y="7041"/>
                  <a:pt x="17569" y="7095"/>
                  <a:pt x="17562" y="7119"/>
                </a:cubicBezTo>
                <a:cubicBezTo>
                  <a:pt x="17539" y="7199"/>
                  <a:pt x="17581" y="7196"/>
                  <a:pt x="17636" y="7218"/>
                </a:cubicBezTo>
                <a:cubicBezTo>
                  <a:pt x="17696" y="7242"/>
                  <a:pt x="17762" y="7230"/>
                  <a:pt x="17810" y="7268"/>
                </a:cubicBezTo>
                <a:cubicBezTo>
                  <a:pt x="17852" y="7301"/>
                  <a:pt x="17879" y="7339"/>
                  <a:pt x="17884" y="7392"/>
                </a:cubicBezTo>
                <a:cubicBezTo>
                  <a:pt x="17890" y="7452"/>
                  <a:pt x="17827" y="7462"/>
                  <a:pt x="17785" y="7466"/>
                </a:cubicBezTo>
                <a:cubicBezTo>
                  <a:pt x="17723" y="7471"/>
                  <a:pt x="17691" y="7465"/>
                  <a:pt x="17636" y="7441"/>
                </a:cubicBezTo>
              </a:path>
              <a:path w="7939" h="2110">
                <a:moveTo>
                  <a:pt x="17909" y="6945"/>
                </a:moveTo>
                <a:cubicBezTo>
                  <a:pt x="17917" y="6945"/>
                  <a:pt x="17926" y="6945"/>
                  <a:pt x="17934" y="6945"/>
                </a:cubicBezTo>
                <a:cubicBezTo>
                  <a:pt x="17917" y="6921"/>
                  <a:pt x="17858" y="6907"/>
                  <a:pt x="17810" y="6921"/>
                </a:cubicBezTo>
                <a:cubicBezTo>
                  <a:pt x="17746" y="6939"/>
                  <a:pt x="17750" y="6961"/>
                  <a:pt x="17686" y="6970"/>
                </a:cubicBezTo>
              </a:path>
              <a:path w="7939" h="2110">
                <a:moveTo>
                  <a:pt x="11460" y="6474"/>
                </a:moveTo>
                <a:cubicBezTo>
                  <a:pt x="11460" y="6466"/>
                  <a:pt x="11460" y="6457"/>
                  <a:pt x="11460" y="6449"/>
                </a:cubicBezTo>
                <a:cubicBezTo>
                  <a:pt x="11498" y="6462"/>
                  <a:pt x="11488" y="6471"/>
                  <a:pt x="11509" y="6499"/>
                </a:cubicBezTo>
                <a:cubicBezTo>
                  <a:pt x="11562" y="6570"/>
                  <a:pt x="11640" y="6622"/>
                  <a:pt x="11708" y="6672"/>
                </a:cubicBezTo>
                <a:cubicBezTo>
                  <a:pt x="11751" y="6704"/>
                  <a:pt x="11789" y="6741"/>
                  <a:pt x="11832" y="6772"/>
                </a:cubicBezTo>
                <a:cubicBezTo>
                  <a:pt x="11869" y="6799"/>
                  <a:pt x="11908" y="6880"/>
                  <a:pt x="11931" y="6896"/>
                </a:cubicBezTo>
                <a:cubicBezTo>
                  <a:pt x="11947" y="6907"/>
                  <a:pt x="11971" y="6940"/>
                  <a:pt x="11981" y="6945"/>
                </a:cubicBezTo>
                <a:cubicBezTo>
                  <a:pt x="12017" y="6963"/>
                  <a:pt x="12026" y="6985"/>
                  <a:pt x="12055" y="6995"/>
                </a:cubicBezTo>
                <a:cubicBezTo>
                  <a:pt x="12055" y="6949"/>
                  <a:pt x="12075" y="6937"/>
                  <a:pt x="12080" y="6896"/>
                </a:cubicBezTo>
                <a:cubicBezTo>
                  <a:pt x="12085" y="6847"/>
                  <a:pt x="12100" y="6814"/>
                  <a:pt x="12105" y="6772"/>
                </a:cubicBezTo>
                <a:cubicBezTo>
                  <a:pt x="12109" y="6740"/>
                  <a:pt x="12105" y="6705"/>
                  <a:pt x="12105" y="6672"/>
                </a:cubicBezTo>
                <a:cubicBezTo>
                  <a:pt x="12076" y="6710"/>
                  <a:pt x="12080" y="6723"/>
                  <a:pt x="12080" y="6772"/>
                </a:cubicBezTo>
                <a:cubicBezTo>
                  <a:pt x="12080" y="6855"/>
                  <a:pt x="12080" y="6937"/>
                  <a:pt x="12080" y="7020"/>
                </a:cubicBezTo>
                <a:cubicBezTo>
                  <a:pt x="11940" y="7020"/>
                  <a:pt x="11782" y="7004"/>
                  <a:pt x="11658" y="7045"/>
                </a:cubicBezTo>
                <a:cubicBezTo>
                  <a:pt x="11633" y="7045"/>
                  <a:pt x="11625" y="7045"/>
                  <a:pt x="11633" y="7020"/>
                </a:cubicBezTo>
              </a:path>
              <a:path w="7939" h="2110">
                <a:moveTo>
                  <a:pt x="9996" y="7441"/>
                </a:moveTo>
                <a:cubicBezTo>
                  <a:pt x="10023" y="7446"/>
                  <a:pt x="10079" y="7464"/>
                  <a:pt x="10096" y="7466"/>
                </a:cubicBezTo>
                <a:cubicBezTo>
                  <a:pt x="10290" y="7486"/>
                  <a:pt x="10455" y="7495"/>
                  <a:pt x="10641" y="7541"/>
                </a:cubicBezTo>
                <a:cubicBezTo>
                  <a:pt x="10712" y="7559"/>
                  <a:pt x="10794" y="7570"/>
                  <a:pt x="10864" y="7590"/>
                </a:cubicBezTo>
                <a:cubicBezTo>
                  <a:pt x="10967" y="7620"/>
                  <a:pt x="11059" y="7646"/>
                  <a:pt x="11162" y="7665"/>
                </a:cubicBezTo>
                <a:cubicBezTo>
                  <a:pt x="11264" y="7684"/>
                  <a:pt x="11357" y="7678"/>
                  <a:pt x="11460" y="7689"/>
                </a:cubicBezTo>
                <a:cubicBezTo>
                  <a:pt x="11578" y="7701"/>
                  <a:pt x="11688" y="7711"/>
                  <a:pt x="11807" y="7714"/>
                </a:cubicBezTo>
                <a:cubicBezTo>
                  <a:pt x="11921" y="7717"/>
                  <a:pt x="12019" y="7746"/>
                  <a:pt x="12129" y="7764"/>
                </a:cubicBezTo>
                <a:cubicBezTo>
                  <a:pt x="12228" y="7780"/>
                  <a:pt x="12327" y="7797"/>
                  <a:pt x="12427" y="7813"/>
                </a:cubicBezTo>
                <a:cubicBezTo>
                  <a:pt x="12518" y="7828"/>
                  <a:pt x="12608" y="7827"/>
                  <a:pt x="12700" y="7838"/>
                </a:cubicBezTo>
                <a:cubicBezTo>
                  <a:pt x="12791" y="7849"/>
                  <a:pt x="12910" y="7865"/>
                  <a:pt x="12998" y="7888"/>
                </a:cubicBezTo>
                <a:cubicBezTo>
                  <a:pt x="13100" y="7915"/>
                  <a:pt x="13194" y="7939"/>
                  <a:pt x="13295" y="7962"/>
                </a:cubicBezTo>
                <a:cubicBezTo>
                  <a:pt x="13384" y="7982"/>
                  <a:pt x="13481" y="8004"/>
                  <a:pt x="13568" y="8037"/>
                </a:cubicBezTo>
                <a:cubicBezTo>
                  <a:pt x="13629" y="8060"/>
                  <a:pt x="13686" y="8114"/>
                  <a:pt x="13742" y="8136"/>
                </a:cubicBezTo>
                <a:cubicBezTo>
                  <a:pt x="13800" y="8159"/>
                  <a:pt x="13857" y="8180"/>
                  <a:pt x="13915" y="8210"/>
                </a:cubicBezTo>
                <a:cubicBezTo>
                  <a:pt x="13948" y="8227"/>
                  <a:pt x="14005" y="8241"/>
                  <a:pt x="14039" y="8260"/>
                </a:cubicBezTo>
                <a:cubicBezTo>
                  <a:pt x="14068" y="8276"/>
                  <a:pt x="14117" y="8296"/>
                  <a:pt x="14139" y="8310"/>
                </a:cubicBezTo>
                <a:cubicBezTo>
                  <a:pt x="14168" y="8329"/>
                  <a:pt x="14168" y="8344"/>
                  <a:pt x="14188" y="8359"/>
                </a:cubicBezTo>
                <a:cubicBezTo>
                  <a:pt x="14178" y="8323"/>
                  <a:pt x="14173" y="8292"/>
                  <a:pt x="14163" y="8260"/>
                </a:cubicBezTo>
                <a:cubicBezTo>
                  <a:pt x="14150" y="8220"/>
                  <a:pt x="14137" y="8197"/>
                  <a:pt x="14114" y="8161"/>
                </a:cubicBezTo>
                <a:cubicBezTo>
                  <a:pt x="14094" y="8130"/>
                  <a:pt x="14097" y="8069"/>
                  <a:pt x="14064" y="8086"/>
                </a:cubicBezTo>
                <a:cubicBezTo>
                  <a:pt x="14064" y="8086"/>
                  <a:pt x="14070" y="8080"/>
                  <a:pt x="14089" y="8136"/>
                </a:cubicBezTo>
                <a:cubicBezTo>
                  <a:pt x="14109" y="8195"/>
                  <a:pt x="14122" y="8252"/>
                  <a:pt x="14139" y="8310"/>
                </a:cubicBezTo>
                <a:cubicBezTo>
                  <a:pt x="14152" y="8355"/>
                  <a:pt x="14178" y="8405"/>
                  <a:pt x="14188" y="8458"/>
                </a:cubicBezTo>
                <a:cubicBezTo>
                  <a:pt x="14188" y="8483"/>
                  <a:pt x="14188" y="8491"/>
                  <a:pt x="14188" y="8508"/>
                </a:cubicBezTo>
                <a:cubicBezTo>
                  <a:pt x="14104" y="8513"/>
                  <a:pt x="14044" y="8507"/>
                  <a:pt x="13965" y="8533"/>
                </a:cubicBezTo>
                <a:cubicBezTo>
                  <a:pt x="13937" y="8533"/>
                  <a:pt x="13926" y="8535"/>
                  <a:pt x="13915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41960" y="2955960"/>
            <a:ext cx="312840" cy="206280"/>
          </a:xfrm>
          <a:custGeom>
            <a:avLst/>
            <a:gdLst/>
            <a:ahLst/>
            <a:rect l="l" t="t" r="r" b="b"/>
            <a:pathLst>
              <a:path w="870" h="572">
                <a:moveTo>
                  <a:pt x="14684" y="8285"/>
                </a:moveTo>
                <a:cubicBezTo>
                  <a:pt x="14715" y="8285"/>
                  <a:pt x="14751" y="8277"/>
                  <a:pt x="14759" y="8260"/>
                </a:cubicBezTo>
                <a:cubicBezTo>
                  <a:pt x="14759" y="8235"/>
                  <a:pt x="14759" y="8227"/>
                  <a:pt x="14759" y="8210"/>
                </a:cubicBezTo>
                <a:cubicBezTo>
                  <a:pt x="14681" y="8230"/>
                  <a:pt x="14704" y="8271"/>
                  <a:pt x="14660" y="8334"/>
                </a:cubicBezTo>
                <a:cubicBezTo>
                  <a:pt x="14598" y="8423"/>
                  <a:pt x="14543" y="8512"/>
                  <a:pt x="14560" y="8632"/>
                </a:cubicBezTo>
                <a:cubicBezTo>
                  <a:pt x="14571" y="8705"/>
                  <a:pt x="14647" y="8808"/>
                  <a:pt x="14734" y="8781"/>
                </a:cubicBezTo>
                <a:cubicBezTo>
                  <a:pt x="14813" y="8757"/>
                  <a:pt x="14808" y="8702"/>
                  <a:pt x="14808" y="8632"/>
                </a:cubicBezTo>
                <a:cubicBezTo>
                  <a:pt x="14808" y="8596"/>
                  <a:pt x="14773" y="8560"/>
                  <a:pt x="14734" y="8582"/>
                </a:cubicBezTo>
                <a:cubicBezTo>
                  <a:pt x="14711" y="8605"/>
                  <a:pt x="14707" y="8613"/>
                  <a:pt x="14684" y="8607"/>
                </a:cubicBezTo>
              </a:path>
              <a:path w="870" h="572">
                <a:moveTo>
                  <a:pt x="15032" y="8607"/>
                </a:moveTo>
                <a:cubicBezTo>
                  <a:pt x="15032" y="8660"/>
                  <a:pt x="15024" y="8557"/>
                  <a:pt x="15056" y="8533"/>
                </a:cubicBezTo>
                <a:cubicBezTo>
                  <a:pt x="15097" y="8502"/>
                  <a:pt x="15170" y="8489"/>
                  <a:pt x="15205" y="8533"/>
                </a:cubicBezTo>
                <a:cubicBezTo>
                  <a:pt x="15241" y="8579"/>
                  <a:pt x="15249" y="8686"/>
                  <a:pt x="15205" y="8731"/>
                </a:cubicBezTo>
                <a:cubicBezTo>
                  <a:pt x="15180" y="8756"/>
                  <a:pt x="15088" y="8773"/>
                  <a:pt x="15056" y="8756"/>
                </a:cubicBezTo>
                <a:cubicBezTo>
                  <a:pt x="15048" y="8748"/>
                  <a:pt x="15040" y="8739"/>
                  <a:pt x="15032" y="8731"/>
                </a:cubicBezTo>
              </a:path>
              <a:path w="870" h="572">
                <a:moveTo>
                  <a:pt x="15304" y="8533"/>
                </a:moveTo>
                <a:cubicBezTo>
                  <a:pt x="15312" y="8516"/>
                  <a:pt x="15321" y="8500"/>
                  <a:pt x="15329" y="8483"/>
                </a:cubicBezTo>
                <a:cubicBezTo>
                  <a:pt x="15297" y="8499"/>
                  <a:pt x="15258" y="8537"/>
                  <a:pt x="15255" y="8582"/>
                </a:cubicBezTo>
                <a:cubicBezTo>
                  <a:pt x="15249" y="8664"/>
                  <a:pt x="15242" y="8701"/>
                  <a:pt x="15329" y="8706"/>
                </a:cubicBezTo>
                <a:cubicBezTo>
                  <a:pt x="15379" y="8706"/>
                  <a:pt x="15396" y="8706"/>
                  <a:pt x="15429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9000" y="302724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16148" y="8434"/>
                </a:moveTo>
                <a:cubicBezTo>
                  <a:pt x="16156" y="8426"/>
                  <a:pt x="16165" y="8417"/>
                  <a:pt x="16173" y="8409"/>
                </a:cubicBezTo>
                <a:cubicBezTo>
                  <a:pt x="16125" y="8419"/>
                  <a:pt x="16089" y="8445"/>
                  <a:pt x="16049" y="8458"/>
                </a:cubicBezTo>
                <a:cubicBezTo>
                  <a:pt x="16041" y="8458"/>
                  <a:pt x="16032" y="8458"/>
                  <a:pt x="16024" y="8458"/>
                </a:cubicBezTo>
              </a:path>
              <a:path w="150" h="125">
                <a:moveTo>
                  <a:pt x="16148" y="8508"/>
                </a:moveTo>
                <a:cubicBezTo>
                  <a:pt x="16156" y="8508"/>
                  <a:pt x="16165" y="8508"/>
                  <a:pt x="16173" y="8508"/>
                </a:cubicBezTo>
                <a:cubicBezTo>
                  <a:pt x="16160" y="8546"/>
                  <a:pt x="16143" y="8533"/>
                  <a:pt x="16098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0200" y="3062160"/>
            <a:ext cx="98640" cy="9720"/>
          </a:xfrm>
          <a:custGeom>
            <a:avLst/>
            <a:gdLst/>
            <a:ahLst/>
            <a:rect l="l" t="t" r="r" b="b"/>
            <a:pathLst>
              <a:path w="273" h="26">
                <a:moveTo>
                  <a:pt x="16718" y="8533"/>
                </a:moveTo>
                <a:cubicBezTo>
                  <a:pt x="16654" y="8533"/>
                  <a:pt x="16757" y="8533"/>
                  <a:pt x="16768" y="8533"/>
                </a:cubicBezTo>
                <a:cubicBezTo>
                  <a:pt x="16838" y="8533"/>
                  <a:pt x="16893" y="8508"/>
                  <a:pt x="16966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9960" y="2928960"/>
            <a:ext cx="260280" cy="206280"/>
          </a:xfrm>
          <a:custGeom>
            <a:avLst/>
            <a:gdLst/>
            <a:ahLst/>
            <a:rect l="l" t="t" r="r" b="b"/>
            <a:pathLst>
              <a:path w="721" h="571">
                <a:moveTo>
                  <a:pt x="17363" y="8334"/>
                </a:moveTo>
                <a:cubicBezTo>
                  <a:pt x="17363" y="8293"/>
                  <a:pt x="17363" y="8368"/>
                  <a:pt x="17363" y="8409"/>
                </a:cubicBezTo>
                <a:cubicBezTo>
                  <a:pt x="17363" y="8512"/>
                  <a:pt x="17352" y="8611"/>
                  <a:pt x="17388" y="8706"/>
                </a:cubicBezTo>
              </a:path>
              <a:path w="721" h="571">
                <a:moveTo>
                  <a:pt x="17611" y="8384"/>
                </a:moveTo>
                <a:cubicBezTo>
                  <a:pt x="17611" y="8322"/>
                  <a:pt x="17621" y="8294"/>
                  <a:pt x="17636" y="8235"/>
                </a:cubicBezTo>
                <a:cubicBezTo>
                  <a:pt x="17643" y="8208"/>
                  <a:pt x="17676" y="8146"/>
                  <a:pt x="17711" y="8136"/>
                </a:cubicBezTo>
                <a:cubicBezTo>
                  <a:pt x="17752" y="8136"/>
                  <a:pt x="17760" y="8136"/>
                  <a:pt x="17785" y="8136"/>
                </a:cubicBezTo>
                <a:cubicBezTo>
                  <a:pt x="17785" y="8209"/>
                  <a:pt x="17790" y="8267"/>
                  <a:pt x="17760" y="8334"/>
                </a:cubicBezTo>
                <a:cubicBezTo>
                  <a:pt x="17731" y="8399"/>
                  <a:pt x="17711" y="8410"/>
                  <a:pt x="17711" y="8483"/>
                </a:cubicBezTo>
                <a:cubicBezTo>
                  <a:pt x="17711" y="8544"/>
                  <a:pt x="17761" y="8554"/>
                  <a:pt x="17810" y="8558"/>
                </a:cubicBezTo>
                <a:cubicBezTo>
                  <a:pt x="17862" y="8562"/>
                  <a:pt x="17913" y="8552"/>
                  <a:pt x="17959" y="8533"/>
                </a:cubicBezTo>
                <a:cubicBezTo>
                  <a:pt x="18007" y="8513"/>
                  <a:pt x="18045" y="8512"/>
                  <a:pt x="18083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7240" y="3384720"/>
            <a:ext cx="150840" cy="80640"/>
          </a:xfrm>
          <a:custGeom>
            <a:avLst/>
            <a:gdLst/>
            <a:ahLst/>
            <a:rect l="l" t="t" r="r" b="b"/>
            <a:pathLst>
              <a:path w="422" h="224">
                <a:moveTo>
                  <a:pt x="14908" y="9500"/>
                </a:moveTo>
                <a:cubicBezTo>
                  <a:pt x="14945" y="9487"/>
                  <a:pt x="14929" y="9440"/>
                  <a:pt x="14957" y="9426"/>
                </a:cubicBezTo>
                <a:cubicBezTo>
                  <a:pt x="14990" y="9409"/>
                  <a:pt x="15084" y="9420"/>
                  <a:pt x="15106" y="9451"/>
                </a:cubicBezTo>
                <a:cubicBezTo>
                  <a:pt x="15150" y="9513"/>
                  <a:pt x="15127" y="9548"/>
                  <a:pt x="15081" y="9599"/>
                </a:cubicBezTo>
                <a:cubicBezTo>
                  <a:pt x="15050" y="9633"/>
                  <a:pt x="15025" y="9624"/>
                  <a:pt x="14982" y="9624"/>
                </a:cubicBezTo>
                <a:cubicBezTo>
                  <a:pt x="14974" y="9624"/>
                  <a:pt x="14965" y="9624"/>
                  <a:pt x="14957" y="9624"/>
                </a:cubicBezTo>
              </a:path>
              <a:path w="422" h="224">
                <a:moveTo>
                  <a:pt x="15131" y="9426"/>
                </a:moveTo>
                <a:cubicBezTo>
                  <a:pt x="15147" y="9418"/>
                  <a:pt x="15164" y="9409"/>
                  <a:pt x="15180" y="9401"/>
                </a:cubicBezTo>
                <a:cubicBezTo>
                  <a:pt x="15149" y="9445"/>
                  <a:pt x="15136" y="9468"/>
                  <a:pt x="15131" y="9525"/>
                </a:cubicBezTo>
                <a:cubicBezTo>
                  <a:pt x="15127" y="9578"/>
                  <a:pt x="15186" y="9596"/>
                  <a:pt x="15230" y="9599"/>
                </a:cubicBezTo>
                <a:cubicBezTo>
                  <a:pt x="15282" y="9599"/>
                  <a:pt x="15300" y="9598"/>
                  <a:pt x="15329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32640" y="334008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6098" y="9302"/>
                </a:moveTo>
                <a:cubicBezTo>
                  <a:pt x="16098" y="9294"/>
                  <a:pt x="16098" y="9285"/>
                  <a:pt x="16098" y="9277"/>
                </a:cubicBezTo>
                <a:cubicBezTo>
                  <a:pt x="16062" y="9304"/>
                  <a:pt x="16022" y="9322"/>
                  <a:pt x="15974" y="9327"/>
                </a:cubicBezTo>
                <a:cubicBezTo>
                  <a:pt x="15932" y="9331"/>
                  <a:pt x="15937" y="9314"/>
                  <a:pt x="15925" y="9351"/>
                </a:cubicBezTo>
              </a:path>
              <a:path w="199" h="175">
                <a:moveTo>
                  <a:pt x="16073" y="9376"/>
                </a:moveTo>
                <a:cubicBezTo>
                  <a:pt x="16090" y="9384"/>
                  <a:pt x="16106" y="9393"/>
                  <a:pt x="16123" y="9401"/>
                </a:cubicBezTo>
                <a:cubicBezTo>
                  <a:pt x="16082" y="9411"/>
                  <a:pt x="16067" y="9446"/>
                  <a:pt x="16024" y="9451"/>
                </a:cubicBezTo>
                <a:cubicBezTo>
                  <a:pt x="16016" y="9451"/>
                  <a:pt x="16007" y="9451"/>
                  <a:pt x="15999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6840" y="3276720"/>
            <a:ext cx="420480" cy="161640"/>
          </a:xfrm>
          <a:custGeom>
            <a:avLst/>
            <a:gdLst/>
            <a:ahLst/>
            <a:rect l="l" t="t" r="r" b="b"/>
            <a:pathLst>
              <a:path w="1167" h="448">
                <a:moveTo>
                  <a:pt x="16594" y="9475"/>
                </a:moveTo>
                <a:cubicBezTo>
                  <a:pt x="16550" y="9475"/>
                  <a:pt x="16537" y="9478"/>
                  <a:pt x="16520" y="9451"/>
                </a:cubicBezTo>
                <a:cubicBezTo>
                  <a:pt x="16575" y="9451"/>
                  <a:pt x="16613" y="9429"/>
                  <a:pt x="16669" y="9426"/>
                </a:cubicBezTo>
                <a:cubicBezTo>
                  <a:pt x="16718" y="9423"/>
                  <a:pt x="16769" y="9426"/>
                  <a:pt x="16818" y="9426"/>
                </a:cubicBezTo>
              </a:path>
              <a:path w="1167" h="448">
                <a:moveTo>
                  <a:pt x="17239" y="9327"/>
                </a:moveTo>
                <a:cubicBezTo>
                  <a:pt x="17202" y="9271"/>
                  <a:pt x="17191" y="9287"/>
                  <a:pt x="17165" y="9252"/>
                </a:cubicBezTo>
                <a:cubicBezTo>
                  <a:pt x="17139" y="9217"/>
                  <a:pt x="17168" y="9161"/>
                  <a:pt x="17214" y="9128"/>
                </a:cubicBezTo>
                <a:cubicBezTo>
                  <a:pt x="17236" y="9112"/>
                  <a:pt x="17359" y="9079"/>
                  <a:pt x="17388" y="9103"/>
                </a:cubicBezTo>
                <a:cubicBezTo>
                  <a:pt x="17461" y="9164"/>
                  <a:pt x="17385" y="9287"/>
                  <a:pt x="17363" y="9351"/>
                </a:cubicBezTo>
                <a:cubicBezTo>
                  <a:pt x="17343" y="9408"/>
                  <a:pt x="17302" y="9497"/>
                  <a:pt x="17239" y="9525"/>
                </a:cubicBezTo>
                <a:cubicBezTo>
                  <a:pt x="17231" y="9525"/>
                  <a:pt x="17222" y="9525"/>
                  <a:pt x="17214" y="9525"/>
                </a:cubicBezTo>
                <a:cubicBezTo>
                  <a:pt x="17274" y="9561"/>
                  <a:pt x="17338" y="9550"/>
                  <a:pt x="17413" y="9550"/>
                </a:cubicBezTo>
                <a:cubicBezTo>
                  <a:pt x="17504" y="9550"/>
                  <a:pt x="17595" y="9550"/>
                  <a:pt x="17686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3160" y="3036960"/>
            <a:ext cx="1785960" cy="561960"/>
          </a:xfrm>
          <a:custGeom>
            <a:avLst/>
            <a:gdLst/>
            <a:ahLst/>
            <a:rect l="l" t="t" r="r" b="b"/>
            <a:pathLst>
              <a:path w="4962" h="1563">
                <a:moveTo>
                  <a:pt x="2629" y="8607"/>
                </a:moveTo>
                <a:cubicBezTo>
                  <a:pt x="2639" y="8568"/>
                  <a:pt x="2654" y="8553"/>
                  <a:pt x="2654" y="8508"/>
                </a:cubicBezTo>
                <a:cubicBezTo>
                  <a:pt x="2692" y="8571"/>
                  <a:pt x="2689" y="8631"/>
                  <a:pt x="2704" y="8706"/>
                </a:cubicBezTo>
                <a:cubicBezTo>
                  <a:pt x="2727" y="8823"/>
                  <a:pt x="2793" y="8927"/>
                  <a:pt x="2853" y="9029"/>
                </a:cubicBezTo>
              </a:path>
              <a:path w="4962" h="1563">
                <a:moveTo>
                  <a:pt x="3870" y="9153"/>
                </a:moveTo>
                <a:cubicBezTo>
                  <a:pt x="3911" y="9153"/>
                  <a:pt x="3935" y="9153"/>
                  <a:pt x="3894" y="9153"/>
                </a:cubicBezTo>
                <a:cubicBezTo>
                  <a:pt x="3810" y="9153"/>
                  <a:pt x="3727" y="9163"/>
                  <a:pt x="3646" y="9178"/>
                </a:cubicBezTo>
                <a:cubicBezTo>
                  <a:pt x="3471" y="9211"/>
                  <a:pt x="3302" y="9185"/>
                  <a:pt x="3125" y="9203"/>
                </a:cubicBezTo>
                <a:cubicBezTo>
                  <a:pt x="2965" y="9219"/>
                  <a:pt x="2801" y="9251"/>
                  <a:pt x="2654" y="9302"/>
                </a:cubicBezTo>
                <a:cubicBezTo>
                  <a:pt x="2568" y="9332"/>
                  <a:pt x="2488" y="9360"/>
                  <a:pt x="2406" y="9401"/>
                </a:cubicBezTo>
                <a:cubicBezTo>
                  <a:pt x="2371" y="9419"/>
                  <a:pt x="2337" y="9436"/>
                  <a:pt x="2307" y="9451"/>
                </a:cubicBezTo>
              </a:path>
              <a:path w="4962" h="1563">
                <a:moveTo>
                  <a:pt x="2282" y="9773"/>
                </a:moveTo>
                <a:cubicBezTo>
                  <a:pt x="2316" y="9728"/>
                  <a:pt x="2329" y="9718"/>
                  <a:pt x="2307" y="9674"/>
                </a:cubicBezTo>
                <a:cubicBezTo>
                  <a:pt x="2278" y="9684"/>
                  <a:pt x="2247" y="9729"/>
                  <a:pt x="2232" y="9773"/>
                </a:cubicBezTo>
                <a:cubicBezTo>
                  <a:pt x="2213" y="9831"/>
                  <a:pt x="2241" y="9876"/>
                  <a:pt x="2282" y="9897"/>
                </a:cubicBezTo>
                <a:cubicBezTo>
                  <a:pt x="2320" y="9878"/>
                  <a:pt x="2331" y="9815"/>
                  <a:pt x="2356" y="9798"/>
                </a:cubicBezTo>
                <a:cubicBezTo>
                  <a:pt x="2364" y="9798"/>
                  <a:pt x="2373" y="9798"/>
                  <a:pt x="2381" y="9798"/>
                </a:cubicBezTo>
                <a:cubicBezTo>
                  <a:pt x="2430" y="9822"/>
                  <a:pt x="2460" y="9899"/>
                  <a:pt x="2505" y="9947"/>
                </a:cubicBezTo>
                <a:cubicBezTo>
                  <a:pt x="2530" y="9971"/>
                  <a:pt x="2539" y="9979"/>
                  <a:pt x="2555" y="9996"/>
                </a:cubicBezTo>
              </a:path>
              <a:path w="4962" h="1563">
                <a:moveTo>
                  <a:pt x="2654" y="9773"/>
                </a:moveTo>
                <a:cubicBezTo>
                  <a:pt x="2695" y="9732"/>
                  <a:pt x="2654" y="9813"/>
                  <a:pt x="2654" y="9872"/>
                </a:cubicBezTo>
                <a:cubicBezTo>
                  <a:pt x="2654" y="9915"/>
                  <a:pt x="2670" y="9913"/>
                  <a:pt x="2704" y="9922"/>
                </a:cubicBezTo>
                <a:cubicBezTo>
                  <a:pt x="2733" y="9873"/>
                  <a:pt x="2744" y="9786"/>
                  <a:pt x="2729" y="9723"/>
                </a:cubicBezTo>
                <a:cubicBezTo>
                  <a:pt x="2720" y="9684"/>
                  <a:pt x="2701" y="9653"/>
                  <a:pt x="2679" y="9624"/>
                </a:cubicBezTo>
                <a:cubicBezTo>
                  <a:pt x="2695" y="9702"/>
                  <a:pt x="2724" y="9763"/>
                  <a:pt x="2778" y="9823"/>
                </a:cubicBezTo>
                <a:cubicBezTo>
                  <a:pt x="2821" y="9870"/>
                  <a:pt x="2849" y="9891"/>
                  <a:pt x="2902" y="9922"/>
                </a:cubicBezTo>
              </a:path>
              <a:path w="4962" h="1563">
                <a:moveTo>
                  <a:pt x="3051" y="9773"/>
                </a:moveTo>
                <a:cubicBezTo>
                  <a:pt x="3102" y="9773"/>
                  <a:pt x="3109" y="9762"/>
                  <a:pt x="3150" y="9748"/>
                </a:cubicBezTo>
                <a:cubicBezTo>
                  <a:pt x="3178" y="9739"/>
                  <a:pt x="3196" y="9730"/>
                  <a:pt x="3225" y="9723"/>
                </a:cubicBezTo>
              </a:path>
              <a:path w="4962" h="1563">
                <a:moveTo>
                  <a:pt x="3324" y="9500"/>
                </a:moveTo>
                <a:cubicBezTo>
                  <a:pt x="3324" y="9475"/>
                  <a:pt x="3324" y="9451"/>
                  <a:pt x="3324" y="9426"/>
                </a:cubicBezTo>
                <a:cubicBezTo>
                  <a:pt x="3324" y="9376"/>
                  <a:pt x="3324" y="9475"/>
                  <a:pt x="3324" y="9525"/>
                </a:cubicBezTo>
                <a:cubicBezTo>
                  <a:pt x="3324" y="9589"/>
                  <a:pt x="3330" y="9710"/>
                  <a:pt x="3398" y="9748"/>
                </a:cubicBezTo>
                <a:cubicBezTo>
                  <a:pt x="3443" y="9773"/>
                  <a:pt x="3485" y="9727"/>
                  <a:pt x="3522" y="9723"/>
                </a:cubicBezTo>
                <a:cubicBezTo>
                  <a:pt x="3530" y="9723"/>
                  <a:pt x="3539" y="9723"/>
                  <a:pt x="3547" y="9723"/>
                </a:cubicBezTo>
                <a:cubicBezTo>
                  <a:pt x="3576" y="9761"/>
                  <a:pt x="3572" y="9774"/>
                  <a:pt x="3572" y="9823"/>
                </a:cubicBezTo>
                <a:cubicBezTo>
                  <a:pt x="3572" y="9886"/>
                  <a:pt x="3520" y="9872"/>
                  <a:pt x="3473" y="9872"/>
                </a:cubicBezTo>
                <a:cubicBezTo>
                  <a:pt x="3420" y="9872"/>
                  <a:pt x="3416" y="9858"/>
                  <a:pt x="3373" y="9847"/>
                </a:cubicBezTo>
                <a:cubicBezTo>
                  <a:pt x="3387" y="9806"/>
                  <a:pt x="3453" y="9808"/>
                  <a:pt x="3497" y="9773"/>
                </a:cubicBezTo>
                <a:cubicBezTo>
                  <a:pt x="3564" y="9721"/>
                  <a:pt x="3624" y="9669"/>
                  <a:pt x="3696" y="9624"/>
                </a:cubicBezTo>
                <a:cubicBezTo>
                  <a:pt x="3683" y="9677"/>
                  <a:pt x="3671" y="9709"/>
                  <a:pt x="3671" y="9773"/>
                </a:cubicBezTo>
                <a:cubicBezTo>
                  <a:pt x="3671" y="9820"/>
                  <a:pt x="3727" y="9919"/>
                  <a:pt x="3795" y="9872"/>
                </a:cubicBezTo>
                <a:cubicBezTo>
                  <a:pt x="3837" y="9843"/>
                  <a:pt x="3897" y="9786"/>
                  <a:pt x="3944" y="9748"/>
                </a:cubicBezTo>
              </a:path>
              <a:path w="4962" h="1563">
                <a:moveTo>
                  <a:pt x="4638" y="8582"/>
                </a:moveTo>
                <a:cubicBezTo>
                  <a:pt x="4661" y="8542"/>
                  <a:pt x="4708" y="8501"/>
                  <a:pt x="4713" y="8458"/>
                </a:cubicBezTo>
                <a:cubicBezTo>
                  <a:pt x="4713" y="8450"/>
                  <a:pt x="4713" y="8442"/>
                  <a:pt x="4713" y="8434"/>
                </a:cubicBezTo>
                <a:cubicBezTo>
                  <a:pt x="4649" y="8465"/>
                  <a:pt x="4597" y="8585"/>
                  <a:pt x="4564" y="8657"/>
                </a:cubicBezTo>
                <a:cubicBezTo>
                  <a:pt x="4483" y="8836"/>
                  <a:pt x="4469" y="9033"/>
                  <a:pt x="4465" y="9227"/>
                </a:cubicBezTo>
                <a:cubicBezTo>
                  <a:pt x="4462" y="9377"/>
                  <a:pt x="4476" y="9500"/>
                  <a:pt x="4564" y="9624"/>
                </a:cubicBezTo>
                <a:cubicBezTo>
                  <a:pt x="4594" y="9654"/>
                  <a:pt x="4608" y="9665"/>
                  <a:pt x="4638" y="9674"/>
                </a:cubicBezTo>
              </a:path>
              <a:path w="4962" h="1563">
                <a:moveTo>
                  <a:pt x="6697" y="8458"/>
                </a:moveTo>
                <a:cubicBezTo>
                  <a:pt x="6726" y="8444"/>
                  <a:pt x="6731" y="8434"/>
                  <a:pt x="6796" y="8434"/>
                </a:cubicBezTo>
                <a:cubicBezTo>
                  <a:pt x="6921" y="8434"/>
                  <a:pt x="6961" y="8510"/>
                  <a:pt x="7020" y="8607"/>
                </a:cubicBezTo>
                <a:cubicBezTo>
                  <a:pt x="7132" y="8790"/>
                  <a:pt x="7230" y="8951"/>
                  <a:pt x="7193" y="9178"/>
                </a:cubicBezTo>
                <a:cubicBezTo>
                  <a:pt x="7163" y="9364"/>
                  <a:pt x="7017" y="9537"/>
                  <a:pt x="6896" y="9674"/>
                </a:cubicBezTo>
                <a:cubicBezTo>
                  <a:pt x="6829" y="9750"/>
                  <a:pt x="6760" y="9819"/>
                  <a:pt x="6697" y="9897"/>
                </a:cubicBezTo>
              </a:path>
              <a:path w="4962" h="1563">
                <a:moveTo>
                  <a:pt x="5308" y="8706"/>
                </a:moveTo>
                <a:cubicBezTo>
                  <a:pt x="5316" y="8706"/>
                  <a:pt x="5325" y="8706"/>
                  <a:pt x="5333" y="8706"/>
                </a:cubicBezTo>
                <a:cubicBezTo>
                  <a:pt x="5317" y="8660"/>
                  <a:pt x="5284" y="8692"/>
                  <a:pt x="5259" y="8731"/>
                </a:cubicBezTo>
                <a:cubicBezTo>
                  <a:pt x="5227" y="8782"/>
                  <a:pt x="5234" y="8822"/>
                  <a:pt x="5234" y="8880"/>
                </a:cubicBezTo>
                <a:cubicBezTo>
                  <a:pt x="5234" y="8888"/>
                  <a:pt x="5234" y="8897"/>
                  <a:pt x="5234" y="8905"/>
                </a:cubicBezTo>
                <a:cubicBezTo>
                  <a:pt x="5290" y="8891"/>
                  <a:pt x="5311" y="8837"/>
                  <a:pt x="5333" y="8781"/>
                </a:cubicBezTo>
                <a:cubicBezTo>
                  <a:pt x="5368" y="8691"/>
                  <a:pt x="5358" y="8603"/>
                  <a:pt x="5358" y="8508"/>
                </a:cubicBezTo>
                <a:cubicBezTo>
                  <a:pt x="5358" y="8491"/>
                  <a:pt x="5358" y="8475"/>
                  <a:pt x="5358" y="8458"/>
                </a:cubicBezTo>
                <a:cubicBezTo>
                  <a:pt x="5358" y="8392"/>
                  <a:pt x="5355" y="8545"/>
                  <a:pt x="5358" y="8558"/>
                </a:cubicBezTo>
                <a:cubicBezTo>
                  <a:pt x="5380" y="8657"/>
                  <a:pt x="5414" y="8755"/>
                  <a:pt x="5432" y="8855"/>
                </a:cubicBezTo>
                <a:cubicBezTo>
                  <a:pt x="5432" y="8872"/>
                  <a:pt x="5432" y="8888"/>
                  <a:pt x="5432" y="8905"/>
                </a:cubicBezTo>
              </a:path>
              <a:path w="4962" h="1563">
                <a:moveTo>
                  <a:pt x="5854" y="8756"/>
                </a:moveTo>
                <a:cubicBezTo>
                  <a:pt x="5846" y="8756"/>
                  <a:pt x="5837" y="8756"/>
                  <a:pt x="5829" y="8756"/>
                </a:cubicBezTo>
                <a:cubicBezTo>
                  <a:pt x="5836" y="8778"/>
                  <a:pt x="5868" y="8801"/>
                  <a:pt x="5904" y="8781"/>
                </a:cubicBezTo>
                <a:cubicBezTo>
                  <a:pt x="5937" y="8762"/>
                  <a:pt x="5974" y="8772"/>
                  <a:pt x="6003" y="8756"/>
                </a:cubicBezTo>
                <a:cubicBezTo>
                  <a:pt x="6011" y="8748"/>
                  <a:pt x="6020" y="8739"/>
                  <a:pt x="6028" y="8731"/>
                </a:cubicBezTo>
              </a:path>
              <a:path w="4962" h="1563">
                <a:moveTo>
                  <a:pt x="6424" y="8632"/>
                </a:moveTo>
                <a:cubicBezTo>
                  <a:pt x="6424" y="8607"/>
                  <a:pt x="6424" y="8599"/>
                  <a:pt x="6400" y="8607"/>
                </a:cubicBezTo>
                <a:cubicBezTo>
                  <a:pt x="6366" y="8618"/>
                  <a:pt x="6349" y="8662"/>
                  <a:pt x="6325" y="8706"/>
                </a:cubicBezTo>
                <a:cubicBezTo>
                  <a:pt x="6304" y="8745"/>
                  <a:pt x="6278" y="8835"/>
                  <a:pt x="6300" y="8880"/>
                </a:cubicBezTo>
                <a:cubicBezTo>
                  <a:pt x="6316" y="8911"/>
                  <a:pt x="6389" y="8950"/>
                  <a:pt x="6424" y="8930"/>
                </a:cubicBezTo>
                <a:cubicBezTo>
                  <a:pt x="6435" y="8924"/>
                  <a:pt x="6524" y="8855"/>
                  <a:pt x="6524" y="8855"/>
                </a:cubicBezTo>
                <a:cubicBezTo>
                  <a:pt x="6524" y="8847"/>
                  <a:pt x="6524" y="8838"/>
                  <a:pt x="6524" y="8830"/>
                </a:cubicBezTo>
              </a:path>
              <a:path w="4962" h="1563">
                <a:moveTo>
                  <a:pt x="6325" y="8434"/>
                </a:moveTo>
                <a:cubicBezTo>
                  <a:pt x="6325" y="8484"/>
                  <a:pt x="6314" y="8492"/>
                  <a:pt x="6300" y="8533"/>
                </a:cubicBezTo>
                <a:cubicBezTo>
                  <a:pt x="6265" y="8638"/>
                  <a:pt x="6300" y="8819"/>
                  <a:pt x="6300" y="8930"/>
                </a:cubicBezTo>
                <a:cubicBezTo>
                  <a:pt x="6329" y="8892"/>
                  <a:pt x="6325" y="8879"/>
                  <a:pt x="6325" y="8830"/>
                </a:cubicBezTo>
                <a:cubicBezTo>
                  <a:pt x="6325" y="8785"/>
                  <a:pt x="6346" y="8771"/>
                  <a:pt x="6350" y="8731"/>
                </a:cubicBezTo>
                <a:cubicBezTo>
                  <a:pt x="6356" y="8676"/>
                  <a:pt x="6407" y="8683"/>
                  <a:pt x="6424" y="8657"/>
                </a:cubicBezTo>
                <a:cubicBezTo>
                  <a:pt x="6446" y="8623"/>
                  <a:pt x="6455" y="8657"/>
                  <a:pt x="6474" y="8682"/>
                </a:cubicBezTo>
                <a:cubicBezTo>
                  <a:pt x="6500" y="8716"/>
                  <a:pt x="6535" y="8741"/>
                  <a:pt x="6548" y="8781"/>
                </a:cubicBezTo>
                <a:cubicBezTo>
                  <a:pt x="6565" y="8835"/>
                  <a:pt x="6538" y="8888"/>
                  <a:pt x="6524" y="8930"/>
                </a:cubicBezTo>
                <a:cubicBezTo>
                  <a:pt x="6511" y="8971"/>
                  <a:pt x="6469" y="8954"/>
                  <a:pt x="6424" y="8954"/>
                </a:cubicBezTo>
                <a:cubicBezTo>
                  <a:pt x="6383" y="8954"/>
                  <a:pt x="6341" y="8954"/>
                  <a:pt x="6300" y="8954"/>
                </a:cubicBezTo>
              </a:path>
              <a:path w="4962" h="1563">
                <a:moveTo>
                  <a:pt x="5085" y="9500"/>
                </a:moveTo>
                <a:cubicBezTo>
                  <a:pt x="5093" y="9500"/>
                  <a:pt x="5102" y="9500"/>
                  <a:pt x="5110" y="9500"/>
                </a:cubicBezTo>
                <a:cubicBezTo>
                  <a:pt x="5092" y="9445"/>
                  <a:pt x="5074" y="9487"/>
                  <a:pt x="5035" y="9500"/>
                </a:cubicBezTo>
                <a:cubicBezTo>
                  <a:pt x="4993" y="9514"/>
                  <a:pt x="5002" y="9494"/>
                  <a:pt x="4961" y="9525"/>
                </a:cubicBezTo>
              </a:path>
              <a:path w="4962" h="1563">
                <a:moveTo>
                  <a:pt x="5407" y="9376"/>
                </a:moveTo>
                <a:cubicBezTo>
                  <a:pt x="5423" y="9369"/>
                  <a:pt x="5528" y="9318"/>
                  <a:pt x="5482" y="9351"/>
                </a:cubicBezTo>
                <a:cubicBezTo>
                  <a:pt x="5433" y="9386"/>
                  <a:pt x="5379" y="9445"/>
                  <a:pt x="5358" y="9500"/>
                </a:cubicBezTo>
                <a:cubicBezTo>
                  <a:pt x="5348" y="9526"/>
                  <a:pt x="5346" y="9613"/>
                  <a:pt x="5383" y="9624"/>
                </a:cubicBezTo>
                <a:cubicBezTo>
                  <a:pt x="5446" y="9644"/>
                  <a:pt x="5508" y="9609"/>
                  <a:pt x="5556" y="9599"/>
                </a:cubicBezTo>
                <a:cubicBezTo>
                  <a:pt x="5573" y="9599"/>
                  <a:pt x="5589" y="9599"/>
                  <a:pt x="5606" y="9599"/>
                </a:cubicBezTo>
              </a:path>
              <a:path w="4962" h="1563">
                <a:moveTo>
                  <a:pt x="6276" y="9451"/>
                </a:moveTo>
                <a:cubicBezTo>
                  <a:pt x="6276" y="9426"/>
                  <a:pt x="6276" y="9401"/>
                  <a:pt x="6276" y="9376"/>
                </a:cubicBezTo>
                <a:cubicBezTo>
                  <a:pt x="6223" y="9376"/>
                  <a:pt x="6214" y="9388"/>
                  <a:pt x="6176" y="9426"/>
                </a:cubicBezTo>
                <a:cubicBezTo>
                  <a:pt x="6148" y="9454"/>
                  <a:pt x="6083" y="9503"/>
                  <a:pt x="6102" y="9550"/>
                </a:cubicBezTo>
                <a:cubicBezTo>
                  <a:pt x="6118" y="9591"/>
                  <a:pt x="6194" y="9575"/>
                  <a:pt x="6226" y="9575"/>
                </a:cubicBezTo>
                <a:cubicBezTo>
                  <a:pt x="6294" y="9575"/>
                  <a:pt x="6257" y="9536"/>
                  <a:pt x="6276" y="9500"/>
                </a:cubicBezTo>
                <a:cubicBezTo>
                  <a:pt x="6284" y="9492"/>
                  <a:pt x="6292" y="9483"/>
                  <a:pt x="6300" y="9475"/>
                </a:cubicBezTo>
                <a:cubicBezTo>
                  <a:pt x="6348" y="9523"/>
                  <a:pt x="6358" y="9540"/>
                  <a:pt x="6424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31960" y="303120"/>
            <a:ext cx="349200" cy="617760"/>
          </a:xfrm>
          <a:custGeom>
            <a:avLst/>
            <a:gdLst/>
            <a:ahLst/>
            <a:rect l="l" t="t" r="r" b="b"/>
            <a:pathLst>
              <a:path w="968" h="1713">
                <a:moveTo>
                  <a:pt x="5457" y="992"/>
                </a:moveTo>
                <a:cubicBezTo>
                  <a:pt x="5465" y="992"/>
                  <a:pt x="5474" y="992"/>
                  <a:pt x="5482" y="992"/>
                </a:cubicBezTo>
                <a:cubicBezTo>
                  <a:pt x="5473" y="965"/>
                  <a:pt x="5446" y="953"/>
                  <a:pt x="5407" y="967"/>
                </a:cubicBezTo>
                <a:cubicBezTo>
                  <a:pt x="5349" y="988"/>
                  <a:pt x="5272" y="1054"/>
                  <a:pt x="5259" y="1116"/>
                </a:cubicBezTo>
                <a:cubicBezTo>
                  <a:pt x="5245" y="1182"/>
                  <a:pt x="5256" y="1289"/>
                  <a:pt x="5333" y="1315"/>
                </a:cubicBezTo>
                <a:cubicBezTo>
                  <a:pt x="5418" y="1343"/>
                  <a:pt x="5458" y="1252"/>
                  <a:pt x="5482" y="1191"/>
                </a:cubicBezTo>
                <a:cubicBezTo>
                  <a:pt x="5506" y="1131"/>
                  <a:pt x="5502" y="1091"/>
                  <a:pt x="5531" y="1042"/>
                </a:cubicBezTo>
                <a:cubicBezTo>
                  <a:pt x="5582" y="1122"/>
                  <a:pt x="5642" y="1194"/>
                  <a:pt x="5705" y="1265"/>
                </a:cubicBezTo>
              </a:path>
              <a:path w="968" h="1713">
                <a:moveTo>
                  <a:pt x="5581" y="2084"/>
                </a:moveTo>
                <a:cubicBezTo>
                  <a:pt x="5604" y="2061"/>
                  <a:pt x="5612" y="2057"/>
                  <a:pt x="5606" y="2034"/>
                </a:cubicBezTo>
                <a:cubicBezTo>
                  <a:pt x="5549" y="2034"/>
                  <a:pt x="5516" y="2032"/>
                  <a:pt x="5482" y="2084"/>
                </a:cubicBezTo>
                <a:cubicBezTo>
                  <a:pt x="5438" y="2151"/>
                  <a:pt x="5412" y="2209"/>
                  <a:pt x="5457" y="2282"/>
                </a:cubicBezTo>
                <a:cubicBezTo>
                  <a:pt x="5496" y="2345"/>
                  <a:pt x="5605" y="2299"/>
                  <a:pt x="5655" y="2282"/>
                </a:cubicBezTo>
                <a:cubicBezTo>
                  <a:pt x="5722" y="2260"/>
                  <a:pt x="5740" y="2255"/>
                  <a:pt x="5779" y="2232"/>
                </a:cubicBezTo>
              </a:path>
              <a:path w="968" h="1713">
                <a:moveTo>
                  <a:pt x="4961" y="967"/>
                </a:moveTo>
                <a:cubicBezTo>
                  <a:pt x="4984" y="923"/>
                  <a:pt x="4993" y="883"/>
                  <a:pt x="5011" y="843"/>
                </a:cubicBezTo>
                <a:cubicBezTo>
                  <a:pt x="4971" y="866"/>
                  <a:pt x="4915" y="892"/>
                  <a:pt x="4887" y="943"/>
                </a:cubicBezTo>
                <a:cubicBezTo>
                  <a:pt x="4816" y="1073"/>
                  <a:pt x="4814" y="1247"/>
                  <a:pt x="4812" y="1389"/>
                </a:cubicBezTo>
                <a:cubicBezTo>
                  <a:pt x="4808" y="1603"/>
                  <a:pt x="4842" y="1832"/>
                  <a:pt x="4911" y="2034"/>
                </a:cubicBezTo>
                <a:cubicBezTo>
                  <a:pt x="4950" y="2149"/>
                  <a:pt x="5009" y="2253"/>
                  <a:pt x="5060" y="2356"/>
                </a:cubicBezTo>
                <a:cubicBezTo>
                  <a:pt x="5094" y="2424"/>
                  <a:pt x="5151" y="2529"/>
                  <a:pt x="5234" y="2555"/>
                </a:cubicBezTo>
                <a:cubicBezTo>
                  <a:pt x="5267" y="2555"/>
                  <a:pt x="5283" y="2555"/>
                  <a:pt x="5308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74920" y="214200"/>
            <a:ext cx="339840" cy="571680"/>
          </a:xfrm>
          <a:custGeom>
            <a:avLst/>
            <a:gdLst/>
            <a:ahLst/>
            <a:rect l="l" t="t" r="r" b="b"/>
            <a:pathLst>
              <a:path w="944" h="1589">
                <a:moveTo>
                  <a:pt x="6623" y="670"/>
                </a:moveTo>
                <a:cubicBezTo>
                  <a:pt x="6623" y="645"/>
                  <a:pt x="6623" y="637"/>
                  <a:pt x="6623" y="620"/>
                </a:cubicBezTo>
                <a:cubicBezTo>
                  <a:pt x="6585" y="646"/>
                  <a:pt x="6598" y="707"/>
                  <a:pt x="6598" y="769"/>
                </a:cubicBezTo>
                <a:cubicBezTo>
                  <a:pt x="6598" y="897"/>
                  <a:pt x="6638" y="982"/>
                  <a:pt x="6697" y="1091"/>
                </a:cubicBezTo>
                <a:cubicBezTo>
                  <a:pt x="6719" y="1135"/>
                  <a:pt x="6722" y="1147"/>
                  <a:pt x="6747" y="1166"/>
                </a:cubicBezTo>
                <a:cubicBezTo>
                  <a:pt x="6785" y="1119"/>
                  <a:pt x="6810" y="1065"/>
                  <a:pt x="6846" y="1017"/>
                </a:cubicBezTo>
                <a:cubicBezTo>
                  <a:pt x="6854" y="1009"/>
                  <a:pt x="6863" y="1000"/>
                  <a:pt x="6871" y="992"/>
                </a:cubicBezTo>
                <a:cubicBezTo>
                  <a:pt x="6930" y="1039"/>
                  <a:pt x="6957" y="1061"/>
                  <a:pt x="6970" y="1141"/>
                </a:cubicBezTo>
                <a:cubicBezTo>
                  <a:pt x="6980" y="1199"/>
                  <a:pt x="6928" y="1252"/>
                  <a:pt x="6871" y="1265"/>
                </a:cubicBezTo>
                <a:cubicBezTo>
                  <a:pt x="6854" y="1265"/>
                  <a:pt x="6838" y="1265"/>
                  <a:pt x="6821" y="1265"/>
                </a:cubicBezTo>
              </a:path>
              <a:path w="944" h="1589">
                <a:moveTo>
                  <a:pt x="6722" y="1910"/>
                </a:moveTo>
                <a:cubicBezTo>
                  <a:pt x="6673" y="1922"/>
                  <a:pt x="6615" y="1952"/>
                  <a:pt x="6598" y="2009"/>
                </a:cubicBezTo>
                <a:cubicBezTo>
                  <a:pt x="6577" y="2080"/>
                  <a:pt x="6598" y="2128"/>
                  <a:pt x="6672" y="2133"/>
                </a:cubicBezTo>
                <a:cubicBezTo>
                  <a:pt x="6792" y="2141"/>
                  <a:pt x="6792" y="2058"/>
                  <a:pt x="6796" y="1960"/>
                </a:cubicBezTo>
                <a:cubicBezTo>
                  <a:pt x="6800" y="1856"/>
                  <a:pt x="6802" y="1735"/>
                  <a:pt x="6772" y="1637"/>
                </a:cubicBezTo>
                <a:cubicBezTo>
                  <a:pt x="6764" y="1621"/>
                  <a:pt x="6755" y="1604"/>
                  <a:pt x="6747" y="1588"/>
                </a:cubicBezTo>
                <a:cubicBezTo>
                  <a:pt x="6747" y="1696"/>
                  <a:pt x="6785" y="1768"/>
                  <a:pt x="6846" y="1860"/>
                </a:cubicBezTo>
                <a:cubicBezTo>
                  <a:pt x="6922" y="1976"/>
                  <a:pt x="7031" y="2080"/>
                  <a:pt x="7144" y="2158"/>
                </a:cubicBezTo>
                <a:cubicBezTo>
                  <a:pt x="7160" y="2166"/>
                  <a:pt x="7177" y="2175"/>
                  <a:pt x="7193" y="2183"/>
                </a:cubicBezTo>
              </a:path>
              <a:path w="944" h="1589">
                <a:moveTo>
                  <a:pt x="6896" y="595"/>
                </a:moveTo>
                <a:cubicBezTo>
                  <a:pt x="6992" y="595"/>
                  <a:pt x="7081" y="599"/>
                  <a:pt x="7169" y="645"/>
                </a:cubicBezTo>
                <a:cubicBezTo>
                  <a:pt x="7276" y="701"/>
                  <a:pt x="7418" y="804"/>
                  <a:pt x="7466" y="918"/>
                </a:cubicBezTo>
                <a:cubicBezTo>
                  <a:pt x="7533" y="1076"/>
                  <a:pt x="7560" y="1267"/>
                  <a:pt x="7541" y="1439"/>
                </a:cubicBezTo>
                <a:cubicBezTo>
                  <a:pt x="7524" y="1590"/>
                  <a:pt x="7474" y="1689"/>
                  <a:pt x="7392" y="1811"/>
                </a:cubicBezTo>
                <a:cubicBezTo>
                  <a:pt x="7344" y="1884"/>
                  <a:pt x="7314" y="1915"/>
                  <a:pt x="7243" y="19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5960" y="4303800"/>
            <a:ext cx="874800" cy="250560"/>
          </a:xfrm>
          <a:custGeom>
            <a:avLst/>
            <a:gdLst/>
            <a:ahLst/>
            <a:rect l="l" t="t" r="r" b="b"/>
            <a:pathLst>
              <a:path w="2432" h="695">
                <a:moveTo>
                  <a:pt x="8384" y="12328"/>
                </a:moveTo>
                <a:cubicBezTo>
                  <a:pt x="8410" y="12293"/>
                  <a:pt x="8409" y="12297"/>
                  <a:pt x="8409" y="12254"/>
                </a:cubicBezTo>
                <a:cubicBezTo>
                  <a:pt x="8392" y="12202"/>
                  <a:pt x="8327" y="12249"/>
                  <a:pt x="8285" y="12278"/>
                </a:cubicBezTo>
                <a:cubicBezTo>
                  <a:pt x="8225" y="12320"/>
                  <a:pt x="8189" y="12377"/>
                  <a:pt x="8210" y="12452"/>
                </a:cubicBezTo>
                <a:cubicBezTo>
                  <a:pt x="8232" y="12496"/>
                  <a:pt x="8235" y="12507"/>
                  <a:pt x="8260" y="12526"/>
                </a:cubicBezTo>
                <a:cubicBezTo>
                  <a:pt x="8316" y="12513"/>
                  <a:pt x="8331" y="12479"/>
                  <a:pt x="8359" y="12427"/>
                </a:cubicBezTo>
                <a:cubicBezTo>
                  <a:pt x="8384" y="12380"/>
                  <a:pt x="8380" y="12366"/>
                  <a:pt x="8409" y="12328"/>
                </a:cubicBezTo>
                <a:cubicBezTo>
                  <a:pt x="8426" y="12394"/>
                  <a:pt x="8471" y="12443"/>
                  <a:pt x="8508" y="12502"/>
                </a:cubicBezTo>
                <a:cubicBezTo>
                  <a:pt x="8516" y="12518"/>
                  <a:pt x="8525" y="12535"/>
                  <a:pt x="8533" y="12551"/>
                </a:cubicBezTo>
              </a:path>
              <a:path w="2432" h="695">
                <a:moveTo>
                  <a:pt x="8830" y="12427"/>
                </a:moveTo>
                <a:cubicBezTo>
                  <a:pt x="8830" y="12386"/>
                  <a:pt x="8838" y="12370"/>
                  <a:pt x="8806" y="12378"/>
                </a:cubicBezTo>
                <a:cubicBezTo>
                  <a:pt x="8765" y="12388"/>
                  <a:pt x="8702" y="12450"/>
                  <a:pt x="8706" y="12502"/>
                </a:cubicBezTo>
                <a:cubicBezTo>
                  <a:pt x="8708" y="12531"/>
                  <a:pt x="8763" y="12567"/>
                  <a:pt x="8781" y="12576"/>
                </a:cubicBezTo>
                <a:cubicBezTo>
                  <a:pt x="8881" y="12513"/>
                  <a:pt x="8901" y="12473"/>
                  <a:pt x="8905" y="12353"/>
                </a:cubicBezTo>
                <a:cubicBezTo>
                  <a:pt x="8907" y="12290"/>
                  <a:pt x="8936" y="12099"/>
                  <a:pt x="8880" y="12080"/>
                </a:cubicBezTo>
                <a:cubicBezTo>
                  <a:pt x="8880" y="12186"/>
                  <a:pt x="8881" y="12274"/>
                  <a:pt x="8905" y="12378"/>
                </a:cubicBezTo>
                <a:cubicBezTo>
                  <a:pt x="8932" y="12495"/>
                  <a:pt x="8993" y="12554"/>
                  <a:pt x="9054" y="12650"/>
                </a:cubicBezTo>
              </a:path>
              <a:path w="2432" h="695">
                <a:moveTo>
                  <a:pt x="9351" y="12576"/>
                </a:moveTo>
                <a:cubicBezTo>
                  <a:pt x="9329" y="12553"/>
                  <a:pt x="9321" y="12548"/>
                  <a:pt x="9327" y="12526"/>
                </a:cubicBezTo>
                <a:cubicBezTo>
                  <a:pt x="9375" y="12514"/>
                  <a:pt x="9423" y="12486"/>
                  <a:pt x="9475" y="12477"/>
                </a:cubicBezTo>
                <a:cubicBezTo>
                  <a:pt x="9546" y="12465"/>
                  <a:pt x="9667" y="12459"/>
                  <a:pt x="9723" y="12502"/>
                </a:cubicBezTo>
              </a:path>
              <a:path w="2432" h="695">
                <a:moveTo>
                  <a:pt x="9922" y="12154"/>
                </a:moveTo>
                <a:cubicBezTo>
                  <a:pt x="9944" y="12067"/>
                  <a:pt x="9961" y="12030"/>
                  <a:pt x="9971" y="11956"/>
                </a:cubicBezTo>
                <a:cubicBezTo>
                  <a:pt x="9930" y="12051"/>
                  <a:pt x="9865" y="12178"/>
                  <a:pt x="9847" y="12278"/>
                </a:cubicBezTo>
                <a:cubicBezTo>
                  <a:pt x="9833" y="12354"/>
                  <a:pt x="9847" y="12448"/>
                  <a:pt x="9847" y="12526"/>
                </a:cubicBezTo>
                <a:cubicBezTo>
                  <a:pt x="9916" y="12516"/>
                  <a:pt x="9951" y="12474"/>
                  <a:pt x="10021" y="12452"/>
                </a:cubicBezTo>
                <a:cubicBezTo>
                  <a:pt x="10059" y="12440"/>
                  <a:pt x="10104" y="12467"/>
                  <a:pt x="10120" y="12502"/>
                </a:cubicBezTo>
                <a:cubicBezTo>
                  <a:pt x="10120" y="12526"/>
                  <a:pt x="10120" y="12535"/>
                  <a:pt x="10120" y="12551"/>
                </a:cubicBezTo>
                <a:cubicBezTo>
                  <a:pt x="10070" y="12582"/>
                  <a:pt x="10033" y="12576"/>
                  <a:pt x="9971" y="12576"/>
                </a:cubicBezTo>
                <a:cubicBezTo>
                  <a:pt x="9946" y="12576"/>
                  <a:pt x="9922" y="12576"/>
                  <a:pt x="9897" y="12576"/>
                </a:cubicBezTo>
              </a:path>
              <a:path w="2432" h="695">
                <a:moveTo>
                  <a:pt x="10319" y="12402"/>
                </a:moveTo>
                <a:cubicBezTo>
                  <a:pt x="10339" y="12362"/>
                  <a:pt x="10358" y="12346"/>
                  <a:pt x="10319" y="12353"/>
                </a:cubicBezTo>
                <a:cubicBezTo>
                  <a:pt x="10287" y="12406"/>
                  <a:pt x="10290" y="12475"/>
                  <a:pt x="10344" y="12526"/>
                </a:cubicBezTo>
                <a:cubicBezTo>
                  <a:pt x="10406" y="12584"/>
                  <a:pt x="10490" y="12576"/>
                  <a:pt x="10567" y="12576"/>
                </a:cubicBezTo>
                <a:cubicBezTo>
                  <a:pt x="10611" y="12576"/>
                  <a:pt x="10625" y="12579"/>
                  <a:pt x="10641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27320" y="440208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1460" y="12229"/>
                </a:moveTo>
                <a:cubicBezTo>
                  <a:pt x="11523" y="12229"/>
                  <a:pt x="11405" y="12229"/>
                  <a:pt x="11385" y="12229"/>
                </a:cubicBezTo>
                <a:cubicBezTo>
                  <a:pt x="11319" y="12229"/>
                  <a:pt x="11253" y="12229"/>
                  <a:pt x="11187" y="12229"/>
                </a:cubicBezTo>
              </a:path>
              <a:path w="348" h="199">
                <a:moveTo>
                  <a:pt x="11485" y="12353"/>
                </a:moveTo>
                <a:cubicBezTo>
                  <a:pt x="11501" y="12353"/>
                  <a:pt x="11518" y="12353"/>
                  <a:pt x="11534" y="12353"/>
                </a:cubicBezTo>
                <a:cubicBezTo>
                  <a:pt x="11524" y="12383"/>
                  <a:pt x="11455" y="12417"/>
                  <a:pt x="11410" y="12427"/>
                </a:cubicBezTo>
                <a:cubicBezTo>
                  <a:pt x="11366" y="12437"/>
                  <a:pt x="11305" y="12427"/>
                  <a:pt x="11261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95880" y="4357800"/>
            <a:ext cx="196920" cy="19656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12154" y="12328"/>
                </a:moveTo>
                <a:cubicBezTo>
                  <a:pt x="12126" y="12278"/>
                  <a:pt x="12105" y="12259"/>
                  <a:pt x="12105" y="12204"/>
                </a:cubicBezTo>
                <a:cubicBezTo>
                  <a:pt x="12105" y="12164"/>
                  <a:pt x="12168" y="12112"/>
                  <a:pt x="12204" y="12105"/>
                </a:cubicBezTo>
                <a:cubicBezTo>
                  <a:pt x="12296" y="12087"/>
                  <a:pt x="12391" y="12146"/>
                  <a:pt x="12427" y="12229"/>
                </a:cubicBezTo>
                <a:cubicBezTo>
                  <a:pt x="12474" y="12338"/>
                  <a:pt x="12494" y="12470"/>
                  <a:pt x="12427" y="12576"/>
                </a:cubicBezTo>
                <a:cubicBezTo>
                  <a:pt x="12363" y="12678"/>
                  <a:pt x="12202" y="12666"/>
                  <a:pt x="12105" y="12626"/>
                </a:cubicBezTo>
                <a:cubicBezTo>
                  <a:pt x="12028" y="12594"/>
                  <a:pt x="11914" y="12525"/>
                  <a:pt x="11931" y="12427"/>
                </a:cubicBezTo>
                <a:cubicBezTo>
                  <a:pt x="11950" y="12320"/>
                  <a:pt x="12036" y="12231"/>
                  <a:pt x="12105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5062680"/>
            <a:ext cx="2384280" cy="760320"/>
          </a:xfrm>
          <a:custGeom>
            <a:avLst/>
            <a:gdLst/>
            <a:ahLst/>
            <a:rect l="l" t="t" r="r" b="b"/>
            <a:pathLst>
              <a:path w="6623" h="2110">
                <a:moveTo>
                  <a:pt x="3547" y="14610"/>
                </a:moveTo>
                <a:cubicBezTo>
                  <a:pt x="3547" y="14560"/>
                  <a:pt x="3547" y="14511"/>
                  <a:pt x="3547" y="14461"/>
                </a:cubicBezTo>
                <a:cubicBezTo>
                  <a:pt x="3547" y="14565"/>
                  <a:pt x="3563" y="14658"/>
                  <a:pt x="3572" y="14759"/>
                </a:cubicBezTo>
                <a:cubicBezTo>
                  <a:pt x="3581" y="14863"/>
                  <a:pt x="3589" y="14958"/>
                  <a:pt x="3621" y="15056"/>
                </a:cubicBezTo>
              </a:path>
              <a:path w="6623" h="2110">
                <a:moveTo>
                  <a:pt x="5011" y="15354"/>
                </a:moveTo>
                <a:cubicBezTo>
                  <a:pt x="4965" y="15308"/>
                  <a:pt x="4999" y="15309"/>
                  <a:pt x="4911" y="15304"/>
                </a:cubicBezTo>
                <a:cubicBezTo>
                  <a:pt x="4825" y="15299"/>
                  <a:pt x="4724" y="15294"/>
                  <a:pt x="4638" y="15280"/>
                </a:cubicBezTo>
                <a:cubicBezTo>
                  <a:pt x="4500" y="15258"/>
                  <a:pt x="4357" y="15241"/>
                  <a:pt x="4217" y="15230"/>
                </a:cubicBezTo>
                <a:cubicBezTo>
                  <a:pt x="3886" y="15204"/>
                  <a:pt x="3525" y="15220"/>
                  <a:pt x="3200" y="15255"/>
                </a:cubicBezTo>
                <a:cubicBezTo>
                  <a:pt x="3098" y="15266"/>
                  <a:pt x="3006" y="15280"/>
                  <a:pt x="2902" y="15280"/>
                </a:cubicBezTo>
                <a:cubicBezTo>
                  <a:pt x="2788" y="15280"/>
                  <a:pt x="2687" y="15287"/>
                  <a:pt x="2580" y="15304"/>
                </a:cubicBezTo>
                <a:cubicBezTo>
                  <a:pt x="2514" y="15315"/>
                  <a:pt x="2462" y="15330"/>
                  <a:pt x="2406" y="15354"/>
                </a:cubicBezTo>
                <a:cubicBezTo>
                  <a:pt x="2383" y="15364"/>
                  <a:pt x="2354" y="15368"/>
                  <a:pt x="2332" y="15379"/>
                </a:cubicBezTo>
              </a:path>
              <a:path w="6623" h="2110">
                <a:moveTo>
                  <a:pt x="3373" y="15528"/>
                </a:moveTo>
                <a:cubicBezTo>
                  <a:pt x="3353" y="15507"/>
                  <a:pt x="3342" y="15577"/>
                  <a:pt x="3324" y="15627"/>
                </a:cubicBezTo>
                <a:cubicBezTo>
                  <a:pt x="3288" y="15725"/>
                  <a:pt x="3297" y="15806"/>
                  <a:pt x="3274" y="15900"/>
                </a:cubicBezTo>
                <a:cubicBezTo>
                  <a:pt x="3262" y="15948"/>
                  <a:pt x="3218" y="15993"/>
                  <a:pt x="3299" y="15999"/>
                </a:cubicBezTo>
                <a:cubicBezTo>
                  <a:pt x="3370" y="16004"/>
                  <a:pt x="3425" y="15940"/>
                  <a:pt x="3497" y="15925"/>
                </a:cubicBezTo>
                <a:cubicBezTo>
                  <a:pt x="3554" y="15913"/>
                  <a:pt x="3780" y="15905"/>
                  <a:pt x="3795" y="15949"/>
                </a:cubicBezTo>
              </a:path>
              <a:path w="6623" h="2110">
                <a:moveTo>
                  <a:pt x="3597" y="15776"/>
                </a:moveTo>
                <a:cubicBezTo>
                  <a:pt x="3597" y="15880"/>
                  <a:pt x="3608" y="15972"/>
                  <a:pt x="3621" y="16073"/>
                </a:cubicBezTo>
                <a:cubicBezTo>
                  <a:pt x="3621" y="16125"/>
                  <a:pt x="3622" y="16143"/>
                  <a:pt x="3646" y="16173"/>
                </a:cubicBezTo>
              </a:path>
              <a:path w="6623" h="2110">
                <a:moveTo>
                  <a:pt x="6127" y="14238"/>
                </a:moveTo>
                <a:cubicBezTo>
                  <a:pt x="6111" y="14271"/>
                  <a:pt x="6128" y="14262"/>
                  <a:pt x="6102" y="14288"/>
                </a:cubicBezTo>
                <a:cubicBezTo>
                  <a:pt x="6057" y="14332"/>
                  <a:pt x="6027" y="14376"/>
                  <a:pt x="6003" y="14436"/>
                </a:cubicBezTo>
                <a:cubicBezTo>
                  <a:pt x="5982" y="14490"/>
                  <a:pt x="5971" y="14556"/>
                  <a:pt x="5953" y="14610"/>
                </a:cubicBezTo>
                <a:cubicBezTo>
                  <a:pt x="5927" y="14688"/>
                  <a:pt x="5904" y="14757"/>
                  <a:pt x="5879" y="14833"/>
                </a:cubicBezTo>
                <a:cubicBezTo>
                  <a:pt x="5860" y="14891"/>
                  <a:pt x="5850" y="14949"/>
                  <a:pt x="5829" y="15007"/>
                </a:cubicBezTo>
                <a:cubicBezTo>
                  <a:pt x="5812" y="15054"/>
                  <a:pt x="5819" y="15110"/>
                  <a:pt x="5804" y="15156"/>
                </a:cubicBezTo>
                <a:cubicBezTo>
                  <a:pt x="5783" y="15222"/>
                  <a:pt x="5779" y="15256"/>
                  <a:pt x="5779" y="15329"/>
                </a:cubicBezTo>
                <a:cubicBezTo>
                  <a:pt x="5779" y="15388"/>
                  <a:pt x="5785" y="15422"/>
                  <a:pt x="5804" y="15478"/>
                </a:cubicBezTo>
                <a:cubicBezTo>
                  <a:pt x="5823" y="15533"/>
                  <a:pt x="5836" y="15599"/>
                  <a:pt x="5854" y="15652"/>
                </a:cubicBezTo>
                <a:cubicBezTo>
                  <a:pt x="5872" y="15704"/>
                  <a:pt x="5900" y="15779"/>
                  <a:pt x="5928" y="15825"/>
                </a:cubicBezTo>
                <a:cubicBezTo>
                  <a:pt x="5953" y="15850"/>
                  <a:pt x="5961" y="15858"/>
                  <a:pt x="5978" y="15875"/>
                </a:cubicBezTo>
              </a:path>
              <a:path w="6623" h="2110">
                <a:moveTo>
                  <a:pt x="8558" y="14089"/>
                </a:moveTo>
                <a:cubicBezTo>
                  <a:pt x="8573" y="14080"/>
                  <a:pt x="8599" y="14046"/>
                  <a:pt x="8632" y="14064"/>
                </a:cubicBezTo>
                <a:cubicBezTo>
                  <a:pt x="8679" y="14089"/>
                  <a:pt x="8710" y="14151"/>
                  <a:pt x="8731" y="14188"/>
                </a:cubicBezTo>
                <a:cubicBezTo>
                  <a:pt x="8764" y="14247"/>
                  <a:pt x="8799" y="14300"/>
                  <a:pt x="8830" y="14362"/>
                </a:cubicBezTo>
                <a:cubicBezTo>
                  <a:pt x="8875" y="14453"/>
                  <a:pt x="8891" y="14546"/>
                  <a:pt x="8930" y="14635"/>
                </a:cubicBezTo>
                <a:cubicBezTo>
                  <a:pt x="8960" y="14702"/>
                  <a:pt x="8954" y="14759"/>
                  <a:pt x="8954" y="14833"/>
                </a:cubicBezTo>
                <a:cubicBezTo>
                  <a:pt x="8954" y="14922"/>
                  <a:pt x="8943" y="14998"/>
                  <a:pt x="8930" y="15081"/>
                </a:cubicBezTo>
                <a:cubicBezTo>
                  <a:pt x="8920" y="15143"/>
                  <a:pt x="8908" y="15194"/>
                  <a:pt x="8880" y="15255"/>
                </a:cubicBezTo>
                <a:cubicBezTo>
                  <a:pt x="8854" y="15313"/>
                  <a:pt x="8814" y="15374"/>
                  <a:pt x="8781" y="15429"/>
                </a:cubicBezTo>
                <a:cubicBezTo>
                  <a:pt x="8737" y="15501"/>
                  <a:pt x="8683" y="15559"/>
                  <a:pt x="8632" y="15627"/>
                </a:cubicBezTo>
                <a:cubicBezTo>
                  <a:pt x="8594" y="15677"/>
                  <a:pt x="8543" y="15725"/>
                  <a:pt x="8508" y="15776"/>
                </a:cubicBezTo>
                <a:cubicBezTo>
                  <a:pt x="8487" y="15806"/>
                  <a:pt x="8431" y="15884"/>
                  <a:pt x="8409" y="15900"/>
                </a:cubicBezTo>
                <a:cubicBezTo>
                  <a:pt x="8401" y="15900"/>
                  <a:pt x="8392" y="15900"/>
                  <a:pt x="8384" y="15900"/>
                </a:cubicBezTo>
              </a:path>
              <a:path w="6623" h="2110">
                <a:moveTo>
                  <a:pt x="6499" y="14362"/>
                </a:moveTo>
                <a:cubicBezTo>
                  <a:pt x="6537" y="14375"/>
                  <a:pt x="6524" y="14391"/>
                  <a:pt x="6524" y="14436"/>
                </a:cubicBezTo>
                <a:cubicBezTo>
                  <a:pt x="6524" y="14473"/>
                  <a:pt x="6478" y="14522"/>
                  <a:pt x="6499" y="14560"/>
                </a:cubicBezTo>
                <a:cubicBezTo>
                  <a:pt x="6522" y="14600"/>
                  <a:pt x="6585" y="14585"/>
                  <a:pt x="6623" y="14585"/>
                </a:cubicBezTo>
                <a:cubicBezTo>
                  <a:pt x="6680" y="14585"/>
                  <a:pt x="6728" y="14574"/>
                  <a:pt x="6772" y="14610"/>
                </a:cubicBezTo>
                <a:cubicBezTo>
                  <a:pt x="6793" y="14628"/>
                  <a:pt x="6811" y="14680"/>
                  <a:pt x="6796" y="14709"/>
                </a:cubicBezTo>
                <a:cubicBezTo>
                  <a:pt x="6773" y="14753"/>
                  <a:pt x="6718" y="14781"/>
                  <a:pt x="6672" y="14784"/>
                </a:cubicBezTo>
                <a:cubicBezTo>
                  <a:pt x="6616" y="14788"/>
                  <a:pt x="6489" y="14805"/>
                  <a:pt x="6474" y="14759"/>
                </a:cubicBezTo>
              </a:path>
              <a:path w="6623" h="2110">
                <a:moveTo>
                  <a:pt x="6747" y="14312"/>
                </a:moveTo>
                <a:cubicBezTo>
                  <a:pt x="6747" y="14304"/>
                  <a:pt x="6747" y="14296"/>
                  <a:pt x="6747" y="14288"/>
                </a:cubicBezTo>
                <a:cubicBezTo>
                  <a:pt x="6690" y="14288"/>
                  <a:pt x="6644" y="14303"/>
                  <a:pt x="6598" y="14312"/>
                </a:cubicBezTo>
                <a:cubicBezTo>
                  <a:pt x="6581" y="14312"/>
                  <a:pt x="6565" y="14312"/>
                  <a:pt x="6548" y="14312"/>
                </a:cubicBezTo>
              </a:path>
              <a:path w="6623" h="2110">
                <a:moveTo>
                  <a:pt x="7590" y="15429"/>
                </a:moveTo>
                <a:cubicBezTo>
                  <a:pt x="7552" y="15416"/>
                  <a:pt x="7565" y="15399"/>
                  <a:pt x="7565" y="15354"/>
                </a:cubicBezTo>
                <a:cubicBezTo>
                  <a:pt x="7565" y="15308"/>
                  <a:pt x="7559" y="15290"/>
                  <a:pt x="7590" y="15255"/>
                </a:cubicBezTo>
                <a:cubicBezTo>
                  <a:pt x="7617" y="15225"/>
                  <a:pt x="7622" y="15175"/>
                  <a:pt x="7665" y="15156"/>
                </a:cubicBezTo>
                <a:cubicBezTo>
                  <a:pt x="7699" y="15141"/>
                  <a:pt x="7773" y="15156"/>
                  <a:pt x="7813" y="15156"/>
                </a:cubicBezTo>
                <a:cubicBezTo>
                  <a:pt x="7820" y="15205"/>
                  <a:pt x="7854" y="15250"/>
                  <a:pt x="7838" y="15304"/>
                </a:cubicBezTo>
                <a:cubicBezTo>
                  <a:pt x="7823" y="15354"/>
                  <a:pt x="7773" y="15416"/>
                  <a:pt x="7739" y="15453"/>
                </a:cubicBezTo>
                <a:cubicBezTo>
                  <a:pt x="7706" y="15489"/>
                  <a:pt x="7676" y="15507"/>
                  <a:pt x="7665" y="15553"/>
                </a:cubicBezTo>
                <a:cubicBezTo>
                  <a:pt x="7718" y="15553"/>
                  <a:pt x="7745" y="15531"/>
                  <a:pt x="7789" y="15528"/>
                </a:cubicBezTo>
                <a:cubicBezTo>
                  <a:pt x="7856" y="15523"/>
                  <a:pt x="7883" y="15522"/>
                  <a:pt x="7938" y="15503"/>
                </a:cubicBezTo>
                <a:cubicBezTo>
                  <a:pt x="7946" y="15503"/>
                  <a:pt x="7954" y="15503"/>
                  <a:pt x="7962" y="15503"/>
                </a:cubicBezTo>
              </a:path>
              <a:path w="6623" h="2110">
                <a:moveTo>
                  <a:pt x="7640" y="14263"/>
                </a:moveTo>
                <a:cubicBezTo>
                  <a:pt x="7650" y="14223"/>
                  <a:pt x="7668" y="14191"/>
                  <a:pt x="7714" y="14188"/>
                </a:cubicBezTo>
                <a:cubicBezTo>
                  <a:pt x="7779" y="14183"/>
                  <a:pt x="7857" y="14176"/>
                  <a:pt x="7913" y="14213"/>
                </a:cubicBezTo>
                <a:cubicBezTo>
                  <a:pt x="7954" y="14241"/>
                  <a:pt x="7959" y="14317"/>
                  <a:pt x="7962" y="14362"/>
                </a:cubicBezTo>
                <a:cubicBezTo>
                  <a:pt x="7966" y="14414"/>
                  <a:pt x="7949" y="14425"/>
                  <a:pt x="7913" y="14461"/>
                </a:cubicBezTo>
                <a:cubicBezTo>
                  <a:pt x="7880" y="14494"/>
                  <a:pt x="7848" y="14506"/>
                  <a:pt x="7838" y="14536"/>
                </a:cubicBezTo>
                <a:cubicBezTo>
                  <a:pt x="7876" y="14545"/>
                  <a:pt x="7908" y="14558"/>
                  <a:pt x="7938" y="14585"/>
                </a:cubicBezTo>
                <a:cubicBezTo>
                  <a:pt x="7959" y="14604"/>
                  <a:pt x="7978" y="14654"/>
                  <a:pt x="7962" y="14684"/>
                </a:cubicBezTo>
                <a:cubicBezTo>
                  <a:pt x="7938" y="14729"/>
                  <a:pt x="7830" y="14709"/>
                  <a:pt x="7789" y="14709"/>
                </a:cubicBezTo>
                <a:cubicBezTo>
                  <a:pt x="7739" y="14709"/>
                  <a:pt x="7690" y="14709"/>
                  <a:pt x="7640" y="14709"/>
                </a:cubicBezTo>
              </a:path>
              <a:path w="6623" h="2110">
                <a:moveTo>
                  <a:pt x="6598" y="15280"/>
                </a:moveTo>
                <a:cubicBezTo>
                  <a:pt x="6573" y="15280"/>
                  <a:pt x="6549" y="15280"/>
                  <a:pt x="6524" y="15280"/>
                </a:cubicBezTo>
                <a:cubicBezTo>
                  <a:pt x="6533" y="15242"/>
                  <a:pt x="6546" y="15210"/>
                  <a:pt x="6573" y="15180"/>
                </a:cubicBezTo>
                <a:cubicBezTo>
                  <a:pt x="6607" y="15143"/>
                  <a:pt x="6651" y="15156"/>
                  <a:pt x="6697" y="15156"/>
                </a:cubicBezTo>
                <a:cubicBezTo>
                  <a:pt x="6760" y="15156"/>
                  <a:pt x="6747" y="15207"/>
                  <a:pt x="6747" y="15255"/>
                </a:cubicBezTo>
                <a:cubicBezTo>
                  <a:pt x="6747" y="15339"/>
                  <a:pt x="6735" y="15357"/>
                  <a:pt x="6697" y="15429"/>
                </a:cubicBezTo>
                <a:cubicBezTo>
                  <a:pt x="6669" y="15481"/>
                  <a:pt x="6656" y="15536"/>
                  <a:pt x="6623" y="15577"/>
                </a:cubicBezTo>
                <a:cubicBezTo>
                  <a:pt x="6586" y="15622"/>
                  <a:pt x="6591" y="15628"/>
                  <a:pt x="6623" y="15652"/>
                </a:cubicBezTo>
                <a:cubicBezTo>
                  <a:pt x="6680" y="15694"/>
                  <a:pt x="6690" y="15663"/>
                  <a:pt x="6747" y="15652"/>
                </a:cubicBezTo>
                <a:cubicBezTo>
                  <a:pt x="6799" y="15642"/>
                  <a:pt x="6869" y="15652"/>
                  <a:pt x="6921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86680" y="5384880"/>
            <a:ext cx="80640" cy="125280"/>
          </a:xfrm>
          <a:custGeom>
            <a:avLst/>
            <a:gdLst/>
            <a:ahLst/>
            <a:rect l="l" t="t" r="r" b="b"/>
            <a:pathLst>
              <a:path w="225" h="348">
                <a:moveTo>
                  <a:pt x="17512" y="14982"/>
                </a:moveTo>
                <a:cubicBezTo>
                  <a:pt x="17512" y="14957"/>
                  <a:pt x="17512" y="14949"/>
                  <a:pt x="17537" y="14957"/>
                </a:cubicBezTo>
                <a:cubicBezTo>
                  <a:pt x="17514" y="14988"/>
                  <a:pt x="17491" y="15018"/>
                  <a:pt x="17487" y="15056"/>
                </a:cubicBezTo>
                <a:cubicBezTo>
                  <a:pt x="17482" y="15096"/>
                  <a:pt x="17496" y="15138"/>
                  <a:pt x="17537" y="15156"/>
                </a:cubicBezTo>
                <a:cubicBezTo>
                  <a:pt x="17580" y="15175"/>
                  <a:pt x="17624" y="15173"/>
                  <a:pt x="17661" y="15205"/>
                </a:cubicBezTo>
                <a:cubicBezTo>
                  <a:pt x="17695" y="15235"/>
                  <a:pt x="17686" y="15261"/>
                  <a:pt x="17686" y="15304"/>
                </a:cubicBezTo>
                <a:cubicBezTo>
                  <a:pt x="17638" y="15304"/>
                  <a:pt x="17606" y="15309"/>
                  <a:pt x="17562" y="15280"/>
                </a:cubicBezTo>
                <a:cubicBezTo>
                  <a:pt x="17525" y="15255"/>
                  <a:pt x="17500" y="15253"/>
                  <a:pt x="1746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3040" y="5384880"/>
            <a:ext cx="6192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7735" y="14982"/>
                </a:moveTo>
                <a:cubicBezTo>
                  <a:pt x="17735" y="14974"/>
                  <a:pt x="17735" y="14965"/>
                  <a:pt x="17735" y="14957"/>
                </a:cubicBezTo>
                <a:cubicBezTo>
                  <a:pt x="17677" y="14957"/>
                  <a:pt x="17620" y="14957"/>
                  <a:pt x="17562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4760" y="5537160"/>
            <a:ext cx="196560" cy="27000"/>
          </a:xfrm>
          <a:custGeom>
            <a:avLst/>
            <a:gdLst/>
            <a:ahLst/>
            <a:rect l="l" t="t" r="r" b="b"/>
            <a:pathLst>
              <a:path w="547" h="75">
                <a:moveTo>
                  <a:pt x="17810" y="15379"/>
                </a:moveTo>
                <a:cubicBezTo>
                  <a:pt x="17870" y="15409"/>
                  <a:pt x="17761" y="15404"/>
                  <a:pt x="17735" y="15404"/>
                </a:cubicBezTo>
                <a:cubicBezTo>
                  <a:pt x="17621" y="15404"/>
                  <a:pt x="17520" y="15404"/>
                  <a:pt x="17413" y="15429"/>
                </a:cubicBezTo>
                <a:cubicBezTo>
                  <a:pt x="17366" y="15440"/>
                  <a:pt x="17333" y="15444"/>
                  <a:pt x="17314" y="15453"/>
                </a:cubicBezTo>
                <a:cubicBezTo>
                  <a:pt x="17306" y="15453"/>
                  <a:pt x="17297" y="15453"/>
                  <a:pt x="17289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76960" y="5599080"/>
            <a:ext cx="12528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17462" y="15602"/>
                </a:moveTo>
                <a:cubicBezTo>
                  <a:pt x="17462" y="15577"/>
                  <a:pt x="17462" y="15569"/>
                  <a:pt x="17462" y="15553"/>
                </a:cubicBezTo>
                <a:cubicBezTo>
                  <a:pt x="17462" y="15600"/>
                  <a:pt x="17442" y="15632"/>
                  <a:pt x="17438" y="15677"/>
                </a:cubicBezTo>
                <a:cubicBezTo>
                  <a:pt x="17438" y="15701"/>
                  <a:pt x="17438" y="15710"/>
                  <a:pt x="17438" y="15726"/>
                </a:cubicBezTo>
                <a:cubicBezTo>
                  <a:pt x="17491" y="15726"/>
                  <a:pt x="17508" y="15747"/>
                  <a:pt x="17562" y="15751"/>
                </a:cubicBezTo>
                <a:cubicBezTo>
                  <a:pt x="17634" y="15757"/>
                  <a:pt x="17675" y="15756"/>
                  <a:pt x="17735" y="15776"/>
                </a:cubicBezTo>
                <a:cubicBezTo>
                  <a:pt x="17760" y="15776"/>
                  <a:pt x="17768" y="15776"/>
                  <a:pt x="17785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3040" y="5634000"/>
            <a:ext cx="34920" cy="9036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17661" y="15677"/>
                </a:moveTo>
                <a:cubicBezTo>
                  <a:pt x="17636" y="15677"/>
                  <a:pt x="17628" y="15677"/>
                  <a:pt x="17636" y="15652"/>
                </a:cubicBezTo>
                <a:cubicBezTo>
                  <a:pt x="17613" y="15682"/>
                  <a:pt x="17590" y="15712"/>
                  <a:pt x="17587" y="15751"/>
                </a:cubicBezTo>
                <a:cubicBezTo>
                  <a:pt x="17583" y="15813"/>
                  <a:pt x="17575" y="15847"/>
                  <a:pt x="17562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96080" y="5340240"/>
            <a:ext cx="98280" cy="12564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18926" y="14957"/>
                </a:moveTo>
                <a:cubicBezTo>
                  <a:pt x="18901" y="14957"/>
                  <a:pt x="18893" y="14957"/>
                  <a:pt x="18876" y="14957"/>
                </a:cubicBezTo>
                <a:cubicBezTo>
                  <a:pt x="18876" y="14905"/>
                  <a:pt x="18871" y="14905"/>
                  <a:pt x="18901" y="14883"/>
                </a:cubicBezTo>
                <a:cubicBezTo>
                  <a:pt x="18958" y="14840"/>
                  <a:pt x="18948" y="14833"/>
                  <a:pt x="19025" y="14833"/>
                </a:cubicBezTo>
                <a:cubicBezTo>
                  <a:pt x="19060" y="14833"/>
                  <a:pt x="19098" y="14855"/>
                  <a:pt x="19100" y="14883"/>
                </a:cubicBezTo>
                <a:cubicBezTo>
                  <a:pt x="19103" y="14917"/>
                  <a:pt x="19114" y="14988"/>
                  <a:pt x="19075" y="15007"/>
                </a:cubicBezTo>
                <a:cubicBezTo>
                  <a:pt x="19040" y="15024"/>
                  <a:pt x="19010" y="15031"/>
                  <a:pt x="18976" y="15056"/>
                </a:cubicBezTo>
                <a:cubicBezTo>
                  <a:pt x="18997" y="15072"/>
                  <a:pt x="19050" y="15124"/>
                  <a:pt x="19075" y="15131"/>
                </a:cubicBezTo>
                <a:cubicBezTo>
                  <a:pt x="19128" y="15146"/>
                  <a:pt x="19133" y="15134"/>
                  <a:pt x="19149" y="15180"/>
                </a:cubicBezTo>
                <a:cubicBezTo>
                  <a:pt x="19074" y="15180"/>
                  <a:pt x="19014" y="15176"/>
                  <a:pt x="18951" y="15156"/>
                </a:cubicBezTo>
                <a:cubicBezTo>
                  <a:pt x="18943" y="15156"/>
                  <a:pt x="18934" y="15156"/>
                  <a:pt x="18926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5510160"/>
            <a:ext cx="142920" cy="27000"/>
          </a:xfrm>
          <a:custGeom>
            <a:avLst/>
            <a:gdLst/>
            <a:ahLst/>
            <a:rect l="l" t="t" r="r" b="b"/>
            <a:pathLst>
              <a:path w="398" h="76">
                <a:moveTo>
                  <a:pt x="19273" y="15354"/>
                </a:moveTo>
                <a:cubicBezTo>
                  <a:pt x="19281" y="15362"/>
                  <a:pt x="19290" y="15371"/>
                  <a:pt x="19298" y="15379"/>
                </a:cubicBezTo>
                <a:cubicBezTo>
                  <a:pt x="19257" y="15369"/>
                  <a:pt x="19212" y="15337"/>
                  <a:pt x="19174" y="15329"/>
                </a:cubicBezTo>
                <a:cubicBezTo>
                  <a:pt x="19107" y="15316"/>
                  <a:pt x="19042" y="15319"/>
                  <a:pt x="18976" y="15304"/>
                </a:cubicBezTo>
                <a:cubicBezTo>
                  <a:pt x="18934" y="15294"/>
                  <a:pt x="18911" y="15299"/>
                  <a:pt x="18901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13720" y="5554800"/>
            <a:ext cx="10764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8976" y="15453"/>
                </a:moveTo>
                <a:cubicBezTo>
                  <a:pt x="18976" y="15445"/>
                  <a:pt x="18976" y="15437"/>
                  <a:pt x="18976" y="15429"/>
                </a:cubicBezTo>
                <a:cubicBezTo>
                  <a:pt x="18976" y="15471"/>
                  <a:pt x="18986" y="15466"/>
                  <a:pt x="18951" y="15478"/>
                </a:cubicBezTo>
                <a:cubicBezTo>
                  <a:pt x="18941" y="15517"/>
                  <a:pt x="18926" y="15533"/>
                  <a:pt x="18926" y="15577"/>
                </a:cubicBezTo>
                <a:cubicBezTo>
                  <a:pt x="18926" y="15633"/>
                  <a:pt x="18983" y="15627"/>
                  <a:pt x="19025" y="15627"/>
                </a:cubicBezTo>
                <a:cubicBezTo>
                  <a:pt x="19081" y="15627"/>
                  <a:pt x="19095" y="15652"/>
                  <a:pt x="19149" y="15652"/>
                </a:cubicBezTo>
                <a:cubicBezTo>
                  <a:pt x="19193" y="15652"/>
                  <a:pt x="19189" y="15651"/>
                  <a:pt x="19224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67360" y="5599080"/>
            <a:ext cx="27000" cy="71640"/>
          </a:xfrm>
          <a:custGeom>
            <a:avLst/>
            <a:gdLst/>
            <a:ahLst/>
            <a:rect l="l" t="t" r="r" b="b"/>
            <a:pathLst>
              <a:path w="75" h="199">
                <a:moveTo>
                  <a:pt x="19149" y="15577"/>
                </a:moveTo>
                <a:cubicBezTo>
                  <a:pt x="19141" y="15569"/>
                  <a:pt x="19132" y="15561"/>
                  <a:pt x="19124" y="15553"/>
                </a:cubicBezTo>
                <a:cubicBezTo>
                  <a:pt x="19113" y="15586"/>
                  <a:pt x="19089" y="15584"/>
                  <a:pt x="19075" y="15627"/>
                </a:cubicBezTo>
                <a:cubicBezTo>
                  <a:pt x="19064" y="15661"/>
                  <a:pt x="19075" y="15714"/>
                  <a:pt x="19075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6040" y="5892840"/>
            <a:ext cx="79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7487" y="16421"/>
                </a:moveTo>
                <a:cubicBezTo>
                  <a:pt x="17510" y="16398"/>
                  <a:pt x="17518" y="16394"/>
                  <a:pt x="17512" y="16371"/>
                </a:cubicBezTo>
                <a:cubicBezTo>
                  <a:pt x="17512" y="16445"/>
                  <a:pt x="17512" y="16520"/>
                  <a:pt x="17512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4760" y="6018120"/>
            <a:ext cx="15228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7686" y="16718"/>
                </a:moveTo>
                <a:cubicBezTo>
                  <a:pt x="17753" y="16718"/>
                  <a:pt x="17647" y="16718"/>
                  <a:pt x="17636" y="16718"/>
                </a:cubicBezTo>
                <a:cubicBezTo>
                  <a:pt x="17538" y="16718"/>
                  <a:pt x="17365" y="16685"/>
                  <a:pt x="17289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6960" y="6072120"/>
            <a:ext cx="14436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7462" y="16942"/>
                </a:moveTo>
                <a:cubicBezTo>
                  <a:pt x="17454" y="16942"/>
                  <a:pt x="17446" y="16942"/>
                  <a:pt x="17438" y="16942"/>
                </a:cubicBezTo>
                <a:cubicBezTo>
                  <a:pt x="17450" y="16893"/>
                  <a:pt x="17484" y="16880"/>
                  <a:pt x="17537" y="16867"/>
                </a:cubicBezTo>
                <a:cubicBezTo>
                  <a:pt x="17561" y="16861"/>
                  <a:pt x="17627" y="16878"/>
                  <a:pt x="17636" y="16892"/>
                </a:cubicBezTo>
                <a:cubicBezTo>
                  <a:pt x="17656" y="16922"/>
                  <a:pt x="17628" y="16972"/>
                  <a:pt x="17611" y="16991"/>
                </a:cubicBezTo>
                <a:cubicBezTo>
                  <a:pt x="17587" y="17019"/>
                  <a:pt x="17504" y="17025"/>
                  <a:pt x="17537" y="17041"/>
                </a:cubicBezTo>
                <a:cubicBezTo>
                  <a:pt x="17563" y="17054"/>
                  <a:pt x="17632" y="17063"/>
                  <a:pt x="17661" y="17066"/>
                </a:cubicBezTo>
                <a:cubicBezTo>
                  <a:pt x="17716" y="17072"/>
                  <a:pt x="17751" y="17090"/>
                  <a:pt x="17810" y="17090"/>
                </a:cubicBezTo>
                <a:cubicBezTo>
                  <a:pt x="17818" y="17090"/>
                  <a:pt x="17827" y="17090"/>
                  <a:pt x="17835" y="17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6720" y="5823000"/>
            <a:ext cx="9360" cy="71280"/>
          </a:xfrm>
          <a:custGeom>
            <a:avLst/>
            <a:gdLst/>
            <a:ahLst/>
            <a:rect l="l" t="t" r="r" b="b"/>
            <a:pathLst>
              <a:path w="25" h="199">
                <a:moveTo>
                  <a:pt x="18852" y="16173"/>
                </a:moveTo>
                <a:cubicBezTo>
                  <a:pt x="18860" y="16173"/>
                  <a:pt x="18868" y="16173"/>
                  <a:pt x="18876" y="16173"/>
                </a:cubicBezTo>
                <a:cubicBezTo>
                  <a:pt x="18876" y="16239"/>
                  <a:pt x="18876" y="16305"/>
                  <a:pt x="18876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42080" y="5946840"/>
            <a:ext cx="13500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9100" y="16520"/>
                </a:moveTo>
                <a:cubicBezTo>
                  <a:pt x="19100" y="16528"/>
                  <a:pt x="19100" y="16537"/>
                  <a:pt x="19100" y="16545"/>
                </a:cubicBezTo>
                <a:cubicBezTo>
                  <a:pt x="19045" y="16545"/>
                  <a:pt x="19006" y="16524"/>
                  <a:pt x="18951" y="16520"/>
                </a:cubicBezTo>
                <a:cubicBezTo>
                  <a:pt x="18878" y="16514"/>
                  <a:pt x="18802" y="16520"/>
                  <a:pt x="18728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59720" y="6010200"/>
            <a:ext cx="142560" cy="98640"/>
          </a:xfrm>
          <a:custGeom>
            <a:avLst/>
            <a:gdLst/>
            <a:ahLst/>
            <a:rect l="l" t="t" r="r" b="b"/>
            <a:pathLst>
              <a:path w="398" h="273">
                <a:moveTo>
                  <a:pt x="18827" y="16743"/>
                </a:moveTo>
                <a:cubicBezTo>
                  <a:pt x="18802" y="16743"/>
                  <a:pt x="18794" y="16743"/>
                  <a:pt x="18777" y="16743"/>
                </a:cubicBezTo>
                <a:cubicBezTo>
                  <a:pt x="18787" y="16714"/>
                  <a:pt x="18811" y="16698"/>
                  <a:pt x="18852" y="16694"/>
                </a:cubicBezTo>
                <a:cubicBezTo>
                  <a:pt x="18873" y="16692"/>
                  <a:pt x="18946" y="16706"/>
                  <a:pt x="18951" y="16718"/>
                </a:cubicBezTo>
                <a:cubicBezTo>
                  <a:pt x="18973" y="16777"/>
                  <a:pt x="18937" y="16806"/>
                  <a:pt x="18901" y="16842"/>
                </a:cubicBezTo>
                <a:cubicBezTo>
                  <a:pt x="18872" y="16871"/>
                  <a:pt x="18861" y="16880"/>
                  <a:pt x="18852" y="16917"/>
                </a:cubicBezTo>
                <a:cubicBezTo>
                  <a:pt x="18933" y="16917"/>
                  <a:pt x="19007" y="16928"/>
                  <a:pt x="19075" y="16942"/>
                </a:cubicBezTo>
                <a:cubicBezTo>
                  <a:pt x="19118" y="16951"/>
                  <a:pt x="19135" y="16957"/>
                  <a:pt x="19174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01" t="45158" r="12705" b="9970"/>
          <a:stretch/>
        </p:blipFill>
        <p:spPr>
          <a:xfrm>
            <a:off x="152280" y="0"/>
            <a:ext cx="8839440" cy="6400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714840" y="608040"/>
            <a:ext cx="258840" cy="204840"/>
          </a:xfrm>
          <a:custGeom>
            <a:avLst/>
            <a:gdLst/>
            <a:ahLst/>
            <a:rect l="l" t="t" r="r" b="b"/>
            <a:pathLst>
              <a:path w="720" h="571">
                <a:moveTo>
                  <a:pt x="10368" y="1984"/>
                </a:moveTo>
                <a:cubicBezTo>
                  <a:pt x="10368" y="1992"/>
                  <a:pt x="10368" y="2001"/>
                  <a:pt x="10368" y="2009"/>
                </a:cubicBezTo>
                <a:cubicBezTo>
                  <a:pt x="10350" y="2003"/>
                  <a:pt x="10309" y="1971"/>
                  <a:pt x="10319" y="1935"/>
                </a:cubicBezTo>
                <a:cubicBezTo>
                  <a:pt x="10327" y="1905"/>
                  <a:pt x="10383" y="1821"/>
                  <a:pt x="10418" y="1811"/>
                </a:cubicBezTo>
                <a:cubicBezTo>
                  <a:pt x="10507" y="1786"/>
                  <a:pt x="10584" y="1896"/>
                  <a:pt x="10616" y="1960"/>
                </a:cubicBezTo>
                <a:cubicBezTo>
                  <a:pt x="10643" y="2013"/>
                  <a:pt x="10665" y="2148"/>
                  <a:pt x="10641" y="2208"/>
                </a:cubicBezTo>
                <a:cubicBezTo>
                  <a:pt x="10619" y="2264"/>
                  <a:pt x="10537" y="2257"/>
                  <a:pt x="10492" y="2257"/>
                </a:cubicBezTo>
                <a:cubicBezTo>
                  <a:pt x="10441" y="2257"/>
                  <a:pt x="10422" y="2256"/>
                  <a:pt x="10393" y="2232"/>
                </a:cubicBezTo>
              </a:path>
              <a:path w="720" h="571">
                <a:moveTo>
                  <a:pt x="10716" y="1811"/>
                </a:moveTo>
                <a:cubicBezTo>
                  <a:pt x="10757" y="1769"/>
                  <a:pt x="10798" y="1728"/>
                  <a:pt x="10840" y="1687"/>
                </a:cubicBezTo>
                <a:cubicBezTo>
                  <a:pt x="10789" y="1750"/>
                  <a:pt x="10741" y="1806"/>
                  <a:pt x="10716" y="1885"/>
                </a:cubicBezTo>
                <a:cubicBezTo>
                  <a:pt x="10676" y="2010"/>
                  <a:pt x="10681" y="2098"/>
                  <a:pt x="10790" y="2183"/>
                </a:cubicBezTo>
                <a:cubicBezTo>
                  <a:pt x="10850" y="2230"/>
                  <a:pt x="10927" y="2210"/>
                  <a:pt x="10988" y="2183"/>
                </a:cubicBezTo>
                <a:cubicBezTo>
                  <a:pt x="11005" y="2175"/>
                  <a:pt x="11021" y="2166"/>
                  <a:pt x="11038" y="2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25960" y="473040"/>
            <a:ext cx="357120" cy="349200"/>
          </a:xfrm>
          <a:custGeom>
            <a:avLst/>
            <a:gdLst/>
            <a:ahLst/>
            <a:rect l="l" t="t" r="r" b="b"/>
            <a:pathLst>
              <a:path w="993" h="968">
                <a:moveTo>
                  <a:pt x="11609" y="1339"/>
                </a:moveTo>
                <a:cubicBezTo>
                  <a:pt x="11574" y="1307"/>
                  <a:pt x="11549" y="1517"/>
                  <a:pt x="11534" y="1563"/>
                </a:cubicBezTo>
                <a:cubicBezTo>
                  <a:pt x="11471" y="1759"/>
                  <a:pt x="11446" y="1903"/>
                  <a:pt x="11485" y="2108"/>
                </a:cubicBezTo>
                <a:cubicBezTo>
                  <a:pt x="11496" y="2164"/>
                  <a:pt x="11512" y="2266"/>
                  <a:pt x="11559" y="2282"/>
                </a:cubicBezTo>
              </a:path>
              <a:path w="993" h="968">
                <a:moveTo>
                  <a:pt x="11807" y="2009"/>
                </a:moveTo>
                <a:cubicBezTo>
                  <a:pt x="11790" y="1987"/>
                  <a:pt x="11763" y="1944"/>
                  <a:pt x="11782" y="1910"/>
                </a:cubicBezTo>
                <a:cubicBezTo>
                  <a:pt x="11818" y="1845"/>
                  <a:pt x="11871" y="1837"/>
                  <a:pt x="11931" y="1860"/>
                </a:cubicBezTo>
                <a:cubicBezTo>
                  <a:pt x="12024" y="1896"/>
                  <a:pt x="12066" y="1990"/>
                  <a:pt x="12080" y="2084"/>
                </a:cubicBezTo>
                <a:cubicBezTo>
                  <a:pt x="12088" y="2140"/>
                  <a:pt x="12101" y="2227"/>
                  <a:pt x="12030" y="2232"/>
                </a:cubicBezTo>
                <a:cubicBezTo>
                  <a:pt x="11955" y="2237"/>
                  <a:pt x="11915" y="2230"/>
                  <a:pt x="11857" y="2183"/>
                </a:cubicBezTo>
              </a:path>
              <a:path w="993" h="968">
                <a:moveTo>
                  <a:pt x="12129" y="1885"/>
                </a:moveTo>
                <a:cubicBezTo>
                  <a:pt x="12137" y="1869"/>
                  <a:pt x="12146" y="1852"/>
                  <a:pt x="12154" y="1836"/>
                </a:cubicBezTo>
                <a:cubicBezTo>
                  <a:pt x="12142" y="1931"/>
                  <a:pt x="12118" y="1985"/>
                  <a:pt x="12154" y="2084"/>
                </a:cubicBezTo>
                <a:cubicBezTo>
                  <a:pt x="12185" y="2167"/>
                  <a:pt x="12245" y="2204"/>
                  <a:pt x="12328" y="2208"/>
                </a:cubicBezTo>
                <a:cubicBezTo>
                  <a:pt x="12401" y="2208"/>
                  <a:pt x="12425" y="2209"/>
                  <a:pt x="12452" y="2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33920" y="490680"/>
            <a:ext cx="581040" cy="36648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12923" y="1935"/>
                </a:moveTo>
                <a:cubicBezTo>
                  <a:pt x="12892" y="1945"/>
                  <a:pt x="12884" y="1953"/>
                  <a:pt x="12874" y="1984"/>
                </a:cubicBezTo>
                <a:cubicBezTo>
                  <a:pt x="12926" y="1974"/>
                  <a:pt x="12974" y="1958"/>
                  <a:pt x="13022" y="1935"/>
                </a:cubicBezTo>
                <a:cubicBezTo>
                  <a:pt x="13076" y="1909"/>
                  <a:pt x="13113" y="1910"/>
                  <a:pt x="13171" y="1910"/>
                </a:cubicBezTo>
                <a:cubicBezTo>
                  <a:pt x="13179" y="1910"/>
                  <a:pt x="13188" y="1910"/>
                  <a:pt x="13196" y="1910"/>
                </a:cubicBezTo>
              </a:path>
              <a:path w="1613" h="1018">
                <a:moveTo>
                  <a:pt x="13494" y="1637"/>
                </a:moveTo>
                <a:cubicBezTo>
                  <a:pt x="13522" y="1604"/>
                  <a:pt x="13572" y="1530"/>
                  <a:pt x="13543" y="1612"/>
                </a:cubicBezTo>
                <a:cubicBezTo>
                  <a:pt x="13527" y="1657"/>
                  <a:pt x="13454" y="1758"/>
                  <a:pt x="13494" y="1811"/>
                </a:cubicBezTo>
                <a:cubicBezTo>
                  <a:pt x="13537" y="1868"/>
                  <a:pt x="13633" y="1870"/>
                  <a:pt x="13692" y="1885"/>
                </a:cubicBezTo>
                <a:cubicBezTo>
                  <a:pt x="13748" y="1899"/>
                  <a:pt x="13855" y="1933"/>
                  <a:pt x="13891" y="1984"/>
                </a:cubicBezTo>
                <a:cubicBezTo>
                  <a:pt x="13926" y="2034"/>
                  <a:pt x="13935" y="2091"/>
                  <a:pt x="13866" y="2108"/>
                </a:cubicBezTo>
                <a:cubicBezTo>
                  <a:pt x="13783" y="2128"/>
                  <a:pt x="13694" y="2084"/>
                  <a:pt x="13618" y="2059"/>
                </a:cubicBezTo>
              </a:path>
              <a:path w="1613" h="1018">
                <a:moveTo>
                  <a:pt x="13866" y="1712"/>
                </a:moveTo>
                <a:cubicBezTo>
                  <a:pt x="13866" y="1687"/>
                  <a:pt x="13866" y="1662"/>
                  <a:pt x="13866" y="1637"/>
                </a:cubicBezTo>
                <a:cubicBezTo>
                  <a:pt x="13814" y="1647"/>
                  <a:pt x="13766" y="1664"/>
                  <a:pt x="13717" y="1687"/>
                </a:cubicBezTo>
                <a:cubicBezTo>
                  <a:pt x="13669" y="1711"/>
                  <a:pt x="13655" y="1719"/>
                  <a:pt x="13618" y="1712"/>
                </a:cubicBezTo>
              </a:path>
              <a:path w="1613" h="1018">
                <a:moveTo>
                  <a:pt x="13866" y="1439"/>
                </a:moveTo>
                <a:cubicBezTo>
                  <a:pt x="13876" y="1381"/>
                  <a:pt x="13910" y="1353"/>
                  <a:pt x="13990" y="1364"/>
                </a:cubicBezTo>
                <a:cubicBezTo>
                  <a:pt x="14153" y="1388"/>
                  <a:pt x="14303" y="1497"/>
                  <a:pt x="14387" y="1637"/>
                </a:cubicBezTo>
                <a:cubicBezTo>
                  <a:pt x="14479" y="1789"/>
                  <a:pt x="14519" y="1992"/>
                  <a:pt x="14436" y="2158"/>
                </a:cubicBezTo>
                <a:cubicBezTo>
                  <a:pt x="14369" y="2292"/>
                  <a:pt x="14218" y="2338"/>
                  <a:pt x="14089" y="23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13120" y="2330280"/>
            <a:ext cx="625680" cy="32256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10964" y="6871"/>
                </a:moveTo>
                <a:cubicBezTo>
                  <a:pt x="10925" y="6881"/>
                  <a:pt x="10904" y="6914"/>
                  <a:pt x="10889" y="6921"/>
                </a:cubicBezTo>
                <a:cubicBezTo>
                  <a:pt x="10881" y="6921"/>
                  <a:pt x="10872" y="6921"/>
                  <a:pt x="10864" y="6921"/>
                </a:cubicBezTo>
                <a:cubicBezTo>
                  <a:pt x="10864" y="6884"/>
                  <a:pt x="10874" y="6826"/>
                  <a:pt x="10889" y="6796"/>
                </a:cubicBezTo>
                <a:cubicBezTo>
                  <a:pt x="10922" y="6731"/>
                  <a:pt x="11025" y="6655"/>
                  <a:pt x="11088" y="6648"/>
                </a:cubicBezTo>
                <a:cubicBezTo>
                  <a:pt x="11156" y="6641"/>
                  <a:pt x="11259" y="6641"/>
                  <a:pt x="11311" y="6697"/>
                </a:cubicBezTo>
                <a:cubicBezTo>
                  <a:pt x="11370" y="6761"/>
                  <a:pt x="11386" y="6846"/>
                  <a:pt x="11361" y="6921"/>
                </a:cubicBezTo>
                <a:cubicBezTo>
                  <a:pt x="11337" y="6993"/>
                  <a:pt x="11283" y="7086"/>
                  <a:pt x="11237" y="7144"/>
                </a:cubicBezTo>
                <a:cubicBezTo>
                  <a:pt x="11189" y="7204"/>
                  <a:pt x="11168" y="7242"/>
                  <a:pt x="11162" y="7317"/>
                </a:cubicBezTo>
                <a:cubicBezTo>
                  <a:pt x="11158" y="7359"/>
                  <a:pt x="11198" y="7381"/>
                  <a:pt x="11237" y="7367"/>
                </a:cubicBezTo>
                <a:cubicBezTo>
                  <a:pt x="11294" y="7346"/>
                  <a:pt x="11361" y="7341"/>
                  <a:pt x="11410" y="7317"/>
                </a:cubicBezTo>
                <a:cubicBezTo>
                  <a:pt x="11449" y="7298"/>
                  <a:pt x="11477" y="7276"/>
                  <a:pt x="11509" y="7243"/>
                </a:cubicBezTo>
              </a:path>
              <a:path w="1737" h="894">
                <a:moveTo>
                  <a:pt x="11658" y="7045"/>
                </a:moveTo>
                <a:cubicBezTo>
                  <a:pt x="11658" y="7006"/>
                  <a:pt x="11664" y="6980"/>
                  <a:pt x="11708" y="6970"/>
                </a:cubicBezTo>
                <a:cubicBezTo>
                  <a:pt x="11753" y="6960"/>
                  <a:pt x="11848" y="6962"/>
                  <a:pt x="11881" y="6995"/>
                </a:cubicBezTo>
                <a:cubicBezTo>
                  <a:pt x="11925" y="7040"/>
                  <a:pt x="11948" y="7157"/>
                  <a:pt x="11931" y="7218"/>
                </a:cubicBezTo>
                <a:cubicBezTo>
                  <a:pt x="11914" y="7280"/>
                  <a:pt x="11887" y="7293"/>
                  <a:pt x="11832" y="7293"/>
                </a:cubicBezTo>
                <a:cubicBezTo>
                  <a:pt x="11772" y="7293"/>
                  <a:pt x="11772" y="7283"/>
                  <a:pt x="11733" y="7243"/>
                </a:cubicBezTo>
              </a:path>
              <a:path w="1737" h="894">
                <a:moveTo>
                  <a:pt x="11981" y="6995"/>
                </a:moveTo>
                <a:cubicBezTo>
                  <a:pt x="11997" y="6987"/>
                  <a:pt x="12014" y="6978"/>
                  <a:pt x="12030" y="6970"/>
                </a:cubicBezTo>
                <a:cubicBezTo>
                  <a:pt x="12009" y="6984"/>
                  <a:pt x="11970" y="7047"/>
                  <a:pt x="11981" y="7094"/>
                </a:cubicBezTo>
                <a:cubicBezTo>
                  <a:pt x="11998" y="7167"/>
                  <a:pt x="12063" y="7215"/>
                  <a:pt x="12129" y="7218"/>
                </a:cubicBezTo>
                <a:cubicBezTo>
                  <a:pt x="12214" y="7222"/>
                  <a:pt x="12264" y="7195"/>
                  <a:pt x="12328" y="7144"/>
                </a:cubicBezTo>
              </a:path>
              <a:path w="1737" h="894">
                <a:moveTo>
                  <a:pt x="10716" y="6573"/>
                </a:moveTo>
                <a:cubicBezTo>
                  <a:pt x="10716" y="6529"/>
                  <a:pt x="10731" y="6513"/>
                  <a:pt x="10740" y="6474"/>
                </a:cubicBezTo>
                <a:cubicBezTo>
                  <a:pt x="10668" y="6511"/>
                  <a:pt x="10639" y="6615"/>
                  <a:pt x="10616" y="6697"/>
                </a:cubicBezTo>
                <a:cubicBezTo>
                  <a:pt x="10573" y="6847"/>
                  <a:pt x="10589" y="7021"/>
                  <a:pt x="10641" y="7169"/>
                </a:cubicBezTo>
                <a:cubicBezTo>
                  <a:pt x="10673" y="7260"/>
                  <a:pt x="10726" y="7303"/>
                  <a:pt x="10790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05200" y="2527200"/>
            <a:ext cx="152640" cy="17640"/>
          </a:xfrm>
          <a:custGeom>
            <a:avLst/>
            <a:gdLst/>
            <a:ahLst/>
            <a:rect l="l" t="t" r="r" b="b"/>
            <a:pathLst>
              <a:path w="423" h="50">
                <a:moveTo>
                  <a:pt x="13494" y="7020"/>
                </a:moveTo>
                <a:cubicBezTo>
                  <a:pt x="13481" y="7060"/>
                  <a:pt x="13446" y="7045"/>
                  <a:pt x="13395" y="7045"/>
                </a:cubicBezTo>
                <a:cubicBezTo>
                  <a:pt x="13321" y="7045"/>
                  <a:pt x="13266" y="7065"/>
                  <a:pt x="13196" y="7069"/>
                </a:cubicBezTo>
                <a:cubicBezTo>
                  <a:pt x="13155" y="7071"/>
                  <a:pt x="13113" y="7069"/>
                  <a:pt x="13072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5040" y="2401920"/>
            <a:ext cx="54000" cy="223920"/>
          </a:xfrm>
          <a:custGeom>
            <a:avLst/>
            <a:gdLst/>
            <a:ahLst/>
            <a:rect l="l" t="t" r="r" b="b"/>
            <a:pathLst>
              <a:path w="149" h="622">
                <a:moveTo>
                  <a:pt x="14015" y="6697"/>
                </a:moveTo>
                <a:cubicBezTo>
                  <a:pt x="14072" y="6678"/>
                  <a:pt x="14079" y="6669"/>
                  <a:pt x="14114" y="6672"/>
                </a:cubicBezTo>
                <a:cubicBezTo>
                  <a:pt x="14114" y="6746"/>
                  <a:pt x="14097" y="6800"/>
                  <a:pt x="14089" y="6871"/>
                </a:cubicBezTo>
                <a:cubicBezTo>
                  <a:pt x="14078" y="6962"/>
                  <a:pt x="14105" y="7087"/>
                  <a:pt x="14139" y="7169"/>
                </a:cubicBezTo>
                <a:cubicBezTo>
                  <a:pt x="14160" y="7219"/>
                  <a:pt x="14163" y="7240"/>
                  <a:pt x="14163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84880" y="2259000"/>
            <a:ext cx="633240" cy="34920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14957" y="6548"/>
                </a:moveTo>
                <a:cubicBezTo>
                  <a:pt x="15000" y="6517"/>
                  <a:pt x="15026" y="6502"/>
                  <a:pt x="15081" y="6499"/>
                </a:cubicBezTo>
                <a:cubicBezTo>
                  <a:pt x="15176" y="6493"/>
                  <a:pt x="15240" y="6568"/>
                  <a:pt x="15280" y="6648"/>
                </a:cubicBezTo>
                <a:cubicBezTo>
                  <a:pt x="15344" y="6777"/>
                  <a:pt x="15333" y="6911"/>
                  <a:pt x="15304" y="7045"/>
                </a:cubicBezTo>
                <a:cubicBezTo>
                  <a:pt x="15282" y="7146"/>
                  <a:pt x="15266" y="7231"/>
                  <a:pt x="15156" y="7243"/>
                </a:cubicBezTo>
                <a:cubicBezTo>
                  <a:pt x="15139" y="7243"/>
                  <a:pt x="15123" y="7243"/>
                  <a:pt x="15106" y="7243"/>
                </a:cubicBezTo>
              </a:path>
              <a:path w="1762" h="968">
                <a:moveTo>
                  <a:pt x="15801" y="6325"/>
                </a:moveTo>
                <a:cubicBezTo>
                  <a:pt x="15817" y="6309"/>
                  <a:pt x="15834" y="6292"/>
                  <a:pt x="15850" y="6276"/>
                </a:cubicBezTo>
                <a:cubicBezTo>
                  <a:pt x="15775" y="6349"/>
                  <a:pt x="15706" y="6434"/>
                  <a:pt x="15652" y="6524"/>
                </a:cubicBezTo>
                <a:cubicBezTo>
                  <a:pt x="15580" y="6643"/>
                  <a:pt x="15590" y="6767"/>
                  <a:pt x="15627" y="6896"/>
                </a:cubicBezTo>
                <a:cubicBezTo>
                  <a:pt x="15645" y="6958"/>
                  <a:pt x="15663" y="6997"/>
                  <a:pt x="15701" y="7045"/>
                </a:cubicBezTo>
              </a:path>
              <a:path w="1762" h="968">
                <a:moveTo>
                  <a:pt x="15974" y="6846"/>
                </a:moveTo>
                <a:cubicBezTo>
                  <a:pt x="15974" y="6821"/>
                  <a:pt x="15974" y="6813"/>
                  <a:pt x="15974" y="6796"/>
                </a:cubicBezTo>
                <a:cubicBezTo>
                  <a:pt x="16066" y="6785"/>
                  <a:pt x="16101" y="6767"/>
                  <a:pt x="16197" y="6796"/>
                </a:cubicBezTo>
                <a:cubicBezTo>
                  <a:pt x="16282" y="6822"/>
                  <a:pt x="16350" y="6878"/>
                  <a:pt x="16371" y="6970"/>
                </a:cubicBezTo>
                <a:cubicBezTo>
                  <a:pt x="16388" y="7045"/>
                  <a:pt x="16336" y="7113"/>
                  <a:pt x="16272" y="7119"/>
                </a:cubicBezTo>
                <a:cubicBezTo>
                  <a:pt x="16216" y="7124"/>
                  <a:pt x="16155" y="7119"/>
                  <a:pt x="16098" y="7119"/>
                </a:cubicBezTo>
              </a:path>
              <a:path w="1762" h="968">
                <a:moveTo>
                  <a:pt x="16421" y="6796"/>
                </a:moveTo>
                <a:cubicBezTo>
                  <a:pt x="16429" y="6780"/>
                  <a:pt x="16438" y="6763"/>
                  <a:pt x="16446" y="6747"/>
                </a:cubicBezTo>
                <a:cubicBezTo>
                  <a:pt x="16432" y="6816"/>
                  <a:pt x="16371" y="6894"/>
                  <a:pt x="16396" y="6970"/>
                </a:cubicBezTo>
                <a:cubicBezTo>
                  <a:pt x="16433" y="7080"/>
                  <a:pt x="16514" y="7159"/>
                  <a:pt x="16619" y="7169"/>
                </a:cubicBezTo>
                <a:cubicBezTo>
                  <a:pt x="16676" y="7169"/>
                  <a:pt x="16697" y="7164"/>
                  <a:pt x="16718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86680" y="2455920"/>
            <a:ext cx="134640" cy="9360"/>
          </a:xfrm>
          <a:custGeom>
            <a:avLst/>
            <a:gdLst/>
            <a:ahLst/>
            <a:rect l="l" t="t" r="r" b="b"/>
            <a:pathLst>
              <a:path w="374" h="26">
                <a:moveTo>
                  <a:pt x="17785" y="6821"/>
                </a:moveTo>
                <a:cubicBezTo>
                  <a:pt x="17827" y="6821"/>
                  <a:pt x="17843" y="6813"/>
                  <a:pt x="17835" y="6846"/>
                </a:cubicBezTo>
                <a:cubicBezTo>
                  <a:pt x="17711" y="6846"/>
                  <a:pt x="17586" y="6846"/>
                  <a:pt x="17462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16800" y="2313000"/>
            <a:ext cx="233280" cy="285840"/>
          </a:xfrm>
          <a:custGeom>
            <a:avLst/>
            <a:gdLst/>
            <a:ahLst/>
            <a:rect l="l" t="t" r="r" b="b"/>
            <a:pathLst>
              <a:path w="646" h="795">
                <a:moveTo>
                  <a:pt x="18479" y="6672"/>
                </a:moveTo>
                <a:cubicBezTo>
                  <a:pt x="18496" y="6664"/>
                  <a:pt x="18512" y="6656"/>
                  <a:pt x="18529" y="6648"/>
                </a:cubicBezTo>
                <a:cubicBezTo>
                  <a:pt x="18490" y="6686"/>
                  <a:pt x="18457" y="6727"/>
                  <a:pt x="18430" y="6772"/>
                </a:cubicBezTo>
                <a:cubicBezTo>
                  <a:pt x="18422" y="6788"/>
                  <a:pt x="18413" y="6805"/>
                  <a:pt x="18405" y="6821"/>
                </a:cubicBezTo>
                <a:cubicBezTo>
                  <a:pt x="18466" y="6870"/>
                  <a:pt x="18529" y="6895"/>
                  <a:pt x="18604" y="6921"/>
                </a:cubicBezTo>
                <a:cubicBezTo>
                  <a:pt x="18652" y="6937"/>
                  <a:pt x="18806" y="6971"/>
                  <a:pt x="18827" y="7020"/>
                </a:cubicBezTo>
                <a:cubicBezTo>
                  <a:pt x="18858" y="7092"/>
                  <a:pt x="18813" y="7165"/>
                  <a:pt x="18752" y="7193"/>
                </a:cubicBezTo>
                <a:cubicBezTo>
                  <a:pt x="18664" y="7233"/>
                  <a:pt x="18565" y="7229"/>
                  <a:pt x="18479" y="7193"/>
                </a:cubicBezTo>
                <a:cubicBezTo>
                  <a:pt x="18430" y="7169"/>
                  <a:pt x="18413" y="7161"/>
                  <a:pt x="18380" y="7144"/>
                </a:cubicBezTo>
              </a:path>
              <a:path w="646" h="795">
                <a:moveTo>
                  <a:pt x="19000" y="6573"/>
                </a:moveTo>
                <a:cubicBezTo>
                  <a:pt x="19019" y="6499"/>
                  <a:pt x="19027" y="6492"/>
                  <a:pt x="19025" y="6449"/>
                </a:cubicBezTo>
                <a:cubicBezTo>
                  <a:pt x="18953" y="6420"/>
                  <a:pt x="18844" y="6466"/>
                  <a:pt x="18752" y="6474"/>
                </a:cubicBezTo>
                <a:cubicBezTo>
                  <a:pt x="18719" y="6474"/>
                  <a:pt x="18686" y="6474"/>
                  <a:pt x="18653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08920" y="2320920"/>
            <a:ext cx="169920" cy="314280"/>
          </a:xfrm>
          <a:custGeom>
            <a:avLst/>
            <a:gdLst/>
            <a:ahLst/>
            <a:rect l="l" t="t" r="r" b="b"/>
            <a:pathLst>
              <a:path w="472" h="869">
                <a:moveTo>
                  <a:pt x="19745" y="6499"/>
                </a:moveTo>
                <a:cubicBezTo>
                  <a:pt x="19760" y="6439"/>
                  <a:pt x="19784" y="6449"/>
                  <a:pt x="19844" y="6449"/>
                </a:cubicBezTo>
                <a:cubicBezTo>
                  <a:pt x="19927" y="6449"/>
                  <a:pt x="20035" y="6513"/>
                  <a:pt x="20092" y="6573"/>
                </a:cubicBezTo>
                <a:cubicBezTo>
                  <a:pt x="20171" y="6656"/>
                  <a:pt x="20245" y="6828"/>
                  <a:pt x="20216" y="6945"/>
                </a:cubicBezTo>
                <a:cubicBezTo>
                  <a:pt x="20188" y="7057"/>
                  <a:pt x="20081" y="7173"/>
                  <a:pt x="19993" y="7243"/>
                </a:cubicBezTo>
                <a:cubicBezTo>
                  <a:pt x="19921" y="7291"/>
                  <a:pt x="19900" y="7306"/>
                  <a:pt x="19844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85920" y="3303720"/>
            <a:ext cx="1089000" cy="331560"/>
          </a:xfrm>
          <a:custGeom>
            <a:avLst/>
            <a:gdLst/>
            <a:ahLst/>
            <a:rect l="l" t="t" r="r" b="b"/>
            <a:pathLst>
              <a:path w="3027" h="919">
                <a:moveTo>
                  <a:pt x="4812" y="9401"/>
                </a:moveTo>
                <a:cubicBezTo>
                  <a:pt x="4879" y="9401"/>
                  <a:pt x="4773" y="9401"/>
                  <a:pt x="4762" y="9401"/>
                </a:cubicBezTo>
                <a:cubicBezTo>
                  <a:pt x="4553" y="9401"/>
                  <a:pt x="4349" y="9410"/>
                  <a:pt x="4142" y="9426"/>
                </a:cubicBezTo>
                <a:cubicBezTo>
                  <a:pt x="4016" y="9436"/>
                  <a:pt x="3915" y="9460"/>
                  <a:pt x="3795" y="9500"/>
                </a:cubicBezTo>
                <a:cubicBezTo>
                  <a:pt x="3751" y="9515"/>
                  <a:pt x="3659" y="9527"/>
                  <a:pt x="3621" y="9550"/>
                </a:cubicBezTo>
                <a:cubicBezTo>
                  <a:pt x="3599" y="9573"/>
                  <a:pt x="3594" y="9581"/>
                  <a:pt x="3572" y="9575"/>
                </a:cubicBezTo>
              </a:path>
              <a:path w="3027" h="919">
                <a:moveTo>
                  <a:pt x="3894" y="9748"/>
                </a:moveTo>
                <a:cubicBezTo>
                  <a:pt x="3919" y="9723"/>
                  <a:pt x="3927" y="9715"/>
                  <a:pt x="3944" y="9699"/>
                </a:cubicBezTo>
                <a:cubicBezTo>
                  <a:pt x="3944" y="9772"/>
                  <a:pt x="3966" y="9824"/>
                  <a:pt x="3969" y="9897"/>
                </a:cubicBezTo>
                <a:cubicBezTo>
                  <a:pt x="3971" y="9931"/>
                  <a:pt x="3974" y="10067"/>
                  <a:pt x="3994" y="10096"/>
                </a:cubicBezTo>
                <a:cubicBezTo>
                  <a:pt x="4002" y="10096"/>
                  <a:pt x="4010" y="10096"/>
                  <a:pt x="4018" y="10096"/>
                </a:cubicBezTo>
              </a:path>
              <a:path w="3027" h="919">
                <a:moveTo>
                  <a:pt x="4242" y="9723"/>
                </a:moveTo>
                <a:cubicBezTo>
                  <a:pt x="4281" y="9678"/>
                  <a:pt x="4281" y="9661"/>
                  <a:pt x="4316" y="9649"/>
                </a:cubicBezTo>
                <a:cubicBezTo>
                  <a:pt x="4316" y="9753"/>
                  <a:pt x="4330" y="9847"/>
                  <a:pt x="4341" y="9947"/>
                </a:cubicBezTo>
                <a:cubicBezTo>
                  <a:pt x="4341" y="10015"/>
                  <a:pt x="4338" y="10034"/>
                  <a:pt x="4366" y="10071"/>
                </a:cubicBezTo>
              </a:path>
              <a:path w="3027" h="919">
                <a:moveTo>
                  <a:pt x="4638" y="9847"/>
                </a:moveTo>
                <a:cubicBezTo>
                  <a:pt x="4614" y="9847"/>
                  <a:pt x="4605" y="9847"/>
                  <a:pt x="4589" y="9847"/>
                </a:cubicBezTo>
                <a:cubicBezTo>
                  <a:pt x="4598" y="9811"/>
                  <a:pt x="4626" y="9785"/>
                  <a:pt x="4663" y="9773"/>
                </a:cubicBezTo>
                <a:cubicBezTo>
                  <a:pt x="4714" y="9756"/>
                  <a:pt x="4759" y="9781"/>
                  <a:pt x="4787" y="9823"/>
                </a:cubicBezTo>
                <a:cubicBezTo>
                  <a:pt x="4808" y="9855"/>
                  <a:pt x="4831" y="9932"/>
                  <a:pt x="4812" y="9971"/>
                </a:cubicBezTo>
                <a:cubicBezTo>
                  <a:pt x="4784" y="10026"/>
                  <a:pt x="4740" y="10021"/>
                  <a:pt x="4688" y="10021"/>
                </a:cubicBezTo>
                <a:cubicBezTo>
                  <a:pt x="4644" y="10021"/>
                  <a:pt x="4649" y="10023"/>
                  <a:pt x="4614" y="9996"/>
                </a:cubicBezTo>
              </a:path>
              <a:path w="3027" h="919">
                <a:moveTo>
                  <a:pt x="4787" y="9798"/>
                </a:moveTo>
                <a:cubicBezTo>
                  <a:pt x="4853" y="9752"/>
                  <a:pt x="4921" y="9689"/>
                  <a:pt x="4837" y="9773"/>
                </a:cubicBezTo>
                <a:cubicBezTo>
                  <a:pt x="4802" y="9808"/>
                  <a:pt x="4811" y="9896"/>
                  <a:pt x="4862" y="9922"/>
                </a:cubicBezTo>
                <a:cubicBezTo>
                  <a:pt x="4914" y="9948"/>
                  <a:pt x="5014" y="9915"/>
                  <a:pt x="5060" y="9897"/>
                </a:cubicBezTo>
              </a:path>
              <a:path w="3027" h="919">
                <a:moveTo>
                  <a:pt x="6400" y="9178"/>
                </a:moveTo>
                <a:cubicBezTo>
                  <a:pt x="6433" y="9178"/>
                  <a:pt x="6466" y="9178"/>
                  <a:pt x="6499" y="9178"/>
                </a:cubicBezTo>
                <a:cubicBezTo>
                  <a:pt x="6447" y="9217"/>
                  <a:pt x="6413" y="9190"/>
                  <a:pt x="6350" y="9203"/>
                </a:cubicBezTo>
                <a:cubicBezTo>
                  <a:pt x="6225" y="9229"/>
                  <a:pt x="6104" y="9235"/>
                  <a:pt x="5978" y="9252"/>
                </a:cubicBezTo>
                <a:cubicBezTo>
                  <a:pt x="5850" y="9270"/>
                  <a:pt x="5725" y="9275"/>
                  <a:pt x="5606" y="9327"/>
                </a:cubicBezTo>
                <a:cubicBezTo>
                  <a:pt x="5565" y="9347"/>
                  <a:pt x="5559" y="9355"/>
                  <a:pt x="5531" y="9351"/>
                </a:cubicBezTo>
              </a:path>
              <a:path w="3027" h="919">
                <a:moveTo>
                  <a:pt x="5730" y="9475"/>
                </a:moveTo>
                <a:cubicBezTo>
                  <a:pt x="5743" y="9513"/>
                  <a:pt x="5759" y="9500"/>
                  <a:pt x="5804" y="9500"/>
                </a:cubicBezTo>
                <a:cubicBezTo>
                  <a:pt x="5863" y="9500"/>
                  <a:pt x="5890" y="9475"/>
                  <a:pt x="5953" y="9475"/>
                </a:cubicBezTo>
                <a:cubicBezTo>
                  <a:pt x="6007" y="9475"/>
                  <a:pt x="6019" y="9529"/>
                  <a:pt x="6003" y="9575"/>
                </a:cubicBezTo>
                <a:cubicBezTo>
                  <a:pt x="5981" y="9639"/>
                  <a:pt x="5940" y="9715"/>
                  <a:pt x="5928" y="9773"/>
                </a:cubicBezTo>
                <a:cubicBezTo>
                  <a:pt x="5928" y="9790"/>
                  <a:pt x="5928" y="9806"/>
                  <a:pt x="5928" y="9823"/>
                </a:cubicBezTo>
              </a:path>
              <a:path w="3027" h="919">
                <a:moveTo>
                  <a:pt x="6102" y="9674"/>
                </a:moveTo>
                <a:cubicBezTo>
                  <a:pt x="6108" y="9656"/>
                  <a:pt x="6146" y="9613"/>
                  <a:pt x="6176" y="9599"/>
                </a:cubicBezTo>
                <a:cubicBezTo>
                  <a:pt x="6206" y="9586"/>
                  <a:pt x="6308" y="9589"/>
                  <a:pt x="6325" y="9624"/>
                </a:cubicBezTo>
                <a:cubicBezTo>
                  <a:pt x="6342" y="9659"/>
                  <a:pt x="6306" y="9710"/>
                  <a:pt x="6276" y="9723"/>
                </a:cubicBezTo>
                <a:cubicBezTo>
                  <a:pt x="6240" y="9739"/>
                  <a:pt x="6167" y="9740"/>
                  <a:pt x="6127" y="9748"/>
                </a:cubicBezTo>
              </a:path>
              <a:path w="3027" h="919">
                <a:moveTo>
                  <a:pt x="6350" y="9575"/>
                </a:moveTo>
                <a:cubicBezTo>
                  <a:pt x="6389" y="9536"/>
                  <a:pt x="6406" y="9534"/>
                  <a:pt x="6400" y="9500"/>
                </a:cubicBezTo>
                <a:cubicBezTo>
                  <a:pt x="6370" y="9510"/>
                  <a:pt x="6338" y="9550"/>
                  <a:pt x="6350" y="9599"/>
                </a:cubicBezTo>
                <a:cubicBezTo>
                  <a:pt x="6366" y="9666"/>
                  <a:pt x="6405" y="9719"/>
                  <a:pt x="6474" y="9723"/>
                </a:cubicBezTo>
                <a:cubicBezTo>
                  <a:pt x="6552" y="9728"/>
                  <a:pt x="6558" y="9705"/>
                  <a:pt x="6598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28840" y="4295880"/>
            <a:ext cx="2313000" cy="1044360"/>
          </a:xfrm>
          <a:custGeom>
            <a:avLst/>
            <a:gdLst/>
            <a:ahLst/>
            <a:rect l="l" t="t" r="r" b="b"/>
            <a:pathLst>
              <a:path w="6425" h="2903">
                <a:moveTo>
                  <a:pt x="4490" y="14114"/>
                </a:moveTo>
                <a:cubicBezTo>
                  <a:pt x="4429" y="14148"/>
                  <a:pt x="4411" y="14163"/>
                  <a:pt x="4341" y="14163"/>
                </a:cubicBezTo>
                <a:cubicBezTo>
                  <a:pt x="4333" y="14163"/>
                  <a:pt x="4324" y="14163"/>
                  <a:pt x="4316" y="14163"/>
                </a:cubicBezTo>
                <a:cubicBezTo>
                  <a:pt x="4316" y="14113"/>
                  <a:pt x="4352" y="14071"/>
                  <a:pt x="4390" y="14039"/>
                </a:cubicBezTo>
                <a:cubicBezTo>
                  <a:pt x="4444" y="13993"/>
                  <a:pt x="4563" y="13925"/>
                  <a:pt x="4638" y="13965"/>
                </a:cubicBezTo>
                <a:cubicBezTo>
                  <a:pt x="4730" y="14014"/>
                  <a:pt x="4727" y="14153"/>
                  <a:pt x="4713" y="14238"/>
                </a:cubicBezTo>
                <a:cubicBezTo>
                  <a:pt x="4697" y="14332"/>
                  <a:pt x="4633" y="14419"/>
                  <a:pt x="4614" y="14511"/>
                </a:cubicBezTo>
                <a:cubicBezTo>
                  <a:pt x="4601" y="14573"/>
                  <a:pt x="4619" y="14646"/>
                  <a:pt x="4688" y="14660"/>
                </a:cubicBezTo>
                <a:cubicBezTo>
                  <a:pt x="4782" y="14679"/>
                  <a:pt x="4850" y="14603"/>
                  <a:pt x="4936" y="14585"/>
                </a:cubicBezTo>
                <a:cubicBezTo>
                  <a:pt x="4953" y="14585"/>
                  <a:pt x="4969" y="14585"/>
                  <a:pt x="4986" y="14585"/>
                </a:cubicBezTo>
              </a:path>
              <a:path w="6425" h="2903">
                <a:moveTo>
                  <a:pt x="5035" y="14337"/>
                </a:moveTo>
                <a:cubicBezTo>
                  <a:pt x="5052" y="14270"/>
                  <a:pt x="5095" y="14288"/>
                  <a:pt x="5159" y="14288"/>
                </a:cubicBezTo>
                <a:cubicBezTo>
                  <a:pt x="5237" y="14288"/>
                  <a:pt x="5269" y="14341"/>
                  <a:pt x="5283" y="14412"/>
                </a:cubicBezTo>
                <a:cubicBezTo>
                  <a:pt x="5293" y="14461"/>
                  <a:pt x="5255" y="14560"/>
                  <a:pt x="5209" y="14585"/>
                </a:cubicBezTo>
                <a:cubicBezTo>
                  <a:pt x="5184" y="14585"/>
                  <a:pt x="5176" y="14585"/>
                  <a:pt x="5159" y="14585"/>
                </a:cubicBezTo>
              </a:path>
              <a:path w="6425" h="2903">
                <a:moveTo>
                  <a:pt x="5333" y="14387"/>
                </a:moveTo>
                <a:cubicBezTo>
                  <a:pt x="5438" y="14282"/>
                  <a:pt x="5433" y="14256"/>
                  <a:pt x="5358" y="14362"/>
                </a:cubicBezTo>
                <a:cubicBezTo>
                  <a:pt x="5316" y="14422"/>
                  <a:pt x="5273" y="14521"/>
                  <a:pt x="5333" y="14585"/>
                </a:cubicBezTo>
                <a:cubicBezTo>
                  <a:pt x="5390" y="14646"/>
                  <a:pt x="5525" y="14597"/>
                  <a:pt x="5581" y="14560"/>
                </a:cubicBezTo>
                <a:cubicBezTo>
                  <a:pt x="5598" y="14544"/>
                  <a:pt x="5614" y="14527"/>
                  <a:pt x="5631" y="14511"/>
                </a:cubicBezTo>
              </a:path>
              <a:path w="6425" h="2903">
                <a:moveTo>
                  <a:pt x="5854" y="14337"/>
                </a:moveTo>
                <a:cubicBezTo>
                  <a:pt x="5905" y="14337"/>
                  <a:pt x="5912" y="14326"/>
                  <a:pt x="5953" y="14312"/>
                </a:cubicBezTo>
                <a:cubicBezTo>
                  <a:pt x="6017" y="14291"/>
                  <a:pt x="6082" y="14267"/>
                  <a:pt x="6152" y="14263"/>
                </a:cubicBezTo>
                <a:cubicBezTo>
                  <a:pt x="6185" y="14261"/>
                  <a:pt x="6218" y="14263"/>
                  <a:pt x="6251" y="14263"/>
                </a:cubicBezTo>
              </a:path>
              <a:path w="6425" h="2903">
                <a:moveTo>
                  <a:pt x="6375" y="14064"/>
                </a:moveTo>
                <a:cubicBezTo>
                  <a:pt x="6394" y="14007"/>
                  <a:pt x="6403" y="14000"/>
                  <a:pt x="6400" y="13965"/>
                </a:cubicBezTo>
                <a:cubicBezTo>
                  <a:pt x="6400" y="14052"/>
                  <a:pt x="6378" y="14126"/>
                  <a:pt x="6375" y="14213"/>
                </a:cubicBezTo>
                <a:cubicBezTo>
                  <a:pt x="6375" y="14288"/>
                  <a:pt x="6375" y="14312"/>
                  <a:pt x="6375" y="14362"/>
                </a:cubicBezTo>
              </a:path>
              <a:path w="6425" h="2903">
                <a:moveTo>
                  <a:pt x="6424" y="13965"/>
                </a:moveTo>
                <a:cubicBezTo>
                  <a:pt x="6509" y="13860"/>
                  <a:pt x="6533" y="13838"/>
                  <a:pt x="6648" y="13915"/>
                </a:cubicBezTo>
                <a:cubicBezTo>
                  <a:pt x="6780" y="14003"/>
                  <a:pt x="6772" y="14064"/>
                  <a:pt x="6772" y="14213"/>
                </a:cubicBezTo>
                <a:cubicBezTo>
                  <a:pt x="6772" y="14324"/>
                  <a:pt x="6730" y="14435"/>
                  <a:pt x="6623" y="14486"/>
                </a:cubicBezTo>
                <a:cubicBezTo>
                  <a:pt x="6548" y="14511"/>
                  <a:pt x="6524" y="14519"/>
                  <a:pt x="6474" y="14536"/>
                </a:cubicBezTo>
              </a:path>
              <a:path w="6425" h="2903">
                <a:moveTo>
                  <a:pt x="4118" y="13816"/>
                </a:moveTo>
                <a:cubicBezTo>
                  <a:pt x="4118" y="13791"/>
                  <a:pt x="4118" y="13767"/>
                  <a:pt x="4118" y="13742"/>
                </a:cubicBezTo>
                <a:cubicBezTo>
                  <a:pt x="4102" y="13807"/>
                  <a:pt x="4042" y="13871"/>
                  <a:pt x="4018" y="13940"/>
                </a:cubicBezTo>
                <a:cubicBezTo>
                  <a:pt x="3958" y="14111"/>
                  <a:pt x="3959" y="14244"/>
                  <a:pt x="4018" y="14412"/>
                </a:cubicBezTo>
                <a:cubicBezTo>
                  <a:pt x="4063" y="14542"/>
                  <a:pt x="4155" y="14697"/>
                  <a:pt x="4266" y="14784"/>
                </a:cubicBezTo>
                <a:cubicBezTo>
                  <a:pt x="4310" y="14805"/>
                  <a:pt x="4322" y="14808"/>
                  <a:pt x="4341" y="14833"/>
                </a:cubicBezTo>
              </a:path>
              <a:path w="6425" h="2903">
                <a:moveTo>
                  <a:pt x="7665" y="13717"/>
                </a:moveTo>
                <a:cubicBezTo>
                  <a:pt x="7685" y="13668"/>
                  <a:pt x="7689" y="13665"/>
                  <a:pt x="7689" y="13618"/>
                </a:cubicBezTo>
                <a:cubicBezTo>
                  <a:pt x="7632" y="13688"/>
                  <a:pt x="7553" y="13772"/>
                  <a:pt x="7541" y="13866"/>
                </a:cubicBezTo>
                <a:cubicBezTo>
                  <a:pt x="7523" y="14000"/>
                  <a:pt x="7547" y="14171"/>
                  <a:pt x="7615" y="14288"/>
                </a:cubicBezTo>
                <a:cubicBezTo>
                  <a:pt x="7632" y="14304"/>
                  <a:pt x="7648" y="14321"/>
                  <a:pt x="7665" y="14337"/>
                </a:cubicBezTo>
              </a:path>
              <a:path w="6425" h="2903">
                <a:moveTo>
                  <a:pt x="7913" y="14064"/>
                </a:moveTo>
                <a:cubicBezTo>
                  <a:pt x="7913" y="14022"/>
                  <a:pt x="7919" y="14005"/>
                  <a:pt x="7962" y="13990"/>
                </a:cubicBezTo>
                <a:cubicBezTo>
                  <a:pt x="8004" y="13976"/>
                  <a:pt x="8104" y="13983"/>
                  <a:pt x="8136" y="14015"/>
                </a:cubicBezTo>
                <a:cubicBezTo>
                  <a:pt x="8179" y="14057"/>
                  <a:pt x="8180" y="14194"/>
                  <a:pt x="8136" y="14238"/>
                </a:cubicBezTo>
                <a:cubicBezTo>
                  <a:pt x="8077" y="14297"/>
                  <a:pt x="8032" y="14289"/>
                  <a:pt x="7962" y="14263"/>
                </a:cubicBezTo>
              </a:path>
              <a:path w="6425" h="2903">
                <a:moveTo>
                  <a:pt x="8186" y="14064"/>
                </a:moveTo>
                <a:cubicBezTo>
                  <a:pt x="8241" y="14009"/>
                  <a:pt x="8239" y="13984"/>
                  <a:pt x="8285" y="13990"/>
                </a:cubicBezTo>
                <a:cubicBezTo>
                  <a:pt x="8271" y="14044"/>
                  <a:pt x="8239" y="14075"/>
                  <a:pt x="8235" y="14139"/>
                </a:cubicBezTo>
                <a:cubicBezTo>
                  <a:pt x="8231" y="14213"/>
                  <a:pt x="8312" y="14275"/>
                  <a:pt x="8384" y="14288"/>
                </a:cubicBezTo>
                <a:cubicBezTo>
                  <a:pt x="8452" y="14288"/>
                  <a:pt x="8471" y="14291"/>
                  <a:pt x="8508" y="14263"/>
                </a:cubicBezTo>
              </a:path>
              <a:path w="6425" h="2903">
                <a:moveTo>
                  <a:pt x="8930" y="14089"/>
                </a:moveTo>
                <a:cubicBezTo>
                  <a:pt x="8954" y="14083"/>
                  <a:pt x="9008" y="14076"/>
                  <a:pt x="9029" y="14064"/>
                </a:cubicBezTo>
                <a:cubicBezTo>
                  <a:pt x="9091" y="14029"/>
                  <a:pt x="9175" y="14019"/>
                  <a:pt x="9252" y="14015"/>
                </a:cubicBezTo>
                <a:cubicBezTo>
                  <a:pt x="9318" y="14012"/>
                  <a:pt x="9365" y="14027"/>
                  <a:pt x="9426" y="14039"/>
                </a:cubicBezTo>
              </a:path>
              <a:path w="6425" h="2903">
                <a:moveTo>
                  <a:pt x="9575" y="13866"/>
                </a:moveTo>
                <a:cubicBezTo>
                  <a:pt x="9612" y="13809"/>
                  <a:pt x="9629" y="13762"/>
                  <a:pt x="9624" y="13816"/>
                </a:cubicBezTo>
                <a:cubicBezTo>
                  <a:pt x="9582" y="13837"/>
                  <a:pt x="9542" y="13909"/>
                  <a:pt x="9525" y="13965"/>
                </a:cubicBezTo>
                <a:cubicBezTo>
                  <a:pt x="9508" y="14019"/>
                  <a:pt x="9633" y="14080"/>
                  <a:pt x="9674" y="14089"/>
                </a:cubicBezTo>
                <a:cubicBezTo>
                  <a:pt x="9750" y="14106"/>
                  <a:pt x="9782" y="14081"/>
                  <a:pt x="9847" y="14139"/>
                </a:cubicBezTo>
                <a:cubicBezTo>
                  <a:pt x="9872" y="14163"/>
                  <a:pt x="9881" y="14171"/>
                  <a:pt x="9897" y="14188"/>
                </a:cubicBezTo>
                <a:cubicBezTo>
                  <a:pt x="9866" y="14251"/>
                  <a:pt x="9822" y="14238"/>
                  <a:pt x="9748" y="14238"/>
                </a:cubicBezTo>
                <a:cubicBezTo>
                  <a:pt x="9690" y="14238"/>
                  <a:pt x="9633" y="14238"/>
                  <a:pt x="9575" y="14238"/>
                </a:cubicBezTo>
              </a:path>
              <a:path w="6425" h="2903">
                <a:moveTo>
                  <a:pt x="10021" y="13866"/>
                </a:moveTo>
                <a:cubicBezTo>
                  <a:pt x="9995" y="13739"/>
                  <a:pt x="9954" y="13767"/>
                  <a:pt x="9823" y="13767"/>
                </a:cubicBezTo>
                <a:cubicBezTo>
                  <a:pt x="9740" y="13767"/>
                  <a:pt x="9658" y="13767"/>
                  <a:pt x="9575" y="13767"/>
                </a:cubicBezTo>
              </a:path>
              <a:path w="6425" h="2903">
                <a:moveTo>
                  <a:pt x="9897" y="13717"/>
                </a:moveTo>
                <a:cubicBezTo>
                  <a:pt x="9897" y="13676"/>
                  <a:pt x="9897" y="13668"/>
                  <a:pt x="9897" y="13643"/>
                </a:cubicBezTo>
                <a:cubicBezTo>
                  <a:pt x="9984" y="13643"/>
                  <a:pt x="10093" y="13650"/>
                  <a:pt x="10170" y="13692"/>
                </a:cubicBezTo>
                <a:cubicBezTo>
                  <a:pt x="10303" y="13765"/>
                  <a:pt x="10406" y="13911"/>
                  <a:pt x="10393" y="14064"/>
                </a:cubicBezTo>
                <a:cubicBezTo>
                  <a:pt x="10380" y="14217"/>
                  <a:pt x="10284" y="14331"/>
                  <a:pt x="10145" y="14387"/>
                </a:cubicBezTo>
                <a:cubicBezTo>
                  <a:pt x="10112" y="14395"/>
                  <a:pt x="10079" y="14404"/>
                  <a:pt x="10046" y="14412"/>
                </a:cubicBezTo>
              </a:path>
              <a:path w="6425" h="2903">
                <a:moveTo>
                  <a:pt x="9922" y="11931"/>
                </a:moveTo>
                <a:cubicBezTo>
                  <a:pt x="9751" y="11976"/>
                  <a:pt x="9633" y="12053"/>
                  <a:pt x="9475" y="12129"/>
                </a:cubicBezTo>
                <a:cubicBezTo>
                  <a:pt x="9303" y="12211"/>
                  <a:pt x="9124" y="12290"/>
                  <a:pt x="8954" y="12378"/>
                </a:cubicBezTo>
                <a:cubicBezTo>
                  <a:pt x="8782" y="12467"/>
                  <a:pt x="8622" y="12545"/>
                  <a:pt x="8458" y="12650"/>
                </a:cubicBezTo>
                <a:cubicBezTo>
                  <a:pt x="8313" y="12743"/>
                  <a:pt x="8203" y="12879"/>
                  <a:pt x="8062" y="12973"/>
                </a:cubicBezTo>
                <a:cubicBezTo>
                  <a:pt x="7946" y="13050"/>
                  <a:pt x="7881" y="13091"/>
                  <a:pt x="7789" y="13196"/>
                </a:cubicBezTo>
              </a:path>
              <a:path w="6425" h="2903">
                <a:moveTo>
                  <a:pt x="10170" y="13370"/>
                </a:moveTo>
                <a:cubicBezTo>
                  <a:pt x="10253" y="13342"/>
                  <a:pt x="10202" y="13360"/>
                  <a:pt x="10145" y="13395"/>
                </a:cubicBezTo>
                <a:cubicBezTo>
                  <a:pt x="9999" y="13485"/>
                  <a:pt x="9834" y="13530"/>
                  <a:pt x="9674" y="13593"/>
                </a:cubicBezTo>
                <a:cubicBezTo>
                  <a:pt x="9422" y="13692"/>
                  <a:pt x="9180" y="13814"/>
                  <a:pt x="8930" y="13915"/>
                </a:cubicBezTo>
                <a:cubicBezTo>
                  <a:pt x="8743" y="13990"/>
                  <a:pt x="8554" y="14052"/>
                  <a:pt x="8384" y="14163"/>
                </a:cubicBezTo>
                <a:cubicBezTo>
                  <a:pt x="8296" y="14220"/>
                  <a:pt x="8212" y="14309"/>
                  <a:pt x="8136" y="14362"/>
                </a:cubicBezTo>
                <a:cubicBezTo>
                  <a:pt x="8128" y="14362"/>
                  <a:pt x="8119" y="14362"/>
                  <a:pt x="8111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26040" y="4653000"/>
            <a:ext cx="108000" cy="11592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14436" y="12923"/>
                </a:moveTo>
                <a:cubicBezTo>
                  <a:pt x="14494" y="12923"/>
                  <a:pt x="14503" y="12923"/>
                  <a:pt x="14536" y="12923"/>
                </a:cubicBezTo>
                <a:cubicBezTo>
                  <a:pt x="14523" y="12962"/>
                  <a:pt x="14462" y="12951"/>
                  <a:pt x="14412" y="12973"/>
                </a:cubicBezTo>
                <a:cubicBezTo>
                  <a:pt x="14352" y="13000"/>
                  <a:pt x="14303" y="13014"/>
                  <a:pt x="14238" y="13022"/>
                </a:cubicBezTo>
              </a:path>
              <a:path w="299" h="324">
                <a:moveTo>
                  <a:pt x="14387" y="13122"/>
                </a:moveTo>
                <a:cubicBezTo>
                  <a:pt x="14444" y="13141"/>
                  <a:pt x="14451" y="13149"/>
                  <a:pt x="14486" y="13146"/>
                </a:cubicBezTo>
                <a:cubicBezTo>
                  <a:pt x="14481" y="13160"/>
                  <a:pt x="14440" y="13213"/>
                  <a:pt x="14412" y="13221"/>
                </a:cubicBezTo>
                <a:cubicBezTo>
                  <a:pt x="14374" y="13232"/>
                  <a:pt x="14348" y="13237"/>
                  <a:pt x="14312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4545000"/>
            <a:ext cx="858960" cy="500040"/>
          </a:xfrm>
          <a:custGeom>
            <a:avLst/>
            <a:gdLst/>
            <a:ahLst/>
            <a:rect l="l" t="t" r="r" b="b"/>
            <a:pathLst>
              <a:path w="2382" h="1390">
                <a:moveTo>
                  <a:pt x="16743" y="12774"/>
                </a:moveTo>
                <a:cubicBezTo>
                  <a:pt x="16735" y="12749"/>
                  <a:pt x="16726" y="12725"/>
                  <a:pt x="16718" y="12700"/>
                </a:cubicBezTo>
                <a:cubicBezTo>
                  <a:pt x="16778" y="12688"/>
                  <a:pt x="16809" y="12639"/>
                  <a:pt x="16867" y="12626"/>
                </a:cubicBezTo>
                <a:cubicBezTo>
                  <a:pt x="16916" y="12615"/>
                  <a:pt x="17033" y="12607"/>
                  <a:pt x="17066" y="12650"/>
                </a:cubicBezTo>
                <a:cubicBezTo>
                  <a:pt x="17115" y="12715"/>
                  <a:pt x="17138" y="12803"/>
                  <a:pt x="17090" y="12874"/>
                </a:cubicBezTo>
                <a:cubicBezTo>
                  <a:pt x="17032" y="12959"/>
                  <a:pt x="16957" y="12948"/>
                  <a:pt x="16867" y="12948"/>
                </a:cubicBezTo>
                <a:cubicBezTo>
                  <a:pt x="16851" y="12948"/>
                  <a:pt x="16834" y="12948"/>
                  <a:pt x="16818" y="12948"/>
                </a:cubicBezTo>
              </a:path>
              <a:path w="2382" h="1390">
                <a:moveTo>
                  <a:pt x="17264" y="12700"/>
                </a:moveTo>
                <a:cubicBezTo>
                  <a:pt x="17303" y="12661"/>
                  <a:pt x="17320" y="12660"/>
                  <a:pt x="17314" y="12626"/>
                </a:cubicBezTo>
                <a:cubicBezTo>
                  <a:pt x="17277" y="12662"/>
                  <a:pt x="17207" y="12730"/>
                  <a:pt x="17190" y="12774"/>
                </a:cubicBezTo>
                <a:cubicBezTo>
                  <a:pt x="17157" y="12859"/>
                  <a:pt x="17215" y="12956"/>
                  <a:pt x="17289" y="12998"/>
                </a:cubicBezTo>
                <a:cubicBezTo>
                  <a:pt x="17354" y="13035"/>
                  <a:pt x="17417" y="13041"/>
                  <a:pt x="17487" y="13047"/>
                </a:cubicBezTo>
              </a:path>
              <a:path w="2382" h="1390">
                <a:moveTo>
                  <a:pt x="18405" y="13146"/>
                </a:moveTo>
                <a:cubicBezTo>
                  <a:pt x="18357" y="13170"/>
                  <a:pt x="18359" y="13187"/>
                  <a:pt x="18306" y="13196"/>
                </a:cubicBezTo>
                <a:cubicBezTo>
                  <a:pt x="18175" y="13219"/>
                  <a:pt x="18043" y="13221"/>
                  <a:pt x="17909" y="13221"/>
                </a:cubicBezTo>
                <a:cubicBezTo>
                  <a:pt x="17699" y="13221"/>
                  <a:pt x="17496" y="13230"/>
                  <a:pt x="17289" y="13246"/>
                </a:cubicBezTo>
                <a:cubicBezTo>
                  <a:pt x="17163" y="13256"/>
                  <a:pt x="17041" y="13259"/>
                  <a:pt x="16917" y="13271"/>
                </a:cubicBezTo>
                <a:cubicBezTo>
                  <a:pt x="16819" y="13281"/>
                  <a:pt x="16734" y="13260"/>
                  <a:pt x="16644" y="13246"/>
                </a:cubicBezTo>
                <a:cubicBezTo>
                  <a:pt x="16569" y="13234"/>
                  <a:pt x="16513" y="13260"/>
                  <a:pt x="16446" y="13271"/>
                </a:cubicBezTo>
                <a:cubicBezTo>
                  <a:pt x="16378" y="13282"/>
                  <a:pt x="16313" y="13309"/>
                  <a:pt x="16247" y="13320"/>
                </a:cubicBezTo>
                <a:cubicBezTo>
                  <a:pt x="16209" y="13326"/>
                  <a:pt x="16162" y="13320"/>
                  <a:pt x="16123" y="13320"/>
                </a:cubicBezTo>
              </a:path>
              <a:path w="2382" h="1390">
                <a:moveTo>
                  <a:pt x="16073" y="13742"/>
                </a:moveTo>
                <a:cubicBezTo>
                  <a:pt x="16040" y="13730"/>
                  <a:pt x="16033" y="13680"/>
                  <a:pt x="16073" y="13643"/>
                </a:cubicBezTo>
                <a:cubicBezTo>
                  <a:pt x="16111" y="13608"/>
                  <a:pt x="16224" y="13605"/>
                  <a:pt x="16272" y="13618"/>
                </a:cubicBezTo>
                <a:cubicBezTo>
                  <a:pt x="16345" y="13639"/>
                  <a:pt x="16365" y="13724"/>
                  <a:pt x="16346" y="13791"/>
                </a:cubicBezTo>
                <a:cubicBezTo>
                  <a:pt x="16323" y="13872"/>
                  <a:pt x="16234" y="13873"/>
                  <a:pt x="16173" y="13915"/>
                </a:cubicBezTo>
                <a:cubicBezTo>
                  <a:pt x="16148" y="13940"/>
                  <a:pt x="16140" y="13948"/>
                  <a:pt x="16123" y="13965"/>
                </a:cubicBezTo>
                <a:cubicBezTo>
                  <a:pt x="16180" y="13965"/>
                  <a:pt x="16245" y="13972"/>
                  <a:pt x="16297" y="13990"/>
                </a:cubicBezTo>
                <a:cubicBezTo>
                  <a:pt x="16345" y="14014"/>
                  <a:pt x="16359" y="14023"/>
                  <a:pt x="16396" y="14015"/>
                </a:cubicBezTo>
              </a:path>
              <a:path w="2382" h="1390">
                <a:moveTo>
                  <a:pt x="16470" y="13866"/>
                </a:moveTo>
                <a:cubicBezTo>
                  <a:pt x="16481" y="13833"/>
                  <a:pt x="16524" y="13826"/>
                  <a:pt x="16570" y="13841"/>
                </a:cubicBezTo>
                <a:cubicBezTo>
                  <a:pt x="16631" y="13862"/>
                  <a:pt x="16644" y="13858"/>
                  <a:pt x="16644" y="13915"/>
                </a:cubicBezTo>
                <a:cubicBezTo>
                  <a:pt x="16644" y="13979"/>
                  <a:pt x="16616" y="14014"/>
                  <a:pt x="16545" y="13990"/>
                </a:cubicBezTo>
                <a:cubicBezTo>
                  <a:pt x="16528" y="13982"/>
                  <a:pt x="16512" y="13973"/>
                  <a:pt x="16495" y="13965"/>
                </a:cubicBezTo>
              </a:path>
              <a:path w="2382" h="1390">
                <a:moveTo>
                  <a:pt x="16768" y="13841"/>
                </a:moveTo>
                <a:cubicBezTo>
                  <a:pt x="16776" y="13833"/>
                  <a:pt x="16785" y="13824"/>
                  <a:pt x="16793" y="13816"/>
                </a:cubicBezTo>
                <a:cubicBezTo>
                  <a:pt x="16783" y="13846"/>
                  <a:pt x="16751" y="13858"/>
                  <a:pt x="16718" y="13891"/>
                </a:cubicBezTo>
                <a:cubicBezTo>
                  <a:pt x="16710" y="13899"/>
                  <a:pt x="16702" y="13907"/>
                  <a:pt x="16694" y="13915"/>
                </a:cubicBezTo>
                <a:cubicBezTo>
                  <a:pt x="16721" y="13971"/>
                  <a:pt x="16754" y="13965"/>
                  <a:pt x="16818" y="13965"/>
                </a:cubicBezTo>
              </a:path>
              <a:path w="2382" h="1390">
                <a:moveTo>
                  <a:pt x="17214" y="13816"/>
                </a:moveTo>
                <a:cubicBezTo>
                  <a:pt x="17206" y="13808"/>
                  <a:pt x="17198" y="13799"/>
                  <a:pt x="17190" y="13791"/>
                </a:cubicBezTo>
                <a:cubicBezTo>
                  <a:pt x="17281" y="13791"/>
                  <a:pt x="17371" y="13791"/>
                  <a:pt x="17462" y="13791"/>
                </a:cubicBezTo>
              </a:path>
              <a:path w="2382" h="1390">
                <a:moveTo>
                  <a:pt x="17835" y="13643"/>
                </a:moveTo>
                <a:cubicBezTo>
                  <a:pt x="17851" y="13626"/>
                  <a:pt x="17868" y="13610"/>
                  <a:pt x="17884" y="13593"/>
                </a:cubicBezTo>
                <a:cubicBezTo>
                  <a:pt x="17852" y="13689"/>
                  <a:pt x="17803" y="13792"/>
                  <a:pt x="17785" y="13891"/>
                </a:cubicBezTo>
                <a:cubicBezTo>
                  <a:pt x="17785" y="13907"/>
                  <a:pt x="17785" y="13924"/>
                  <a:pt x="17785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08160" y="4633920"/>
            <a:ext cx="241200" cy="19692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5928" y="13072"/>
                </a:moveTo>
                <a:cubicBezTo>
                  <a:pt x="5928" y="13033"/>
                  <a:pt x="5904" y="13051"/>
                  <a:pt x="5904" y="12998"/>
                </a:cubicBezTo>
              </a:path>
              <a:path w="671" h="546">
                <a:moveTo>
                  <a:pt x="5928" y="13072"/>
                </a:moveTo>
                <a:cubicBezTo>
                  <a:pt x="5918" y="13104"/>
                  <a:pt x="5895" y="13112"/>
                  <a:pt x="5854" y="13122"/>
                </a:cubicBezTo>
                <a:cubicBezTo>
                  <a:pt x="5854" y="13069"/>
                  <a:pt x="5866" y="13060"/>
                  <a:pt x="5904" y="13022"/>
                </a:cubicBezTo>
                <a:cubicBezTo>
                  <a:pt x="5959" y="12967"/>
                  <a:pt x="6030" y="12947"/>
                  <a:pt x="6102" y="12998"/>
                </a:cubicBezTo>
                <a:cubicBezTo>
                  <a:pt x="6205" y="13071"/>
                  <a:pt x="6201" y="13129"/>
                  <a:pt x="6201" y="13246"/>
                </a:cubicBezTo>
                <a:cubicBezTo>
                  <a:pt x="6201" y="13356"/>
                  <a:pt x="6135" y="13399"/>
                  <a:pt x="6028" y="13419"/>
                </a:cubicBezTo>
                <a:cubicBezTo>
                  <a:pt x="5967" y="13430"/>
                  <a:pt x="5925" y="13400"/>
                  <a:pt x="5879" y="13370"/>
                </a:cubicBezTo>
              </a:path>
              <a:path w="671" h="546">
                <a:moveTo>
                  <a:pt x="6350" y="12948"/>
                </a:moveTo>
                <a:cubicBezTo>
                  <a:pt x="6402" y="12882"/>
                  <a:pt x="6429" y="12874"/>
                  <a:pt x="6400" y="12874"/>
                </a:cubicBezTo>
                <a:cubicBezTo>
                  <a:pt x="6324" y="12883"/>
                  <a:pt x="6246" y="12908"/>
                  <a:pt x="6226" y="12998"/>
                </a:cubicBezTo>
                <a:cubicBezTo>
                  <a:pt x="6206" y="13090"/>
                  <a:pt x="6281" y="13193"/>
                  <a:pt x="6350" y="13246"/>
                </a:cubicBezTo>
                <a:cubicBezTo>
                  <a:pt x="6412" y="13295"/>
                  <a:pt x="6461" y="13267"/>
                  <a:pt x="6524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16120" y="4438800"/>
            <a:ext cx="304920" cy="34740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7441" y="12378"/>
                </a:moveTo>
                <a:cubicBezTo>
                  <a:pt x="7419" y="12287"/>
                  <a:pt x="7376" y="12461"/>
                  <a:pt x="7342" y="12526"/>
                </a:cubicBezTo>
                <a:cubicBezTo>
                  <a:pt x="7264" y="12673"/>
                  <a:pt x="7248" y="12832"/>
                  <a:pt x="7268" y="12998"/>
                </a:cubicBezTo>
                <a:cubicBezTo>
                  <a:pt x="7279" y="13086"/>
                  <a:pt x="7306" y="13245"/>
                  <a:pt x="7392" y="13295"/>
                </a:cubicBezTo>
                <a:cubicBezTo>
                  <a:pt x="7400" y="13295"/>
                  <a:pt x="7409" y="13295"/>
                  <a:pt x="7417" y="13295"/>
                </a:cubicBezTo>
              </a:path>
              <a:path w="844" h="968">
                <a:moveTo>
                  <a:pt x="7739" y="12849"/>
                </a:moveTo>
                <a:cubicBezTo>
                  <a:pt x="7716" y="12841"/>
                  <a:pt x="7686" y="12790"/>
                  <a:pt x="7739" y="12774"/>
                </a:cubicBezTo>
                <a:cubicBezTo>
                  <a:pt x="7806" y="12753"/>
                  <a:pt x="7857" y="12774"/>
                  <a:pt x="7888" y="12824"/>
                </a:cubicBezTo>
                <a:cubicBezTo>
                  <a:pt x="7921" y="12876"/>
                  <a:pt x="7939" y="12997"/>
                  <a:pt x="7888" y="13047"/>
                </a:cubicBezTo>
                <a:cubicBezTo>
                  <a:pt x="7836" y="13099"/>
                  <a:pt x="7777" y="13111"/>
                  <a:pt x="7714" y="13072"/>
                </a:cubicBezTo>
                <a:cubicBezTo>
                  <a:pt x="7706" y="13064"/>
                  <a:pt x="7697" y="13055"/>
                  <a:pt x="7689" y="13047"/>
                </a:cubicBezTo>
              </a:path>
              <a:path w="844" h="968">
                <a:moveTo>
                  <a:pt x="7987" y="12824"/>
                </a:moveTo>
                <a:cubicBezTo>
                  <a:pt x="8004" y="12816"/>
                  <a:pt x="8020" y="12807"/>
                  <a:pt x="8037" y="12799"/>
                </a:cubicBezTo>
                <a:cubicBezTo>
                  <a:pt x="7996" y="12840"/>
                  <a:pt x="7951" y="12888"/>
                  <a:pt x="7938" y="12948"/>
                </a:cubicBezTo>
                <a:cubicBezTo>
                  <a:pt x="7921" y="13028"/>
                  <a:pt x="7991" y="13081"/>
                  <a:pt x="8062" y="13097"/>
                </a:cubicBezTo>
                <a:cubicBezTo>
                  <a:pt x="8078" y="13097"/>
                  <a:pt x="8095" y="13097"/>
                  <a:pt x="8111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4240" y="4357800"/>
            <a:ext cx="588960" cy="393480"/>
          </a:xfrm>
          <a:custGeom>
            <a:avLst/>
            <a:gdLst/>
            <a:ahLst/>
            <a:rect l="l" t="t" r="r" b="b"/>
            <a:pathLst>
              <a:path w="1638" h="1092">
                <a:moveTo>
                  <a:pt x="8483" y="12898"/>
                </a:moveTo>
                <a:cubicBezTo>
                  <a:pt x="8483" y="12906"/>
                  <a:pt x="8483" y="12915"/>
                  <a:pt x="8483" y="12923"/>
                </a:cubicBezTo>
                <a:cubicBezTo>
                  <a:pt x="8521" y="12936"/>
                  <a:pt x="8504" y="12948"/>
                  <a:pt x="8558" y="12948"/>
                </a:cubicBezTo>
                <a:cubicBezTo>
                  <a:pt x="8642" y="12948"/>
                  <a:pt x="8711" y="12946"/>
                  <a:pt x="8781" y="12923"/>
                </a:cubicBezTo>
                <a:cubicBezTo>
                  <a:pt x="8789" y="12923"/>
                  <a:pt x="8798" y="12923"/>
                  <a:pt x="8806" y="12923"/>
                </a:cubicBezTo>
              </a:path>
              <a:path w="1638" h="1092">
                <a:moveTo>
                  <a:pt x="9178" y="12626"/>
                </a:moveTo>
                <a:cubicBezTo>
                  <a:pt x="9197" y="12568"/>
                  <a:pt x="9206" y="12525"/>
                  <a:pt x="9203" y="12576"/>
                </a:cubicBezTo>
                <a:cubicBezTo>
                  <a:pt x="9170" y="12617"/>
                  <a:pt x="9084" y="12718"/>
                  <a:pt x="9103" y="12774"/>
                </a:cubicBezTo>
                <a:cubicBezTo>
                  <a:pt x="9124" y="12837"/>
                  <a:pt x="9191" y="12864"/>
                  <a:pt x="9252" y="12874"/>
                </a:cubicBezTo>
                <a:cubicBezTo>
                  <a:pt x="9287" y="12880"/>
                  <a:pt x="9356" y="12883"/>
                  <a:pt x="9376" y="12923"/>
                </a:cubicBezTo>
                <a:cubicBezTo>
                  <a:pt x="9395" y="12962"/>
                  <a:pt x="9372" y="12989"/>
                  <a:pt x="9351" y="12998"/>
                </a:cubicBezTo>
                <a:cubicBezTo>
                  <a:pt x="9275" y="13033"/>
                  <a:pt x="9229" y="13026"/>
                  <a:pt x="9153" y="12998"/>
                </a:cubicBezTo>
              </a:path>
              <a:path w="1638" h="1092">
                <a:moveTo>
                  <a:pt x="9475" y="12650"/>
                </a:moveTo>
                <a:cubicBezTo>
                  <a:pt x="9483" y="12625"/>
                  <a:pt x="9492" y="12601"/>
                  <a:pt x="9500" y="12576"/>
                </a:cubicBezTo>
                <a:cubicBezTo>
                  <a:pt x="9401" y="12576"/>
                  <a:pt x="9302" y="12576"/>
                  <a:pt x="9203" y="12576"/>
                </a:cubicBezTo>
              </a:path>
              <a:path w="1638" h="1092">
                <a:moveTo>
                  <a:pt x="9475" y="12229"/>
                </a:moveTo>
                <a:cubicBezTo>
                  <a:pt x="9481" y="12189"/>
                  <a:pt x="9497" y="12120"/>
                  <a:pt x="9550" y="12105"/>
                </a:cubicBezTo>
                <a:cubicBezTo>
                  <a:pt x="9607" y="12089"/>
                  <a:pt x="9699" y="12101"/>
                  <a:pt x="9748" y="12129"/>
                </a:cubicBezTo>
                <a:cubicBezTo>
                  <a:pt x="9863" y="12194"/>
                  <a:pt x="9945" y="12271"/>
                  <a:pt x="10021" y="12378"/>
                </a:cubicBezTo>
                <a:cubicBezTo>
                  <a:pt x="10092" y="12479"/>
                  <a:pt x="10134" y="12599"/>
                  <a:pt x="10120" y="12725"/>
                </a:cubicBezTo>
                <a:cubicBezTo>
                  <a:pt x="10108" y="12838"/>
                  <a:pt x="10064" y="12980"/>
                  <a:pt x="9996" y="13072"/>
                </a:cubicBezTo>
                <a:cubicBezTo>
                  <a:pt x="9962" y="13117"/>
                  <a:pt x="9912" y="13156"/>
                  <a:pt x="9872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960" y="2633760"/>
            <a:ext cx="187200" cy="215640"/>
          </a:xfrm>
          <a:custGeom>
            <a:avLst/>
            <a:gdLst/>
            <a:ahLst/>
            <a:rect l="l" t="t" r="r" b="b"/>
            <a:pathLst>
              <a:path w="522" h="597">
                <a:moveTo>
                  <a:pt x="2034" y="7516"/>
                </a:moveTo>
                <a:cubicBezTo>
                  <a:pt x="1993" y="7502"/>
                  <a:pt x="2003" y="7475"/>
                  <a:pt x="2034" y="7441"/>
                </a:cubicBezTo>
                <a:cubicBezTo>
                  <a:pt x="2070" y="7401"/>
                  <a:pt x="2101" y="7332"/>
                  <a:pt x="2158" y="7317"/>
                </a:cubicBezTo>
                <a:cubicBezTo>
                  <a:pt x="2251" y="7292"/>
                  <a:pt x="2279" y="7332"/>
                  <a:pt x="2282" y="7417"/>
                </a:cubicBezTo>
                <a:cubicBezTo>
                  <a:pt x="2286" y="7521"/>
                  <a:pt x="2289" y="7618"/>
                  <a:pt x="2257" y="7714"/>
                </a:cubicBezTo>
                <a:cubicBezTo>
                  <a:pt x="2246" y="7747"/>
                  <a:pt x="2186" y="7847"/>
                  <a:pt x="2208" y="7888"/>
                </a:cubicBezTo>
                <a:cubicBezTo>
                  <a:pt x="2216" y="7896"/>
                  <a:pt x="2224" y="7905"/>
                  <a:pt x="2232" y="7913"/>
                </a:cubicBezTo>
                <a:cubicBezTo>
                  <a:pt x="2283" y="7900"/>
                  <a:pt x="2326" y="7855"/>
                  <a:pt x="2381" y="7838"/>
                </a:cubicBezTo>
                <a:cubicBezTo>
                  <a:pt x="2420" y="7826"/>
                  <a:pt x="2489" y="7838"/>
                  <a:pt x="2530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9080" y="2724120"/>
            <a:ext cx="9072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2555" y="7714"/>
                </a:moveTo>
                <a:cubicBezTo>
                  <a:pt x="2555" y="7671"/>
                  <a:pt x="2541" y="7618"/>
                  <a:pt x="2580" y="7590"/>
                </a:cubicBezTo>
                <a:cubicBezTo>
                  <a:pt x="2634" y="7552"/>
                  <a:pt x="2698" y="7556"/>
                  <a:pt x="2753" y="7590"/>
                </a:cubicBezTo>
                <a:cubicBezTo>
                  <a:pt x="2809" y="7625"/>
                  <a:pt x="2817" y="7666"/>
                  <a:pt x="2778" y="7714"/>
                </a:cubicBezTo>
                <a:cubicBezTo>
                  <a:pt x="2731" y="7773"/>
                  <a:pt x="2671" y="7764"/>
                  <a:pt x="2604" y="7764"/>
                </a:cubicBezTo>
                <a:cubicBezTo>
                  <a:pt x="2596" y="7764"/>
                  <a:pt x="2588" y="7764"/>
                  <a:pt x="2580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7080" y="2687760"/>
            <a:ext cx="115920" cy="9036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2853" y="7516"/>
                </a:moveTo>
                <a:cubicBezTo>
                  <a:pt x="2861" y="7499"/>
                  <a:pt x="2869" y="7483"/>
                  <a:pt x="2877" y="7466"/>
                </a:cubicBezTo>
                <a:cubicBezTo>
                  <a:pt x="2877" y="7549"/>
                  <a:pt x="2846" y="7663"/>
                  <a:pt x="2927" y="7714"/>
                </a:cubicBezTo>
                <a:cubicBezTo>
                  <a:pt x="2996" y="7757"/>
                  <a:pt x="3080" y="7668"/>
                  <a:pt x="3125" y="7640"/>
                </a:cubicBezTo>
                <a:cubicBezTo>
                  <a:pt x="3142" y="7632"/>
                  <a:pt x="3158" y="7623"/>
                  <a:pt x="3175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84160" y="3160800"/>
            <a:ext cx="115920" cy="1080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2530" y="8806"/>
                </a:moveTo>
                <a:cubicBezTo>
                  <a:pt x="2505" y="8806"/>
                  <a:pt x="2497" y="8806"/>
                  <a:pt x="2505" y="8830"/>
                </a:cubicBezTo>
                <a:cubicBezTo>
                  <a:pt x="2519" y="8774"/>
                  <a:pt x="2569" y="8764"/>
                  <a:pt x="2629" y="8781"/>
                </a:cubicBezTo>
                <a:cubicBezTo>
                  <a:pt x="2719" y="8806"/>
                  <a:pt x="2761" y="8863"/>
                  <a:pt x="2778" y="8954"/>
                </a:cubicBezTo>
                <a:cubicBezTo>
                  <a:pt x="2791" y="9024"/>
                  <a:pt x="2715" y="9066"/>
                  <a:pt x="2654" y="9079"/>
                </a:cubicBezTo>
                <a:cubicBezTo>
                  <a:pt x="2599" y="9091"/>
                  <a:pt x="2520" y="9087"/>
                  <a:pt x="2480" y="9054"/>
                </a:cubicBezTo>
                <a:cubicBezTo>
                  <a:pt x="2472" y="9046"/>
                  <a:pt x="2464" y="9037"/>
                  <a:pt x="2456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3080" y="3106800"/>
            <a:ext cx="12564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2704" y="8682"/>
                </a:moveTo>
                <a:cubicBezTo>
                  <a:pt x="2742" y="8643"/>
                  <a:pt x="2744" y="8626"/>
                  <a:pt x="2778" y="8632"/>
                </a:cubicBezTo>
                <a:cubicBezTo>
                  <a:pt x="2778" y="8684"/>
                  <a:pt x="2749" y="8766"/>
                  <a:pt x="2753" y="8806"/>
                </a:cubicBezTo>
                <a:cubicBezTo>
                  <a:pt x="2760" y="8884"/>
                  <a:pt x="2806" y="8973"/>
                  <a:pt x="2877" y="8979"/>
                </a:cubicBezTo>
                <a:cubicBezTo>
                  <a:pt x="2970" y="8987"/>
                  <a:pt x="2986" y="8961"/>
                  <a:pt x="3051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31920" y="2536920"/>
            <a:ext cx="90360" cy="776160"/>
          </a:xfrm>
          <a:custGeom>
            <a:avLst/>
            <a:gdLst/>
            <a:ahLst/>
            <a:rect l="l" t="t" r="r" b="b"/>
            <a:pathLst>
              <a:path w="249" h="2159">
                <a:moveTo>
                  <a:pt x="3423" y="7069"/>
                </a:moveTo>
                <a:cubicBezTo>
                  <a:pt x="3423" y="7061"/>
                  <a:pt x="3423" y="7053"/>
                  <a:pt x="3423" y="7045"/>
                </a:cubicBezTo>
                <a:cubicBezTo>
                  <a:pt x="3441" y="7075"/>
                  <a:pt x="3448" y="7102"/>
                  <a:pt x="3448" y="7169"/>
                </a:cubicBezTo>
                <a:cubicBezTo>
                  <a:pt x="3448" y="7370"/>
                  <a:pt x="3461" y="7566"/>
                  <a:pt x="3473" y="7764"/>
                </a:cubicBezTo>
                <a:cubicBezTo>
                  <a:pt x="3485" y="7954"/>
                  <a:pt x="3476" y="8145"/>
                  <a:pt x="3497" y="8334"/>
                </a:cubicBezTo>
                <a:cubicBezTo>
                  <a:pt x="3526" y="8594"/>
                  <a:pt x="3603" y="8847"/>
                  <a:pt x="3646" y="9103"/>
                </a:cubicBezTo>
                <a:cubicBezTo>
                  <a:pt x="3653" y="9145"/>
                  <a:pt x="3667" y="9191"/>
                  <a:pt x="3671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4880" y="2813040"/>
            <a:ext cx="2457360" cy="160200"/>
          </a:xfrm>
          <a:custGeom>
            <a:avLst/>
            <a:gdLst/>
            <a:ahLst/>
            <a:rect l="l" t="t" r="r" b="b"/>
            <a:pathLst>
              <a:path w="6822" h="448">
                <a:moveTo>
                  <a:pt x="1960" y="8260"/>
                </a:moveTo>
                <a:cubicBezTo>
                  <a:pt x="1995" y="8252"/>
                  <a:pt x="2041" y="8244"/>
                  <a:pt x="2084" y="8235"/>
                </a:cubicBezTo>
                <a:cubicBezTo>
                  <a:pt x="2142" y="8223"/>
                  <a:pt x="2200" y="8226"/>
                  <a:pt x="2257" y="8210"/>
                </a:cubicBezTo>
                <a:cubicBezTo>
                  <a:pt x="2320" y="8192"/>
                  <a:pt x="2385" y="8175"/>
                  <a:pt x="2456" y="8161"/>
                </a:cubicBezTo>
                <a:cubicBezTo>
                  <a:pt x="2545" y="8143"/>
                  <a:pt x="2636" y="8126"/>
                  <a:pt x="2729" y="8111"/>
                </a:cubicBezTo>
                <a:cubicBezTo>
                  <a:pt x="2845" y="8093"/>
                  <a:pt x="2960" y="8078"/>
                  <a:pt x="3076" y="8062"/>
                </a:cubicBezTo>
                <a:cubicBezTo>
                  <a:pt x="3199" y="8045"/>
                  <a:pt x="3324" y="8028"/>
                  <a:pt x="3448" y="8012"/>
                </a:cubicBezTo>
                <a:cubicBezTo>
                  <a:pt x="3611" y="7991"/>
                  <a:pt x="3783" y="7991"/>
                  <a:pt x="3944" y="7962"/>
                </a:cubicBezTo>
                <a:cubicBezTo>
                  <a:pt x="4082" y="7937"/>
                  <a:pt x="4203" y="7927"/>
                  <a:pt x="4341" y="7913"/>
                </a:cubicBezTo>
                <a:cubicBezTo>
                  <a:pt x="4481" y="7898"/>
                  <a:pt x="4620" y="7870"/>
                  <a:pt x="4762" y="7863"/>
                </a:cubicBezTo>
                <a:cubicBezTo>
                  <a:pt x="4869" y="7858"/>
                  <a:pt x="4982" y="7843"/>
                  <a:pt x="5085" y="7838"/>
                </a:cubicBezTo>
                <a:cubicBezTo>
                  <a:pt x="5200" y="7832"/>
                  <a:pt x="5322" y="7818"/>
                  <a:pt x="5432" y="7813"/>
                </a:cubicBezTo>
                <a:cubicBezTo>
                  <a:pt x="5572" y="7807"/>
                  <a:pt x="5670" y="7841"/>
                  <a:pt x="5804" y="7863"/>
                </a:cubicBezTo>
                <a:cubicBezTo>
                  <a:pt x="5942" y="7885"/>
                  <a:pt x="6086" y="7894"/>
                  <a:pt x="6226" y="7913"/>
                </a:cubicBezTo>
                <a:cubicBezTo>
                  <a:pt x="6384" y="7934"/>
                  <a:pt x="6539" y="7955"/>
                  <a:pt x="6697" y="7987"/>
                </a:cubicBezTo>
                <a:cubicBezTo>
                  <a:pt x="6897" y="8027"/>
                  <a:pt x="7093" y="8061"/>
                  <a:pt x="7293" y="8086"/>
                </a:cubicBezTo>
                <a:cubicBezTo>
                  <a:pt x="7427" y="8103"/>
                  <a:pt x="7552" y="8109"/>
                  <a:pt x="7689" y="8111"/>
                </a:cubicBezTo>
                <a:cubicBezTo>
                  <a:pt x="7808" y="8113"/>
                  <a:pt x="7926" y="8093"/>
                  <a:pt x="8037" y="8086"/>
                </a:cubicBezTo>
                <a:cubicBezTo>
                  <a:pt x="8171" y="8077"/>
                  <a:pt x="8303" y="8069"/>
                  <a:pt x="8434" y="8062"/>
                </a:cubicBezTo>
                <a:cubicBezTo>
                  <a:pt x="8549" y="8056"/>
                  <a:pt x="8666" y="8062"/>
                  <a:pt x="8781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00120" y="258912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4192" y="7218"/>
                </a:moveTo>
                <a:cubicBezTo>
                  <a:pt x="4184" y="7210"/>
                  <a:pt x="4175" y="7201"/>
                  <a:pt x="4167" y="7193"/>
                </a:cubicBezTo>
                <a:cubicBezTo>
                  <a:pt x="4167" y="7281"/>
                  <a:pt x="4179" y="7359"/>
                  <a:pt x="4192" y="7441"/>
                </a:cubicBezTo>
                <a:cubicBezTo>
                  <a:pt x="4200" y="7494"/>
                  <a:pt x="4210" y="7537"/>
                  <a:pt x="4217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6120" y="293832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4018" y="8186"/>
                </a:moveTo>
                <a:cubicBezTo>
                  <a:pt x="4026" y="8178"/>
                  <a:pt x="4035" y="8169"/>
                  <a:pt x="4043" y="8161"/>
                </a:cubicBezTo>
                <a:cubicBezTo>
                  <a:pt x="4043" y="8204"/>
                  <a:pt x="4008" y="8248"/>
                  <a:pt x="4018" y="8285"/>
                </a:cubicBezTo>
                <a:cubicBezTo>
                  <a:pt x="4036" y="8352"/>
                  <a:pt x="4082" y="8380"/>
                  <a:pt x="4142" y="8384"/>
                </a:cubicBezTo>
                <a:cubicBezTo>
                  <a:pt x="4218" y="8388"/>
                  <a:pt x="4270" y="8393"/>
                  <a:pt x="4341" y="8409"/>
                </a:cubicBezTo>
                <a:cubicBezTo>
                  <a:pt x="4385" y="8419"/>
                  <a:pt x="4412" y="8453"/>
                  <a:pt x="4390" y="8508"/>
                </a:cubicBezTo>
                <a:cubicBezTo>
                  <a:pt x="4371" y="8556"/>
                  <a:pt x="4322" y="8594"/>
                  <a:pt x="4266" y="8607"/>
                </a:cubicBezTo>
                <a:cubicBezTo>
                  <a:pt x="4208" y="8620"/>
                  <a:pt x="4176" y="8610"/>
                  <a:pt x="4118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82840" y="2946240"/>
            <a:ext cx="81000" cy="27000"/>
          </a:xfrm>
          <a:custGeom>
            <a:avLst/>
            <a:gdLst/>
            <a:ahLst/>
            <a:rect l="l" t="t" r="r" b="b"/>
            <a:pathLst>
              <a:path w="224" h="75">
                <a:moveTo>
                  <a:pt x="4316" y="8235"/>
                </a:moveTo>
                <a:cubicBezTo>
                  <a:pt x="4324" y="8219"/>
                  <a:pt x="4333" y="8202"/>
                  <a:pt x="4341" y="8186"/>
                </a:cubicBezTo>
                <a:cubicBezTo>
                  <a:pt x="4280" y="8186"/>
                  <a:pt x="4224" y="8210"/>
                  <a:pt x="4167" y="8235"/>
                </a:cubicBezTo>
                <a:cubicBezTo>
                  <a:pt x="4151" y="8243"/>
                  <a:pt x="4134" y="8252"/>
                  <a:pt x="4118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4160" y="2589120"/>
            <a:ext cx="9864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5755" y="7243"/>
                </a:moveTo>
                <a:cubicBezTo>
                  <a:pt x="5755" y="7218"/>
                  <a:pt x="5755" y="7210"/>
                  <a:pt x="5755" y="7193"/>
                </a:cubicBezTo>
                <a:cubicBezTo>
                  <a:pt x="5721" y="7238"/>
                  <a:pt x="5710" y="7282"/>
                  <a:pt x="5705" y="7342"/>
                </a:cubicBezTo>
                <a:cubicBezTo>
                  <a:pt x="5701" y="7396"/>
                  <a:pt x="5790" y="7415"/>
                  <a:pt x="5829" y="7417"/>
                </a:cubicBezTo>
                <a:cubicBezTo>
                  <a:pt x="5884" y="7420"/>
                  <a:pt x="5912" y="7405"/>
                  <a:pt x="5953" y="7441"/>
                </a:cubicBezTo>
                <a:cubicBezTo>
                  <a:pt x="5992" y="7476"/>
                  <a:pt x="5985" y="7506"/>
                  <a:pt x="5953" y="7541"/>
                </a:cubicBezTo>
                <a:cubicBezTo>
                  <a:pt x="5903" y="7595"/>
                  <a:pt x="5877" y="7590"/>
                  <a:pt x="5804" y="7590"/>
                </a:cubicBezTo>
                <a:cubicBezTo>
                  <a:pt x="5769" y="7590"/>
                  <a:pt x="5752" y="7585"/>
                  <a:pt x="5730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81160" y="2536920"/>
            <a:ext cx="54000" cy="349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5928" y="7144"/>
                </a:moveTo>
                <a:cubicBezTo>
                  <a:pt x="5928" y="7086"/>
                  <a:pt x="5928" y="7078"/>
                  <a:pt x="5928" y="7045"/>
                </a:cubicBezTo>
                <a:cubicBezTo>
                  <a:pt x="5880" y="7083"/>
                  <a:pt x="5835" y="7095"/>
                  <a:pt x="5779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98800" y="2955960"/>
            <a:ext cx="1440" cy="115920"/>
          </a:xfrm>
          <a:custGeom>
            <a:avLst/>
            <a:gdLst/>
            <a:ahLst/>
            <a:rect l="l" t="t" r="r" b="b"/>
            <a:pathLst>
              <a:path w="1" h="324">
                <a:moveTo>
                  <a:pt x="5829" y="8235"/>
                </a:moveTo>
                <a:cubicBezTo>
                  <a:pt x="5829" y="8159"/>
                  <a:pt x="5829" y="8296"/>
                  <a:pt x="5829" y="8310"/>
                </a:cubicBezTo>
                <a:cubicBezTo>
                  <a:pt x="5829" y="8384"/>
                  <a:pt x="5829" y="8459"/>
                  <a:pt x="5829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9920" y="268776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3845" y="7466"/>
                </a:moveTo>
                <a:cubicBezTo>
                  <a:pt x="3806" y="7476"/>
                  <a:pt x="3790" y="7491"/>
                  <a:pt x="3746" y="7491"/>
                </a:cubicBezTo>
                <a:cubicBezTo>
                  <a:pt x="3738" y="7491"/>
                  <a:pt x="3729" y="7491"/>
                  <a:pt x="3721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9920" y="3054240"/>
            <a:ext cx="61920" cy="9720"/>
          </a:xfrm>
          <a:custGeom>
            <a:avLst/>
            <a:gdLst/>
            <a:ahLst/>
            <a:rect l="l" t="t" r="r" b="b"/>
            <a:pathLst>
              <a:path w="174" h="26">
                <a:moveTo>
                  <a:pt x="3870" y="8508"/>
                </a:moveTo>
                <a:cubicBezTo>
                  <a:pt x="3878" y="8508"/>
                  <a:pt x="3886" y="8508"/>
                  <a:pt x="3894" y="8508"/>
                </a:cubicBezTo>
                <a:cubicBezTo>
                  <a:pt x="3831" y="8508"/>
                  <a:pt x="3770" y="8520"/>
                  <a:pt x="3721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04920" y="3581280"/>
            <a:ext cx="90360" cy="7920"/>
          </a:xfrm>
          <a:custGeom>
            <a:avLst/>
            <a:gdLst/>
            <a:ahLst/>
            <a:rect l="l" t="t" r="r" b="b"/>
            <a:pathLst>
              <a:path w="249" h="25">
                <a:moveTo>
                  <a:pt x="3597" y="9947"/>
                </a:moveTo>
                <a:cubicBezTo>
                  <a:pt x="3514" y="9947"/>
                  <a:pt x="3450" y="9952"/>
                  <a:pt x="3373" y="9971"/>
                </a:cubicBezTo>
                <a:cubicBezTo>
                  <a:pt x="3365" y="9971"/>
                  <a:pt x="3357" y="9971"/>
                  <a:pt x="3349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2643120"/>
            <a:ext cx="71280" cy="27000"/>
          </a:xfrm>
          <a:custGeom>
            <a:avLst/>
            <a:gdLst/>
            <a:ahLst/>
            <a:rect l="l" t="t" r="r" b="b"/>
            <a:pathLst>
              <a:path w="200" h="76">
                <a:moveTo>
                  <a:pt x="5383" y="7342"/>
                </a:moveTo>
                <a:cubicBezTo>
                  <a:pt x="5383" y="7350"/>
                  <a:pt x="5383" y="7359"/>
                  <a:pt x="5383" y="7367"/>
                </a:cubicBezTo>
                <a:cubicBezTo>
                  <a:pt x="5358" y="7367"/>
                  <a:pt x="5333" y="7367"/>
                  <a:pt x="5308" y="7367"/>
                </a:cubicBezTo>
                <a:cubicBezTo>
                  <a:pt x="5301" y="7389"/>
                  <a:pt x="5266" y="7406"/>
                  <a:pt x="5234" y="7417"/>
                </a:cubicBezTo>
                <a:cubicBezTo>
                  <a:pt x="5209" y="7417"/>
                  <a:pt x="5201" y="7417"/>
                  <a:pt x="5184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28880" y="3054240"/>
            <a:ext cx="63360" cy="17640"/>
          </a:xfrm>
          <a:custGeom>
            <a:avLst/>
            <a:gdLst/>
            <a:ahLst/>
            <a:rect l="l" t="t" r="r" b="b"/>
            <a:pathLst>
              <a:path w="174" h="51">
                <a:moveTo>
                  <a:pt x="5531" y="8483"/>
                </a:moveTo>
                <a:cubicBezTo>
                  <a:pt x="5486" y="8483"/>
                  <a:pt x="5472" y="8504"/>
                  <a:pt x="5432" y="8508"/>
                </a:cubicBezTo>
                <a:cubicBezTo>
                  <a:pt x="5400" y="8512"/>
                  <a:pt x="5389" y="8525"/>
                  <a:pt x="5358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55880" y="3510000"/>
            <a:ext cx="44280" cy="17280"/>
          </a:xfrm>
          <a:custGeom>
            <a:avLst/>
            <a:gdLst/>
            <a:ahLst/>
            <a:rect l="l" t="t" r="r" b="b"/>
            <a:pathLst>
              <a:path w="125" h="51">
                <a:moveTo>
                  <a:pt x="5531" y="9798"/>
                </a:moveTo>
                <a:cubicBezTo>
                  <a:pt x="5539" y="9798"/>
                  <a:pt x="5548" y="9798"/>
                  <a:pt x="5556" y="9798"/>
                </a:cubicBezTo>
                <a:cubicBezTo>
                  <a:pt x="5556" y="9746"/>
                  <a:pt x="5559" y="9748"/>
                  <a:pt x="5507" y="9748"/>
                </a:cubicBezTo>
                <a:cubicBezTo>
                  <a:pt x="5463" y="9748"/>
                  <a:pt x="5467" y="9747"/>
                  <a:pt x="5432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1840" y="4759200"/>
            <a:ext cx="2911320" cy="152640"/>
          </a:xfrm>
          <a:custGeom>
            <a:avLst/>
            <a:gdLst/>
            <a:ahLst/>
            <a:rect l="l" t="t" r="r" b="b"/>
            <a:pathLst>
              <a:path w="8088" h="423">
                <a:moveTo>
                  <a:pt x="11981" y="13221"/>
                </a:moveTo>
                <a:cubicBezTo>
                  <a:pt x="11950" y="13229"/>
                  <a:pt x="11909" y="13268"/>
                  <a:pt x="11881" y="13271"/>
                </a:cubicBezTo>
                <a:cubicBezTo>
                  <a:pt x="11267" y="13342"/>
                  <a:pt x="10588" y="13309"/>
                  <a:pt x="9971" y="13320"/>
                </a:cubicBezTo>
                <a:cubicBezTo>
                  <a:pt x="9623" y="13326"/>
                  <a:pt x="9275" y="13331"/>
                  <a:pt x="8930" y="13345"/>
                </a:cubicBezTo>
                <a:cubicBezTo>
                  <a:pt x="8641" y="13356"/>
                  <a:pt x="8346" y="13355"/>
                  <a:pt x="8062" y="13370"/>
                </a:cubicBezTo>
                <a:cubicBezTo>
                  <a:pt x="7787" y="13384"/>
                  <a:pt x="7514" y="13356"/>
                  <a:pt x="7243" y="13345"/>
                </a:cubicBezTo>
                <a:cubicBezTo>
                  <a:pt x="7083" y="13338"/>
                  <a:pt x="6930" y="13363"/>
                  <a:pt x="6772" y="13370"/>
                </a:cubicBezTo>
                <a:cubicBezTo>
                  <a:pt x="6562" y="13379"/>
                  <a:pt x="6360" y="13405"/>
                  <a:pt x="6152" y="13419"/>
                </a:cubicBezTo>
                <a:cubicBezTo>
                  <a:pt x="5948" y="13433"/>
                  <a:pt x="5758" y="13456"/>
                  <a:pt x="5556" y="13494"/>
                </a:cubicBezTo>
                <a:cubicBezTo>
                  <a:pt x="5403" y="13523"/>
                  <a:pt x="5263" y="13527"/>
                  <a:pt x="5110" y="13543"/>
                </a:cubicBezTo>
                <a:cubicBezTo>
                  <a:pt x="4970" y="13557"/>
                  <a:pt x="4832" y="13580"/>
                  <a:pt x="4688" y="13568"/>
                </a:cubicBezTo>
                <a:cubicBezTo>
                  <a:pt x="4522" y="13554"/>
                  <a:pt x="4379" y="13532"/>
                  <a:pt x="4217" y="13568"/>
                </a:cubicBezTo>
                <a:cubicBezTo>
                  <a:pt x="4143" y="13584"/>
                  <a:pt x="4068" y="13600"/>
                  <a:pt x="3994" y="13618"/>
                </a:cubicBezTo>
                <a:cubicBezTo>
                  <a:pt x="3945" y="13630"/>
                  <a:pt x="3926" y="13635"/>
                  <a:pt x="3894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9847" t="6101" r="12705" b="44754"/>
          <a:stretch/>
        </p:blipFill>
        <p:spPr>
          <a:xfrm>
            <a:off x="228600" y="152280"/>
            <a:ext cx="7620120" cy="665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786200" y="2625840"/>
            <a:ext cx="125640" cy="258480"/>
          </a:xfrm>
          <a:custGeom>
            <a:avLst/>
            <a:gdLst/>
            <a:ahLst/>
            <a:rect l="l" t="t" r="r" b="b"/>
            <a:pathLst>
              <a:path w="349" h="720">
                <a:moveTo>
                  <a:pt x="13295" y="7813"/>
                </a:moveTo>
                <a:cubicBezTo>
                  <a:pt x="13295" y="7871"/>
                  <a:pt x="13295" y="7880"/>
                  <a:pt x="13295" y="7913"/>
                </a:cubicBezTo>
                <a:cubicBezTo>
                  <a:pt x="13295" y="8045"/>
                  <a:pt x="13318" y="7810"/>
                  <a:pt x="13320" y="7789"/>
                </a:cubicBezTo>
                <a:cubicBezTo>
                  <a:pt x="13332" y="7663"/>
                  <a:pt x="13335" y="7538"/>
                  <a:pt x="13370" y="7417"/>
                </a:cubicBezTo>
                <a:cubicBezTo>
                  <a:pt x="13386" y="7361"/>
                  <a:pt x="13389" y="7314"/>
                  <a:pt x="13419" y="7293"/>
                </a:cubicBezTo>
                <a:cubicBezTo>
                  <a:pt x="13438" y="7386"/>
                  <a:pt x="13493" y="7474"/>
                  <a:pt x="13519" y="7565"/>
                </a:cubicBezTo>
                <a:cubicBezTo>
                  <a:pt x="13558" y="7698"/>
                  <a:pt x="13560" y="7835"/>
                  <a:pt x="13618" y="7962"/>
                </a:cubicBezTo>
                <a:cubicBezTo>
                  <a:pt x="13626" y="7979"/>
                  <a:pt x="13635" y="7995"/>
                  <a:pt x="13643" y="8012"/>
                </a:cubicBezTo>
              </a:path>
              <a:path w="349" h="720">
                <a:moveTo>
                  <a:pt x="13643" y="7863"/>
                </a:moveTo>
                <a:cubicBezTo>
                  <a:pt x="13605" y="7769"/>
                  <a:pt x="13614" y="7764"/>
                  <a:pt x="13519" y="7764"/>
                </a:cubicBezTo>
                <a:cubicBezTo>
                  <a:pt x="13461" y="7764"/>
                  <a:pt x="13403" y="7764"/>
                  <a:pt x="13345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54760" y="2714760"/>
            <a:ext cx="6192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4163" y="7590"/>
                </a:moveTo>
                <a:cubicBezTo>
                  <a:pt x="14180" y="7582"/>
                  <a:pt x="14196" y="7573"/>
                  <a:pt x="14213" y="7565"/>
                </a:cubicBezTo>
                <a:cubicBezTo>
                  <a:pt x="14159" y="7526"/>
                  <a:pt x="14155" y="7561"/>
                  <a:pt x="14089" y="7565"/>
                </a:cubicBezTo>
                <a:cubicBezTo>
                  <a:pt x="14072" y="7565"/>
                  <a:pt x="14056" y="7565"/>
                  <a:pt x="14039" y="7565"/>
                </a:cubicBezTo>
              </a:path>
              <a:path w="175" h="199">
                <a:moveTo>
                  <a:pt x="14139" y="7665"/>
                </a:moveTo>
                <a:cubicBezTo>
                  <a:pt x="14147" y="7665"/>
                  <a:pt x="14155" y="7665"/>
                  <a:pt x="14163" y="7665"/>
                </a:cubicBezTo>
                <a:cubicBezTo>
                  <a:pt x="14136" y="7718"/>
                  <a:pt x="14099" y="7730"/>
                  <a:pt x="14039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3240" y="2562120"/>
            <a:ext cx="608040" cy="277920"/>
          </a:xfrm>
          <a:custGeom>
            <a:avLst/>
            <a:gdLst/>
            <a:ahLst/>
            <a:rect l="l" t="t" r="r" b="b"/>
            <a:pathLst>
              <a:path w="1688" h="770">
                <a:moveTo>
                  <a:pt x="14833" y="7516"/>
                </a:moveTo>
                <a:cubicBezTo>
                  <a:pt x="14907" y="7534"/>
                  <a:pt x="14883" y="7594"/>
                  <a:pt x="14883" y="7665"/>
                </a:cubicBezTo>
                <a:cubicBezTo>
                  <a:pt x="14883" y="7745"/>
                  <a:pt x="14869" y="7823"/>
                  <a:pt x="14908" y="7888"/>
                </a:cubicBezTo>
              </a:path>
              <a:path w="1688" h="770">
                <a:moveTo>
                  <a:pt x="15081" y="7491"/>
                </a:moveTo>
                <a:cubicBezTo>
                  <a:pt x="15081" y="7474"/>
                  <a:pt x="15081" y="7458"/>
                  <a:pt x="15081" y="7441"/>
                </a:cubicBezTo>
                <a:cubicBezTo>
                  <a:pt x="15065" y="7506"/>
                  <a:pt x="15035" y="7536"/>
                  <a:pt x="15032" y="7615"/>
                </a:cubicBezTo>
                <a:cubicBezTo>
                  <a:pt x="15028" y="7723"/>
                  <a:pt x="15060" y="7787"/>
                  <a:pt x="15131" y="7863"/>
                </a:cubicBezTo>
                <a:cubicBezTo>
                  <a:pt x="15189" y="7926"/>
                  <a:pt x="15254" y="7880"/>
                  <a:pt x="15304" y="7838"/>
                </a:cubicBezTo>
                <a:cubicBezTo>
                  <a:pt x="15312" y="7830"/>
                  <a:pt x="15321" y="7821"/>
                  <a:pt x="15329" y="7813"/>
                </a:cubicBezTo>
              </a:path>
              <a:path w="1688" h="770">
                <a:moveTo>
                  <a:pt x="15304" y="7466"/>
                </a:moveTo>
                <a:cubicBezTo>
                  <a:pt x="15267" y="7409"/>
                  <a:pt x="15234" y="7401"/>
                  <a:pt x="15156" y="7417"/>
                </a:cubicBezTo>
                <a:cubicBezTo>
                  <a:pt x="15055" y="7438"/>
                  <a:pt x="14929" y="7413"/>
                  <a:pt x="14833" y="7441"/>
                </a:cubicBezTo>
                <a:cubicBezTo>
                  <a:pt x="14802" y="7450"/>
                  <a:pt x="14766" y="7470"/>
                  <a:pt x="14759" y="7491"/>
                </a:cubicBezTo>
              </a:path>
              <a:path w="1688" h="770">
                <a:moveTo>
                  <a:pt x="15652" y="7764"/>
                </a:moveTo>
                <a:cubicBezTo>
                  <a:pt x="15660" y="7780"/>
                  <a:pt x="15669" y="7797"/>
                  <a:pt x="15677" y="7813"/>
                </a:cubicBezTo>
                <a:cubicBezTo>
                  <a:pt x="15663" y="7760"/>
                  <a:pt x="15631" y="7728"/>
                  <a:pt x="15627" y="7665"/>
                </a:cubicBezTo>
                <a:cubicBezTo>
                  <a:pt x="15622" y="7580"/>
                  <a:pt x="15638" y="7578"/>
                  <a:pt x="15677" y="7516"/>
                </a:cubicBezTo>
                <a:cubicBezTo>
                  <a:pt x="15708" y="7466"/>
                  <a:pt x="15747" y="7435"/>
                  <a:pt x="15801" y="7417"/>
                </a:cubicBezTo>
                <a:cubicBezTo>
                  <a:pt x="15825" y="7417"/>
                  <a:pt x="15834" y="7417"/>
                  <a:pt x="15850" y="7417"/>
                </a:cubicBezTo>
              </a:path>
              <a:path w="1688" h="770">
                <a:moveTo>
                  <a:pt x="16148" y="7169"/>
                </a:moveTo>
                <a:cubicBezTo>
                  <a:pt x="16140" y="7169"/>
                  <a:pt x="16131" y="7169"/>
                  <a:pt x="16123" y="7169"/>
                </a:cubicBezTo>
                <a:cubicBezTo>
                  <a:pt x="16135" y="7120"/>
                  <a:pt x="16147" y="7119"/>
                  <a:pt x="16197" y="7119"/>
                </a:cubicBezTo>
                <a:cubicBezTo>
                  <a:pt x="16237" y="7119"/>
                  <a:pt x="16270" y="7154"/>
                  <a:pt x="16272" y="7193"/>
                </a:cubicBezTo>
                <a:cubicBezTo>
                  <a:pt x="16275" y="7255"/>
                  <a:pt x="16247" y="7341"/>
                  <a:pt x="16222" y="7392"/>
                </a:cubicBezTo>
                <a:cubicBezTo>
                  <a:pt x="16203" y="7430"/>
                  <a:pt x="16197" y="7443"/>
                  <a:pt x="16197" y="7491"/>
                </a:cubicBezTo>
                <a:cubicBezTo>
                  <a:pt x="16259" y="7491"/>
                  <a:pt x="16289" y="7459"/>
                  <a:pt x="16346" y="7441"/>
                </a:cubicBezTo>
                <a:cubicBezTo>
                  <a:pt x="16396" y="7425"/>
                  <a:pt x="16429" y="7465"/>
                  <a:pt x="16446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27760" y="3133800"/>
            <a:ext cx="98280" cy="9036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4188" y="8731"/>
                </a:moveTo>
                <a:cubicBezTo>
                  <a:pt x="14213" y="8731"/>
                  <a:pt x="14221" y="8731"/>
                  <a:pt x="14238" y="8731"/>
                </a:cubicBezTo>
                <a:cubicBezTo>
                  <a:pt x="14225" y="8693"/>
                  <a:pt x="14208" y="8706"/>
                  <a:pt x="14163" y="8706"/>
                </a:cubicBezTo>
                <a:cubicBezTo>
                  <a:pt x="14102" y="8706"/>
                  <a:pt x="14066" y="8740"/>
                  <a:pt x="14015" y="8756"/>
                </a:cubicBezTo>
                <a:cubicBezTo>
                  <a:pt x="13975" y="8768"/>
                  <a:pt x="13975" y="8764"/>
                  <a:pt x="13965" y="8806"/>
                </a:cubicBezTo>
              </a:path>
              <a:path w="274" h="249">
                <a:moveTo>
                  <a:pt x="14114" y="8855"/>
                </a:moveTo>
                <a:cubicBezTo>
                  <a:pt x="14176" y="8861"/>
                  <a:pt x="14221" y="8855"/>
                  <a:pt x="14238" y="8905"/>
                </a:cubicBezTo>
                <a:cubicBezTo>
                  <a:pt x="14205" y="8929"/>
                  <a:pt x="14157" y="8944"/>
                  <a:pt x="14114" y="8954"/>
                </a:cubicBezTo>
                <a:cubicBezTo>
                  <a:pt x="14106" y="8954"/>
                  <a:pt x="14097" y="8954"/>
                  <a:pt x="1408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5160" y="3054240"/>
            <a:ext cx="189000" cy="18756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5007" y="8582"/>
                </a:moveTo>
                <a:cubicBezTo>
                  <a:pt x="15007" y="8558"/>
                  <a:pt x="15007" y="8550"/>
                  <a:pt x="15032" y="8558"/>
                </a:cubicBezTo>
                <a:cubicBezTo>
                  <a:pt x="15032" y="8702"/>
                  <a:pt x="15026" y="8843"/>
                  <a:pt x="15056" y="8979"/>
                </a:cubicBezTo>
                <a:cubicBezTo>
                  <a:pt x="15056" y="8987"/>
                  <a:pt x="15056" y="8996"/>
                  <a:pt x="15056" y="9004"/>
                </a:cubicBezTo>
              </a:path>
              <a:path w="522" h="522">
                <a:moveTo>
                  <a:pt x="15205" y="8607"/>
                </a:moveTo>
                <a:cubicBezTo>
                  <a:pt x="15225" y="8567"/>
                  <a:pt x="15224" y="8551"/>
                  <a:pt x="15255" y="8558"/>
                </a:cubicBezTo>
                <a:cubicBezTo>
                  <a:pt x="15242" y="8620"/>
                  <a:pt x="15208" y="8665"/>
                  <a:pt x="15205" y="8731"/>
                </a:cubicBezTo>
                <a:cubicBezTo>
                  <a:pt x="15202" y="8808"/>
                  <a:pt x="15193" y="8913"/>
                  <a:pt x="15280" y="8954"/>
                </a:cubicBezTo>
                <a:cubicBezTo>
                  <a:pt x="15331" y="8978"/>
                  <a:pt x="15395" y="8936"/>
                  <a:pt x="15429" y="8905"/>
                </a:cubicBezTo>
                <a:cubicBezTo>
                  <a:pt x="15437" y="8897"/>
                  <a:pt x="15445" y="8888"/>
                  <a:pt x="15453" y="8880"/>
                </a:cubicBezTo>
              </a:path>
              <a:path w="522" h="522">
                <a:moveTo>
                  <a:pt x="15379" y="8483"/>
                </a:moveTo>
                <a:cubicBezTo>
                  <a:pt x="15421" y="8483"/>
                  <a:pt x="15346" y="8483"/>
                  <a:pt x="15304" y="8483"/>
                </a:cubicBezTo>
                <a:cubicBezTo>
                  <a:pt x="15226" y="8483"/>
                  <a:pt x="15159" y="8522"/>
                  <a:pt x="15081" y="8533"/>
                </a:cubicBezTo>
                <a:cubicBezTo>
                  <a:pt x="15034" y="8540"/>
                  <a:pt x="14980" y="8533"/>
                  <a:pt x="14932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32640" y="2894040"/>
            <a:ext cx="804600" cy="330120"/>
          </a:xfrm>
          <a:custGeom>
            <a:avLst/>
            <a:gdLst/>
            <a:ahLst/>
            <a:rect l="l" t="t" r="r" b="b"/>
            <a:pathLst>
              <a:path w="2233" h="918">
                <a:moveTo>
                  <a:pt x="16148" y="8260"/>
                </a:moveTo>
                <a:cubicBezTo>
                  <a:pt x="16170" y="8238"/>
                  <a:pt x="16175" y="8229"/>
                  <a:pt x="16197" y="8235"/>
                </a:cubicBezTo>
                <a:cubicBezTo>
                  <a:pt x="16127" y="8292"/>
                  <a:pt x="16073" y="8326"/>
                  <a:pt x="16024" y="8409"/>
                </a:cubicBezTo>
                <a:cubicBezTo>
                  <a:pt x="15966" y="8509"/>
                  <a:pt x="15909" y="8662"/>
                  <a:pt x="15925" y="8781"/>
                </a:cubicBezTo>
                <a:cubicBezTo>
                  <a:pt x="15933" y="8842"/>
                  <a:pt x="15963" y="8885"/>
                  <a:pt x="15999" y="8930"/>
                </a:cubicBezTo>
              </a:path>
              <a:path w="2233" h="918">
                <a:moveTo>
                  <a:pt x="16396" y="8359"/>
                </a:moveTo>
                <a:cubicBezTo>
                  <a:pt x="16404" y="8343"/>
                  <a:pt x="16413" y="8326"/>
                  <a:pt x="16421" y="8310"/>
                </a:cubicBezTo>
                <a:cubicBezTo>
                  <a:pt x="16454" y="8364"/>
                  <a:pt x="16440" y="8442"/>
                  <a:pt x="16421" y="8508"/>
                </a:cubicBezTo>
                <a:cubicBezTo>
                  <a:pt x="16399" y="8585"/>
                  <a:pt x="16396" y="8649"/>
                  <a:pt x="16396" y="8731"/>
                </a:cubicBezTo>
                <a:cubicBezTo>
                  <a:pt x="16396" y="8785"/>
                  <a:pt x="16449" y="8796"/>
                  <a:pt x="16495" y="8781"/>
                </a:cubicBezTo>
                <a:cubicBezTo>
                  <a:pt x="16542" y="8765"/>
                  <a:pt x="16603" y="8739"/>
                  <a:pt x="16644" y="8731"/>
                </a:cubicBezTo>
                <a:cubicBezTo>
                  <a:pt x="16662" y="8727"/>
                  <a:pt x="16828" y="8731"/>
                  <a:pt x="16768" y="8731"/>
                </a:cubicBezTo>
              </a:path>
              <a:path w="2233" h="918">
                <a:moveTo>
                  <a:pt x="16570" y="8632"/>
                </a:moveTo>
                <a:cubicBezTo>
                  <a:pt x="16535" y="8679"/>
                  <a:pt x="16545" y="8719"/>
                  <a:pt x="16545" y="8781"/>
                </a:cubicBezTo>
                <a:cubicBezTo>
                  <a:pt x="16545" y="8846"/>
                  <a:pt x="16577" y="8878"/>
                  <a:pt x="16594" y="8930"/>
                </a:cubicBezTo>
                <a:cubicBezTo>
                  <a:pt x="16594" y="8938"/>
                  <a:pt x="16594" y="8946"/>
                  <a:pt x="16594" y="8954"/>
                </a:cubicBezTo>
              </a:path>
              <a:path w="2233" h="918">
                <a:moveTo>
                  <a:pt x="16991" y="8830"/>
                </a:moveTo>
                <a:cubicBezTo>
                  <a:pt x="16983" y="8847"/>
                  <a:pt x="16974" y="8863"/>
                  <a:pt x="16966" y="8880"/>
                </a:cubicBezTo>
                <a:cubicBezTo>
                  <a:pt x="16941" y="8846"/>
                  <a:pt x="16927" y="8803"/>
                  <a:pt x="16942" y="8756"/>
                </a:cubicBezTo>
                <a:cubicBezTo>
                  <a:pt x="16954" y="8719"/>
                  <a:pt x="16996" y="8620"/>
                  <a:pt x="17041" y="8607"/>
                </a:cubicBezTo>
                <a:cubicBezTo>
                  <a:pt x="17089" y="8593"/>
                  <a:pt x="17162" y="8607"/>
                  <a:pt x="17214" y="8607"/>
                </a:cubicBezTo>
              </a:path>
              <a:path w="2233" h="918">
                <a:moveTo>
                  <a:pt x="17214" y="8210"/>
                </a:moveTo>
                <a:cubicBezTo>
                  <a:pt x="17222" y="8186"/>
                  <a:pt x="17275" y="8168"/>
                  <a:pt x="17314" y="8161"/>
                </a:cubicBezTo>
                <a:cubicBezTo>
                  <a:pt x="17401" y="8146"/>
                  <a:pt x="17470" y="8181"/>
                  <a:pt x="17537" y="8235"/>
                </a:cubicBezTo>
                <a:cubicBezTo>
                  <a:pt x="17633" y="8312"/>
                  <a:pt x="17632" y="8446"/>
                  <a:pt x="17636" y="8558"/>
                </a:cubicBezTo>
                <a:cubicBezTo>
                  <a:pt x="17639" y="8657"/>
                  <a:pt x="17650" y="8770"/>
                  <a:pt x="17587" y="8855"/>
                </a:cubicBezTo>
                <a:cubicBezTo>
                  <a:pt x="17556" y="8897"/>
                  <a:pt x="17530" y="8919"/>
                  <a:pt x="17487" y="8930"/>
                </a:cubicBezTo>
              </a:path>
              <a:path w="2233" h="918">
                <a:moveTo>
                  <a:pt x="17835" y="8136"/>
                </a:moveTo>
                <a:cubicBezTo>
                  <a:pt x="17810" y="8136"/>
                  <a:pt x="17802" y="8136"/>
                  <a:pt x="17785" y="8136"/>
                </a:cubicBezTo>
                <a:cubicBezTo>
                  <a:pt x="17797" y="8088"/>
                  <a:pt x="17832" y="8054"/>
                  <a:pt x="17884" y="8037"/>
                </a:cubicBezTo>
                <a:cubicBezTo>
                  <a:pt x="17921" y="8025"/>
                  <a:pt x="17968" y="8052"/>
                  <a:pt x="17983" y="8086"/>
                </a:cubicBezTo>
                <a:cubicBezTo>
                  <a:pt x="17998" y="8120"/>
                  <a:pt x="17919" y="8180"/>
                  <a:pt x="17909" y="8210"/>
                </a:cubicBezTo>
                <a:cubicBezTo>
                  <a:pt x="17909" y="8218"/>
                  <a:pt x="17909" y="8227"/>
                  <a:pt x="17909" y="8235"/>
                </a:cubicBezTo>
                <a:cubicBezTo>
                  <a:pt x="17974" y="8235"/>
                  <a:pt x="18020" y="8215"/>
                  <a:pt x="18083" y="8210"/>
                </a:cubicBezTo>
                <a:cubicBezTo>
                  <a:pt x="18116" y="8210"/>
                  <a:pt x="18132" y="8210"/>
                  <a:pt x="18157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18040" y="3510000"/>
            <a:ext cx="125640" cy="61920"/>
          </a:xfrm>
          <a:custGeom>
            <a:avLst/>
            <a:gdLst/>
            <a:ahLst/>
            <a:rect l="l" t="t" r="r" b="b"/>
            <a:pathLst>
              <a:path w="349" h="175">
                <a:moveTo>
                  <a:pt x="14263" y="9748"/>
                </a:moveTo>
                <a:cubicBezTo>
                  <a:pt x="14271" y="9748"/>
                  <a:pt x="14280" y="9748"/>
                  <a:pt x="14288" y="9748"/>
                </a:cubicBezTo>
                <a:cubicBezTo>
                  <a:pt x="14272" y="9796"/>
                  <a:pt x="14239" y="9780"/>
                  <a:pt x="14188" y="9798"/>
                </a:cubicBezTo>
                <a:cubicBezTo>
                  <a:pt x="14125" y="9821"/>
                  <a:pt x="14084" y="9823"/>
                  <a:pt x="14015" y="9823"/>
                </a:cubicBezTo>
                <a:cubicBezTo>
                  <a:pt x="13973" y="9823"/>
                  <a:pt x="13965" y="9823"/>
                  <a:pt x="13940" y="9823"/>
                </a:cubicBezTo>
              </a:path>
              <a:path w="349" h="175">
                <a:moveTo>
                  <a:pt x="14188" y="9897"/>
                </a:moveTo>
                <a:cubicBezTo>
                  <a:pt x="14234" y="9931"/>
                  <a:pt x="14250" y="9922"/>
                  <a:pt x="14188" y="9922"/>
                </a:cubicBezTo>
                <a:cubicBezTo>
                  <a:pt x="14138" y="9922"/>
                  <a:pt x="14089" y="9922"/>
                  <a:pt x="14039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57880" y="3419640"/>
            <a:ext cx="866880" cy="206280"/>
          </a:xfrm>
          <a:custGeom>
            <a:avLst/>
            <a:gdLst/>
            <a:ahLst/>
            <a:rect l="l" t="t" r="r" b="b"/>
            <a:pathLst>
              <a:path w="2407" h="572">
                <a:moveTo>
                  <a:pt x="14883" y="9550"/>
                </a:moveTo>
                <a:cubicBezTo>
                  <a:pt x="14925" y="9564"/>
                  <a:pt x="14908" y="9598"/>
                  <a:pt x="14908" y="9649"/>
                </a:cubicBezTo>
                <a:cubicBezTo>
                  <a:pt x="14908" y="9781"/>
                  <a:pt x="14908" y="9914"/>
                  <a:pt x="14908" y="10046"/>
                </a:cubicBezTo>
              </a:path>
              <a:path w="2407" h="572">
                <a:moveTo>
                  <a:pt x="15354" y="9575"/>
                </a:moveTo>
                <a:cubicBezTo>
                  <a:pt x="15390" y="9548"/>
                  <a:pt x="15393" y="9558"/>
                  <a:pt x="15404" y="9525"/>
                </a:cubicBezTo>
                <a:cubicBezTo>
                  <a:pt x="15376" y="9562"/>
                  <a:pt x="15354" y="9607"/>
                  <a:pt x="15329" y="9649"/>
                </a:cubicBezTo>
                <a:cubicBezTo>
                  <a:pt x="15289" y="9715"/>
                  <a:pt x="15266" y="9797"/>
                  <a:pt x="15255" y="9872"/>
                </a:cubicBezTo>
                <a:cubicBezTo>
                  <a:pt x="15245" y="9942"/>
                  <a:pt x="15257" y="9994"/>
                  <a:pt x="15304" y="10046"/>
                </a:cubicBezTo>
                <a:cubicBezTo>
                  <a:pt x="15332" y="10077"/>
                  <a:pt x="15411" y="10083"/>
                  <a:pt x="15453" y="10071"/>
                </a:cubicBezTo>
                <a:cubicBezTo>
                  <a:pt x="15499" y="10057"/>
                  <a:pt x="15550" y="10018"/>
                  <a:pt x="15553" y="9971"/>
                </a:cubicBezTo>
                <a:cubicBezTo>
                  <a:pt x="15558" y="9907"/>
                  <a:pt x="15513" y="9867"/>
                  <a:pt x="15453" y="9847"/>
                </a:cubicBezTo>
                <a:cubicBezTo>
                  <a:pt x="15398" y="9828"/>
                  <a:pt x="15368" y="9859"/>
                  <a:pt x="15329" y="9872"/>
                </a:cubicBezTo>
                <a:cubicBezTo>
                  <a:pt x="15321" y="9872"/>
                  <a:pt x="15312" y="9872"/>
                  <a:pt x="15304" y="9872"/>
                </a:cubicBezTo>
              </a:path>
              <a:path w="2407" h="572">
                <a:moveTo>
                  <a:pt x="15850" y="9897"/>
                </a:moveTo>
                <a:cubicBezTo>
                  <a:pt x="15840" y="9920"/>
                  <a:pt x="15825" y="10024"/>
                  <a:pt x="15825" y="9971"/>
                </a:cubicBezTo>
                <a:cubicBezTo>
                  <a:pt x="15825" y="9910"/>
                  <a:pt x="15812" y="9845"/>
                  <a:pt x="15850" y="9798"/>
                </a:cubicBezTo>
                <a:cubicBezTo>
                  <a:pt x="15870" y="9773"/>
                  <a:pt x="15943" y="9756"/>
                  <a:pt x="15974" y="9748"/>
                </a:cubicBezTo>
                <a:cubicBezTo>
                  <a:pt x="16037" y="9732"/>
                  <a:pt x="16070" y="9762"/>
                  <a:pt x="16123" y="9723"/>
                </a:cubicBezTo>
              </a:path>
              <a:path w="2407" h="572">
                <a:moveTo>
                  <a:pt x="16321" y="9624"/>
                </a:moveTo>
                <a:cubicBezTo>
                  <a:pt x="16313" y="9624"/>
                  <a:pt x="16305" y="9624"/>
                  <a:pt x="16297" y="9624"/>
                </a:cubicBezTo>
                <a:cubicBezTo>
                  <a:pt x="16307" y="9583"/>
                  <a:pt x="16325" y="9555"/>
                  <a:pt x="16371" y="9550"/>
                </a:cubicBezTo>
                <a:cubicBezTo>
                  <a:pt x="16395" y="9547"/>
                  <a:pt x="16422" y="9550"/>
                  <a:pt x="16446" y="9550"/>
                </a:cubicBezTo>
                <a:cubicBezTo>
                  <a:pt x="16446" y="9613"/>
                  <a:pt x="16439" y="9647"/>
                  <a:pt x="16421" y="9699"/>
                </a:cubicBezTo>
                <a:cubicBezTo>
                  <a:pt x="16412" y="9726"/>
                  <a:pt x="16403" y="9745"/>
                  <a:pt x="16396" y="9773"/>
                </a:cubicBezTo>
                <a:cubicBezTo>
                  <a:pt x="16442" y="9773"/>
                  <a:pt x="16454" y="9753"/>
                  <a:pt x="16495" y="9748"/>
                </a:cubicBezTo>
                <a:cubicBezTo>
                  <a:pt x="16535" y="9743"/>
                  <a:pt x="16549" y="9723"/>
                  <a:pt x="16594" y="9723"/>
                </a:cubicBezTo>
              </a:path>
              <a:path w="2407" h="572">
                <a:moveTo>
                  <a:pt x="16842" y="9674"/>
                </a:moveTo>
                <a:cubicBezTo>
                  <a:pt x="16842" y="9666"/>
                  <a:pt x="16842" y="9657"/>
                  <a:pt x="16842" y="9649"/>
                </a:cubicBezTo>
                <a:cubicBezTo>
                  <a:pt x="16875" y="9693"/>
                  <a:pt x="16867" y="9715"/>
                  <a:pt x="16867" y="9773"/>
                </a:cubicBezTo>
                <a:cubicBezTo>
                  <a:pt x="16867" y="9823"/>
                  <a:pt x="16867" y="9872"/>
                  <a:pt x="16867" y="9922"/>
                </a:cubicBezTo>
              </a:path>
              <a:path w="2407" h="572">
                <a:moveTo>
                  <a:pt x="17115" y="9500"/>
                </a:moveTo>
                <a:cubicBezTo>
                  <a:pt x="17104" y="9542"/>
                  <a:pt x="17074" y="9576"/>
                  <a:pt x="17066" y="9624"/>
                </a:cubicBezTo>
                <a:cubicBezTo>
                  <a:pt x="17055" y="9687"/>
                  <a:pt x="17052" y="9800"/>
                  <a:pt x="17090" y="9847"/>
                </a:cubicBezTo>
                <a:cubicBezTo>
                  <a:pt x="17112" y="9875"/>
                  <a:pt x="17179" y="9887"/>
                  <a:pt x="17214" y="9872"/>
                </a:cubicBezTo>
                <a:cubicBezTo>
                  <a:pt x="17238" y="9862"/>
                  <a:pt x="17270" y="9816"/>
                  <a:pt x="17289" y="9798"/>
                </a:cubicBezTo>
              </a:path>
              <a:path w="2407" h="572">
                <a:moveTo>
                  <a:pt x="17264" y="9575"/>
                </a:moveTo>
                <a:cubicBezTo>
                  <a:pt x="17246" y="9520"/>
                  <a:pt x="17229" y="9562"/>
                  <a:pt x="17190" y="9575"/>
                </a:cubicBezTo>
                <a:cubicBezTo>
                  <a:pt x="17132" y="9595"/>
                  <a:pt x="17080" y="9599"/>
                  <a:pt x="17016" y="9599"/>
                </a:cubicBezTo>
                <a:cubicBezTo>
                  <a:pt x="16947" y="9599"/>
                  <a:pt x="16888" y="9624"/>
                  <a:pt x="16818" y="9624"/>
                </a:cubicBezTo>
                <a:cubicBezTo>
                  <a:pt x="16793" y="9624"/>
                  <a:pt x="16785" y="9624"/>
                  <a:pt x="16793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98960" y="4429080"/>
            <a:ext cx="795240" cy="268200"/>
          </a:xfrm>
          <a:custGeom>
            <a:avLst/>
            <a:gdLst/>
            <a:ahLst/>
            <a:rect l="l" t="t" r="r" b="b"/>
            <a:pathLst>
              <a:path w="2209" h="745">
                <a:moveTo>
                  <a:pt x="11385" y="12502"/>
                </a:moveTo>
                <a:cubicBezTo>
                  <a:pt x="11405" y="12461"/>
                  <a:pt x="11414" y="12455"/>
                  <a:pt x="11410" y="12427"/>
                </a:cubicBezTo>
                <a:cubicBezTo>
                  <a:pt x="11399" y="12512"/>
                  <a:pt x="11385" y="12584"/>
                  <a:pt x="11385" y="12675"/>
                </a:cubicBezTo>
                <a:cubicBezTo>
                  <a:pt x="11385" y="12766"/>
                  <a:pt x="11385" y="12857"/>
                  <a:pt x="11385" y="12948"/>
                </a:cubicBezTo>
              </a:path>
              <a:path w="2209" h="745">
                <a:moveTo>
                  <a:pt x="11807" y="12378"/>
                </a:moveTo>
                <a:cubicBezTo>
                  <a:pt x="11816" y="12364"/>
                  <a:pt x="11917" y="12267"/>
                  <a:pt x="11857" y="12328"/>
                </a:cubicBezTo>
                <a:cubicBezTo>
                  <a:pt x="11797" y="12388"/>
                  <a:pt x="11762" y="12473"/>
                  <a:pt x="11733" y="12551"/>
                </a:cubicBezTo>
                <a:cubicBezTo>
                  <a:pt x="11695" y="12655"/>
                  <a:pt x="11690" y="12793"/>
                  <a:pt x="11733" y="12898"/>
                </a:cubicBezTo>
                <a:cubicBezTo>
                  <a:pt x="11760" y="12962"/>
                  <a:pt x="11846" y="13073"/>
                  <a:pt x="11931" y="13047"/>
                </a:cubicBezTo>
                <a:cubicBezTo>
                  <a:pt x="11983" y="13031"/>
                  <a:pt x="11997" y="12915"/>
                  <a:pt x="11981" y="12874"/>
                </a:cubicBezTo>
                <a:cubicBezTo>
                  <a:pt x="11956" y="12849"/>
                  <a:pt x="11948" y="12841"/>
                  <a:pt x="11931" y="12824"/>
                </a:cubicBezTo>
                <a:cubicBezTo>
                  <a:pt x="11884" y="12862"/>
                  <a:pt x="11829" y="12885"/>
                  <a:pt x="11782" y="12923"/>
                </a:cubicBezTo>
              </a:path>
              <a:path w="2209" h="745">
                <a:moveTo>
                  <a:pt x="12254" y="12973"/>
                </a:moveTo>
                <a:cubicBezTo>
                  <a:pt x="12246" y="12981"/>
                  <a:pt x="12237" y="12990"/>
                  <a:pt x="12229" y="12998"/>
                </a:cubicBezTo>
                <a:cubicBezTo>
                  <a:pt x="12218" y="12943"/>
                  <a:pt x="12187" y="12885"/>
                  <a:pt x="12204" y="12824"/>
                </a:cubicBezTo>
                <a:cubicBezTo>
                  <a:pt x="12227" y="12740"/>
                  <a:pt x="12241" y="12731"/>
                  <a:pt x="12303" y="12675"/>
                </a:cubicBezTo>
                <a:cubicBezTo>
                  <a:pt x="12359" y="12625"/>
                  <a:pt x="12398" y="12659"/>
                  <a:pt x="12452" y="12675"/>
                </a:cubicBezTo>
                <a:cubicBezTo>
                  <a:pt x="12460" y="12675"/>
                  <a:pt x="12469" y="12675"/>
                  <a:pt x="12477" y="12675"/>
                </a:cubicBezTo>
              </a:path>
              <a:path w="2209" h="745">
                <a:moveTo>
                  <a:pt x="12675" y="12576"/>
                </a:moveTo>
                <a:cubicBezTo>
                  <a:pt x="12633" y="12544"/>
                  <a:pt x="12626" y="12557"/>
                  <a:pt x="12626" y="12502"/>
                </a:cubicBezTo>
                <a:cubicBezTo>
                  <a:pt x="12626" y="12456"/>
                  <a:pt x="12683" y="12435"/>
                  <a:pt x="12725" y="12427"/>
                </a:cubicBezTo>
                <a:cubicBezTo>
                  <a:pt x="12772" y="12419"/>
                  <a:pt x="12827" y="12428"/>
                  <a:pt x="12849" y="12477"/>
                </a:cubicBezTo>
                <a:cubicBezTo>
                  <a:pt x="12873" y="12532"/>
                  <a:pt x="12833" y="12567"/>
                  <a:pt x="12799" y="12601"/>
                </a:cubicBezTo>
                <a:cubicBezTo>
                  <a:pt x="12773" y="12627"/>
                  <a:pt x="12754" y="12665"/>
                  <a:pt x="12750" y="12700"/>
                </a:cubicBezTo>
                <a:cubicBezTo>
                  <a:pt x="12750" y="12708"/>
                  <a:pt x="12750" y="12717"/>
                  <a:pt x="12750" y="12725"/>
                </a:cubicBezTo>
                <a:cubicBezTo>
                  <a:pt x="12828" y="12725"/>
                  <a:pt x="12910" y="12712"/>
                  <a:pt x="12973" y="12750"/>
                </a:cubicBezTo>
              </a:path>
              <a:path w="2209" h="745">
                <a:moveTo>
                  <a:pt x="13171" y="12675"/>
                </a:moveTo>
                <a:cubicBezTo>
                  <a:pt x="13171" y="12659"/>
                  <a:pt x="13171" y="12642"/>
                  <a:pt x="13171" y="12626"/>
                </a:cubicBezTo>
                <a:cubicBezTo>
                  <a:pt x="13160" y="12668"/>
                  <a:pt x="13130" y="12702"/>
                  <a:pt x="13122" y="12750"/>
                </a:cubicBezTo>
                <a:cubicBezTo>
                  <a:pt x="13113" y="12804"/>
                  <a:pt x="13122" y="12868"/>
                  <a:pt x="13122" y="12923"/>
                </a:cubicBezTo>
              </a:path>
              <a:path w="2209" h="745">
                <a:moveTo>
                  <a:pt x="13444" y="12502"/>
                </a:moveTo>
                <a:cubicBezTo>
                  <a:pt x="13436" y="12494"/>
                  <a:pt x="13427" y="12485"/>
                  <a:pt x="13419" y="12477"/>
                </a:cubicBezTo>
                <a:cubicBezTo>
                  <a:pt x="13392" y="12542"/>
                  <a:pt x="13387" y="12607"/>
                  <a:pt x="13370" y="12675"/>
                </a:cubicBezTo>
                <a:cubicBezTo>
                  <a:pt x="13346" y="12771"/>
                  <a:pt x="13336" y="12811"/>
                  <a:pt x="13395" y="12898"/>
                </a:cubicBezTo>
                <a:cubicBezTo>
                  <a:pt x="13434" y="12955"/>
                  <a:pt x="13495" y="12962"/>
                  <a:pt x="13543" y="12923"/>
                </a:cubicBezTo>
                <a:cubicBezTo>
                  <a:pt x="13568" y="12898"/>
                  <a:pt x="13576" y="12890"/>
                  <a:pt x="13593" y="12874"/>
                </a:cubicBezTo>
              </a:path>
              <a:path w="2209" h="745">
                <a:moveTo>
                  <a:pt x="13593" y="12551"/>
                </a:moveTo>
                <a:cubicBezTo>
                  <a:pt x="13566" y="12531"/>
                  <a:pt x="13533" y="12512"/>
                  <a:pt x="13494" y="12526"/>
                </a:cubicBezTo>
                <a:cubicBezTo>
                  <a:pt x="13404" y="12558"/>
                  <a:pt x="13318" y="12551"/>
                  <a:pt x="13221" y="12551"/>
                </a:cubicBezTo>
                <a:cubicBezTo>
                  <a:pt x="13171" y="12551"/>
                  <a:pt x="13155" y="12551"/>
                  <a:pt x="13122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89680" y="4554360"/>
            <a:ext cx="152280" cy="9720"/>
          </a:xfrm>
          <a:custGeom>
            <a:avLst/>
            <a:gdLst/>
            <a:ahLst/>
            <a:rect l="l" t="t" r="r" b="b"/>
            <a:pathLst>
              <a:path w="422" h="26">
                <a:moveTo>
                  <a:pt x="14139" y="12675"/>
                </a:moveTo>
                <a:cubicBezTo>
                  <a:pt x="14189" y="12675"/>
                  <a:pt x="14197" y="12664"/>
                  <a:pt x="14238" y="12650"/>
                </a:cubicBezTo>
                <a:cubicBezTo>
                  <a:pt x="14320" y="12623"/>
                  <a:pt x="14436" y="12658"/>
                  <a:pt x="14511" y="12675"/>
                </a:cubicBezTo>
                <a:cubicBezTo>
                  <a:pt x="14536" y="12675"/>
                  <a:pt x="14544" y="12675"/>
                  <a:pt x="14560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73800" y="4419720"/>
            <a:ext cx="536400" cy="206280"/>
          </a:xfrm>
          <a:custGeom>
            <a:avLst/>
            <a:gdLst/>
            <a:ahLst/>
            <a:rect l="l" t="t" r="r" b="b"/>
            <a:pathLst>
              <a:path w="1490" h="572">
                <a:moveTo>
                  <a:pt x="15205" y="12551"/>
                </a:moveTo>
                <a:cubicBezTo>
                  <a:pt x="15213" y="12543"/>
                  <a:pt x="15222" y="12534"/>
                  <a:pt x="15230" y="12526"/>
                </a:cubicBezTo>
                <a:cubicBezTo>
                  <a:pt x="15230" y="12634"/>
                  <a:pt x="15230" y="12741"/>
                  <a:pt x="15230" y="12849"/>
                </a:cubicBezTo>
              </a:path>
              <a:path w="1490" h="572">
                <a:moveTo>
                  <a:pt x="15404" y="12477"/>
                </a:moveTo>
                <a:cubicBezTo>
                  <a:pt x="15412" y="12469"/>
                  <a:pt x="15421" y="12460"/>
                  <a:pt x="15429" y="12452"/>
                </a:cubicBezTo>
                <a:cubicBezTo>
                  <a:pt x="15429" y="12538"/>
                  <a:pt x="15420" y="12620"/>
                  <a:pt x="15453" y="12700"/>
                </a:cubicBezTo>
                <a:cubicBezTo>
                  <a:pt x="15480" y="12766"/>
                  <a:pt x="15537" y="12795"/>
                  <a:pt x="15602" y="12799"/>
                </a:cubicBezTo>
                <a:cubicBezTo>
                  <a:pt x="15658" y="12802"/>
                  <a:pt x="15677" y="12777"/>
                  <a:pt x="15726" y="12750"/>
                </a:cubicBezTo>
              </a:path>
              <a:path w="1490" h="572">
                <a:moveTo>
                  <a:pt x="15677" y="12502"/>
                </a:moveTo>
                <a:cubicBezTo>
                  <a:pt x="15664" y="12462"/>
                  <a:pt x="15628" y="12477"/>
                  <a:pt x="15577" y="12477"/>
                </a:cubicBezTo>
                <a:cubicBezTo>
                  <a:pt x="15457" y="12477"/>
                  <a:pt x="15335" y="12470"/>
                  <a:pt x="15230" y="12502"/>
                </a:cubicBezTo>
                <a:cubicBezTo>
                  <a:pt x="15222" y="12502"/>
                  <a:pt x="15213" y="12502"/>
                  <a:pt x="15205" y="12502"/>
                </a:cubicBezTo>
              </a:path>
              <a:path w="1490" h="572">
                <a:moveTo>
                  <a:pt x="15825" y="12725"/>
                </a:moveTo>
                <a:cubicBezTo>
                  <a:pt x="15833" y="12733"/>
                  <a:pt x="15842" y="12742"/>
                  <a:pt x="15850" y="12750"/>
                </a:cubicBezTo>
                <a:cubicBezTo>
                  <a:pt x="15850" y="12674"/>
                  <a:pt x="15854" y="12615"/>
                  <a:pt x="15875" y="12551"/>
                </a:cubicBezTo>
                <a:cubicBezTo>
                  <a:pt x="15891" y="12502"/>
                  <a:pt x="15915" y="12483"/>
                  <a:pt x="15974" y="12477"/>
                </a:cubicBezTo>
                <a:cubicBezTo>
                  <a:pt x="16014" y="12473"/>
                  <a:pt x="16057" y="12477"/>
                  <a:pt x="16098" y="12477"/>
                </a:cubicBezTo>
              </a:path>
              <a:path w="1490" h="572">
                <a:moveTo>
                  <a:pt x="16297" y="12378"/>
                </a:moveTo>
                <a:cubicBezTo>
                  <a:pt x="16272" y="12378"/>
                  <a:pt x="16264" y="12378"/>
                  <a:pt x="16272" y="12353"/>
                </a:cubicBezTo>
                <a:cubicBezTo>
                  <a:pt x="16275" y="12345"/>
                  <a:pt x="16313" y="12283"/>
                  <a:pt x="16321" y="12278"/>
                </a:cubicBezTo>
                <a:cubicBezTo>
                  <a:pt x="16337" y="12267"/>
                  <a:pt x="16401" y="12278"/>
                  <a:pt x="16421" y="12278"/>
                </a:cubicBezTo>
                <a:cubicBezTo>
                  <a:pt x="16421" y="12346"/>
                  <a:pt x="16414" y="12374"/>
                  <a:pt x="16396" y="12427"/>
                </a:cubicBezTo>
                <a:cubicBezTo>
                  <a:pt x="16377" y="12482"/>
                  <a:pt x="16418" y="12483"/>
                  <a:pt x="16446" y="12502"/>
                </a:cubicBezTo>
                <a:cubicBezTo>
                  <a:pt x="16498" y="12536"/>
                  <a:pt x="16554" y="12526"/>
                  <a:pt x="16619" y="12526"/>
                </a:cubicBezTo>
                <a:cubicBezTo>
                  <a:pt x="16664" y="12526"/>
                  <a:pt x="16677" y="12523"/>
                  <a:pt x="16694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11960" y="448308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7983" y="12477"/>
                </a:moveTo>
                <a:cubicBezTo>
                  <a:pt x="17983" y="12469"/>
                  <a:pt x="17983" y="12460"/>
                  <a:pt x="17983" y="12452"/>
                </a:cubicBezTo>
                <a:cubicBezTo>
                  <a:pt x="17933" y="12452"/>
                  <a:pt x="17925" y="12463"/>
                  <a:pt x="17884" y="12477"/>
                </a:cubicBezTo>
                <a:cubicBezTo>
                  <a:pt x="17865" y="12483"/>
                  <a:pt x="17830" y="12477"/>
                  <a:pt x="17810" y="12477"/>
                </a:cubicBezTo>
              </a:path>
              <a:path w="199" h="175">
                <a:moveTo>
                  <a:pt x="18008" y="12626"/>
                </a:moveTo>
                <a:cubicBezTo>
                  <a:pt x="18008" y="12618"/>
                  <a:pt x="18008" y="12609"/>
                  <a:pt x="18008" y="12601"/>
                </a:cubicBezTo>
                <a:cubicBezTo>
                  <a:pt x="17953" y="12601"/>
                  <a:pt x="17937" y="12613"/>
                  <a:pt x="17884" y="12626"/>
                </a:cubicBezTo>
                <a:cubicBezTo>
                  <a:pt x="17859" y="12626"/>
                  <a:pt x="17851" y="12626"/>
                  <a:pt x="17835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4367160"/>
            <a:ext cx="27000" cy="169920"/>
          </a:xfrm>
          <a:custGeom>
            <a:avLst/>
            <a:gdLst/>
            <a:ahLst/>
            <a:rect l="l" t="t" r="r" b="b"/>
            <a:pathLst>
              <a:path w="75" h="473">
                <a:moveTo>
                  <a:pt x="18777" y="12154"/>
                </a:moveTo>
                <a:cubicBezTo>
                  <a:pt x="18777" y="12097"/>
                  <a:pt x="18754" y="12194"/>
                  <a:pt x="18752" y="12204"/>
                </a:cubicBezTo>
                <a:cubicBezTo>
                  <a:pt x="18735" y="12284"/>
                  <a:pt x="18715" y="12374"/>
                  <a:pt x="18703" y="12452"/>
                </a:cubicBezTo>
                <a:cubicBezTo>
                  <a:pt x="18696" y="12499"/>
                  <a:pt x="18703" y="12553"/>
                  <a:pt x="18703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92920" y="4384800"/>
            <a:ext cx="696960" cy="206280"/>
          </a:xfrm>
          <a:custGeom>
            <a:avLst/>
            <a:gdLst/>
            <a:ahLst/>
            <a:rect l="l" t="t" r="r" b="b"/>
            <a:pathLst>
              <a:path w="1936" h="572">
                <a:moveTo>
                  <a:pt x="19199" y="12254"/>
                </a:moveTo>
                <a:cubicBezTo>
                  <a:pt x="19224" y="12254"/>
                  <a:pt x="19232" y="12254"/>
                  <a:pt x="19248" y="12254"/>
                </a:cubicBezTo>
                <a:cubicBezTo>
                  <a:pt x="19210" y="12292"/>
                  <a:pt x="19167" y="12325"/>
                  <a:pt x="19149" y="12378"/>
                </a:cubicBezTo>
                <a:cubicBezTo>
                  <a:pt x="19140" y="12403"/>
                  <a:pt x="19143" y="12467"/>
                  <a:pt x="19174" y="12477"/>
                </a:cubicBezTo>
                <a:cubicBezTo>
                  <a:pt x="19243" y="12498"/>
                  <a:pt x="19303" y="12516"/>
                  <a:pt x="19372" y="12551"/>
                </a:cubicBezTo>
                <a:cubicBezTo>
                  <a:pt x="19426" y="12578"/>
                  <a:pt x="19478" y="12620"/>
                  <a:pt x="19496" y="12675"/>
                </a:cubicBezTo>
                <a:cubicBezTo>
                  <a:pt x="19496" y="12683"/>
                  <a:pt x="19496" y="12692"/>
                  <a:pt x="19496" y="12700"/>
                </a:cubicBezTo>
                <a:cubicBezTo>
                  <a:pt x="19460" y="12728"/>
                  <a:pt x="19395" y="12742"/>
                  <a:pt x="19348" y="12750"/>
                </a:cubicBezTo>
                <a:cubicBezTo>
                  <a:pt x="19314" y="12756"/>
                  <a:pt x="19217" y="12730"/>
                  <a:pt x="19199" y="12700"/>
                </a:cubicBezTo>
                <a:cubicBezTo>
                  <a:pt x="19199" y="12675"/>
                  <a:pt x="19199" y="12667"/>
                  <a:pt x="19199" y="12650"/>
                </a:cubicBezTo>
              </a:path>
              <a:path w="1936" h="572">
                <a:moveTo>
                  <a:pt x="19596" y="12278"/>
                </a:moveTo>
                <a:cubicBezTo>
                  <a:pt x="19604" y="12270"/>
                  <a:pt x="19613" y="12262"/>
                  <a:pt x="19621" y="12254"/>
                </a:cubicBezTo>
                <a:cubicBezTo>
                  <a:pt x="19574" y="12219"/>
                  <a:pt x="19534" y="12229"/>
                  <a:pt x="19472" y="12229"/>
                </a:cubicBezTo>
                <a:cubicBezTo>
                  <a:pt x="19414" y="12229"/>
                  <a:pt x="19356" y="12229"/>
                  <a:pt x="19298" y="12229"/>
                </a:cubicBezTo>
              </a:path>
              <a:path w="1936" h="572">
                <a:moveTo>
                  <a:pt x="19794" y="12502"/>
                </a:moveTo>
                <a:cubicBezTo>
                  <a:pt x="19794" y="12494"/>
                  <a:pt x="19794" y="12485"/>
                  <a:pt x="19794" y="12477"/>
                </a:cubicBezTo>
                <a:cubicBezTo>
                  <a:pt x="19785" y="12521"/>
                  <a:pt x="19769" y="12554"/>
                  <a:pt x="19769" y="12601"/>
                </a:cubicBezTo>
                <a:cubicBezTo>
                  <a:pt x="19769" y="12642"/>
                  <a:pt x="19769" y="12650"/>
                  <a:pt x="19769" y="12675"/>
                </a:cubicBezTo>
              </a:path>
              <a:path w="1936" h="572">
                <a:moveTo>
                  <a:pt x="20017" y="12427"/>
                </a:moveTo>
                <a:cubicBezTo>
                  <a:pt x="20017" y="12419"/>
                  <a:pt x="20017" y="12410"/>
                  <a:pt x="20017" y="12402"/>
                </a:cubicBezTo>
                <a:cubicBezTo>
                  <a:pt x="19990" y="12411"/>
                  <a:pt x="19971" y="12437"/>
                  <a:pt x="19968" y="12477"/>
                </a:cubicBezTo>
                <a:cubicBezTo>
                  <a:pt x="19964" y="12538"/>
                  <a:pt x="19967" y="12577"/>
                  <a:pt x="19993" y="12626"/>
                </a:cubicBezTo>
                <a:cubicBezTo>
                  <a:pt x="20016" y="12669"/>
                  <a:pt x="20058" y="12705"/>
                  <a:pt x="20117" y="12675"/>
                </a:cubicBezTo>
                <a:cubicBezTo>
                  <a:pt x="20125" y="12667"/>
                  <a:pt x="20133" y="12658"/>
                  <a:pt x="20141" y="12650"/>
                </a:cubicBezTo>
              </a:path>
              <a:path w="1936" h="572">
                <a:moveTo>
                  <a:pt x="20166" y="12452"/>
                </a:moveTo>
                <a:cubicBezTo>
                  <a:pt x="20105" y="12399"/>
                  <a:pt x="20114" y="12402"/>
                  <a:pt x="20042" y="12402"/>
                </a:cubicBezTo>
                <a:cubicBezTo>
                  <a:pt x="19951" y="12402"/>
                  <a:pt x="19860" y="12402"/>
                  <a:pt x="19769" y="12402"/>
                </a:cubicBezTo>
              </a:path>
              <a:path w="1936" h="572">
                <a:moveTo>
                  <a:pt x="20389" y="12626"/>
                </a:moveTo>
                <a:cubicBezTo>
                  <a:pt x="20389" y="12634"/>
                  <a:pt x="20389" y="12642"/>
                  <a:pt x="20389" y="12650"/>
                </a:cubicBezTo>
                <a:cubicBezTo>
                  <a:pt x="20366" y="12619"/>
                  <a:pt x="20344" y="12589"/>
                  <a:pt x="20340" y="12551"/>
                </a:cubicBezTo>
                <a:cubicBezTo>
                  <a:pt x="20337" y="12520"/>
                  <a:pt x="20340" y="12483"/>
                  <a:pt x="20340" y="12452"/>
                </a:cubicBezTo>
                <a:cubicBezTo>
                  <a:pt x="20381" y="12442"/>
                  <a:pt x="20396" y="12407"/>
                  <a:pt x="20439" y="12402"/>
                </a:cubicBezTo>
                <a:cubicBezTo>
                  <a:pt x="20471" y="12398"/>
                  <a:pt x="20506" y="12402"/>
                  <a:pt x="20538" y="12402"/>
                </a:cubicBezTo>
              </a:path>
              <a:path w="1936" h="572">
                <a:moveTo>
                  <a:pt x="20737" y="12278"/>
                </a:moveTo>
                <a:cubicBezTo>
                  <a:pt x="20724" y="12239"/>
                  <a:pt x="20725" y="12268"/>
                  <a:pt x="20712" y="12229"/>
                </a:cubicBezTo>
                <a:cubicBezTo>
                  <a:pt x="20761" y="12180"/>
                  <a:pt x="20766" y="12179"/>
                  <a:pt x="20836" y="12179"/>
                </a:cubicBezTo>
                <a:cubicBezTo>
                  <a:pt x="20872" y="12179"/>
                  <a:pt x="20908" y="12215"/>
                  <a:pt x="20886" y="12254"/>
                </a:cubicBezTo>
                <a:cubicBezTo>
                  <a:pt x="20867" y="12287"/>
                  <a:pt x="20827" y="12317"/>
                  <a:pt x="20811" y="12353"/>
                </a:cubicBezTo>
                <a:cubicBezTo>
                  <a:pt x="20792" y="12396"/>
                  <a:pt x="20825" y="12423"/>
                  <a:pt x="20861" y="12427"/>
                </a:cubicBezTo>
                <a:cubicBezTo>
                  <a:pt x="20933" y="12435"/>
                  <a:pt x="21011" y="12427"/>
                  <a:pt x="21084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93920" y="5715000"/>
            <a:ext cx="374400" cy="285840"/>
          </a:xfrm>
          <a:custGeom>
            <a:avLst/>
            <a:gdLst/>
            <a:ahLst/>
            <a:rect l="l" t="t" r="r" b="b"/>
            <a:pathLst>
              <a:path w="1042" h="795">
                <a:moveTo>
                  <a:pt x="4043" y="16123"/>
                </a:moveTo>
                <a:cubicBezTo>
                  <a:pt x="4043" y="16098"/>
                  <a:pt x="4043" y="16090"/>
                  <a:pt x="4043" y="16073"/>
                </a:cubicBezTo>
              </a:path>
              <a:path w="1042" h="795">
                <a:moveTo>
                  <a:pt x="4093" y="16024"/>
                </a:moveTo>
                <a:cubicBezTo>
                  <a:pt x="4126" y="15999"/>
                  <a:pt x="4153" y="15991"/>
                  <a:pt x="4167" y="15949"/>
                </a:cubicBezTo>
                <a:cubicBezTo>
                  <a:pt x="4182" y="15906"/>
                  <a:pt x="4157" y="15879"/>
                  <a:pt x="4118" y="15875"/>
                </a:cubicBezTo>
                <a:cubicBezTo>
                  <a:pt x="4069" y="15869"/>
                  <a:pt x="3974" y="15986"/>
                  <a:pt x="3944" y="16024"/>
                </a:cubicBezTo>
                <a:cubicBezTo>
                  <a:pt x="3867" y="16122"/>
                  <a:pt x="3870" y="16203"/>
                  <a:pt x="3870" y="16321"/>
                </a:cubicBezTo>
                <a:cubicBezTo>
                  <a:pt x="3870" y="16388"/>
                  <a:pt x="3924" y="16445"/>
                  <a:pt x="3969" y="16495"/>
                </a:cubicBezTo>
                <a:cubicBezTo>
                  <a:pt x="4012" y="16543"/>
                  <a:pt x="4066" y="16519"/>
                  <a:pt x="4118" y="16495"/>
                </a:cubicBezTo>
                <a:cubicBezTo>
                  <a:pt x="4171" y="16468"/>
                  <a:pt x="4191" y="16456"/>
                  <a:pt x="4217" y="16421"/>
                </a:cubicBezTo>
              </a:path>
              <a:path w="1042" h="795">
                <a:moveTo>
                  <a:pt x="4738" y="16073"/>
                </a:moveTo>
                <a:cubicBezTo>
                  <a:pt x="4771" y="16073"/>
                  <a:pt x="4804" y="16073"/>
                  <a:pt x="4837" y="16073"/>
                </a:cubicBezTo>
                <a:cubicBezTo>
                  <a:pt x="4755" y="16073"/>
                  <a:pt x="4683" y="16077"/>
                  <a:pt x="4614" y="16098"/>
                </a:cubicBezTo>
                <a:cubicBezTo>
                  <a:pt x="4585" y="16107"/>
                  <a:pt x="4568" y="16116"/>
                  <a:pt x="4539" y="16123"/>
                </a:cubicBezTo>
              </a:path>
              <a:path w="1042" h="795">
                <a:moveTo>
                  <a:pt x="4887" y="16247"/>
                </a:moveTo>
                <a:cubicBezTo>
                  <a:pt x="4952" y="16247"/>
                  <a:pt x="4801" y="16247"/>
                  <a:pt x="4787" y="16247"/>
                </a:cubicBezTo>
                <a:cubicBezTo>
                  <a:pt x="4762" y="16247"/>
                  <a:pt x="4754" y="16247"/>
                  <a:pt x="4738" y="16247"/>
                </a:cubicBezTo>
              </a:path>
              <a:path w="1042" h="795">
                <a:moveTo>
                  <a:pt x="4415" y="16321"/>
                </a:moveTo>
                <a:cubicBezTo>
                  <a:pt x="4444" y="16371"/>
                  <a:pt x="4465" y="16391"/>
                  <a:pt x="4465" y="16446"/>
                </a:cubicBezTo>
                <a:cubicBezTo>
                  <a:pt x="4465" y="16454"/>
                  <a:pt x="4465" y="16462"/>
                  <a:pt x="4465" y="16470"/>
                </a:cubicBezTo>
              </a:path>
              <a:path w="1042" h="795">
                <a:moveTo>
                  <a:pt x="4490" y="16520"/>
                </a:moveTo>
                <a:cubicBezTo>
                  <a:pt x="4498" y="16520"/>
                  <a:pt x="4506" y="16520"/>
                  <a:pt x="4514" y="16520"/>
                </a:cubicBezTo>
                <a:cubicBezTo>
                  <a:pt x="4462" y="16538"/>
                  <a:pt x="4502" y="16570"/>
                  <a:pt x="4514" y="16619"/>
                </a:cubicBezTo>
                <a:cubicBezTo>
                  <a:pt x="4514" y="16644"/>
                  <a:pt x="4514" y="16652"/>
                  <a:pt x="4514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35080" y="5688000"/>
            <a:ext cx="546120" cy="206280"/>
          </a:xfrm>
          <a:custGeom>
            <a:avLst/>
            <a:gdLst/>
            <a:ahLst/>
            <a:rect l="l" t="t" r="r" b="b"/>
            <a:pathLst>
              <a:path w="1515" h="571">
                <a:moveTo>
                  <a:pt x="5705" y="16024"/>
                </a:moveTo>
                <a:cubicBezTo>
                  <a:pt x="5680" y="16024"/>
                  <a:pt x="5672" y="16024"/>
                  <a:pt x="5655" y="16024"/>
                </a:cubicBezTo>
                <a:cubicBezTo>
                  <a:pt x="5655" y="15973"/>
                  <a:pt x="5656" y="15966"/>
                  <a:pt x="5680" y="15925"/>
                </a:cubicBezTo>
                <a:cubicBezTo>
                  <a:pt x="5715" y="15864"/>
                  <a:pt x="5754" y="15817"/>
                  <a:pt x="5829" y="15801"/>
                </a:cubicBezTo>
                <a:cubicBezTo>
                  <a:pt x="5886" y="15789"/>
                  <a:pt x="5943" y="15845"/>
                  <a:pt x="5953" y="15900"/>
                </a:cubicBezTo>
                <a:cubicBezTo>
                  <a:pt x="5969" y="15988"/>
                  <a:pt x="5913" y="16094"/>
                  <a:pt x="5879" y="16173"/>
                </a:cubicBezTo>
                <a:cubicBezTo>
                  <a:pt x="5854" y="16231"/>
                  <a:pt x="5810" y="16284"/>
                  <a:pt x="5804" y="16346"/>
                </a:cubicBezTo>
                <a:cubicBezTo>
                  <a:pt x="5804" y="16354"/>
                  <a:pt x="5804" y="16363"/>
                  <a:pt x="5804" y="16371"/>
                </a:cubicBezTo>
                <a:cubicBezTo>
                  <a:pt x="5859" y="16371"/>
                  <a:pt x="5898" y="16350"/>
                  <a:pt x="5953" y="16346"/>
                </a:cubicBezTo>
                <a:cubicBezTo>
                  <a:pt x="6008" y="16342"/>
                  <a:pt x="6067" y="16298"/>
                  <a:pt x="6127" y="16321"/>
                </a:cubicBezTo>
                <a:cubicBezTo>
                  <a:pt x="6167" y="16336"/>
                  <a:pt x="6154" y="16346"/>
                  <a:pt x="6201" y="16346"/>
                </a:cubicBezTo>
              </a:path>
              <a:path w="1515" h="571">
                <a:moveTo>
                  <a:pt x="6226" y="16024"/>
                </a:moveTo>
                <a:cubicBezTo>
                  <a:pt x="6278" y="15955"/>
                  <a:pt x="6232" y="15985"/>
                  <a:pt x="6251" y="16049"/>
                </a:cubicBezTo>
                <a:cubicBezTo>
                  <a:pt x="6271" y="16115"/>
                  <a:pt x="6285" y="16180"/>
                  <a:pt x="6300" y="16247"/>
                </a:cubicBezTo>
                <a:cubicBezTo>
                  <a:pt x="6300" y="16272"/>
                  <a:pt x="6300" y="16280"/>
                  <a:pt x="6300" y="16297"/>
                </a:cubicBezTo>
              </a:path>
              <a:path w="1515" h="571">
                <a:moveTo>
                  <a:pt x="6400" y="15949"/>
                </a:moveTo>
                <a:cubicBezTo>
                  <a:pt x="6400" y="15885"/>
                  <a:pt x="6400" y="15988"/>
                  <a:pt x="6400" y="15999"/>
                </a:cubicBezTo>
                <a:cubicBezTo>
                  <a:pt x="6400" y="16059"/>
                  <a:pt x="6384" y="16127"/>
                  <a:pt x="6424" y="16173"/>
                </a:cubicBezTo>
                <a:cubicBezTo>
                  <a:pt x="6486" y="16244"/>
                  <a:pt x="6518" y="16227"/>
                  <a:pt x="6598" y="16197"/>
                </a:cubicBezTo>
              </a:path>
              <a:path w="1515" h="571">
                <a:moveTo>
                  <a:pt x="6598" y="15949"/>
                </a:moveTo>
                <a:cubicBezTo>
                  <a:pt x="6515" y="15879"/>
                  <a:pt x="6542" y="15902"/>
                  <a:pt x="6449" y="15925"/>
                </a:cubicBezTo>
                <a:cubicBezTo>
                  <a:pt x="6395" y="15939"/>
                  <a:pt x="6358" y="15949"/>
                  <a:pt x="6300" y="15949"/>
                </a:cubicBezTo>
                <a:cubicBezTo>
                  <a:pt x="6276" y="15949"/>
                  <a:pt x="6267" y="15949"/>
                  <a:pt x="6251" y="15949"/>
                </a:cubicBezTo>
              </a:path>
              <a:path w="1515" h="571">
                <a:moveTo>
                  <a:pt x="6945" y="16173"/>
                </a:moveTo>
                <a:cubicBezTo>
                  <a:pt x="6945" y="16116"/>
                  <a:pt x="6917" y="15957"/>
                  <a:pt x="6970" y="15925"/>
                </a:cubicBezTo>
                <a:cubicBezTo>
                  <a:pt x="7010" y="15901"/>
                  <a:pt x="7071" y="15900"/>
                  <a:pt x="7119" y="15900"/>
                </a:cubicBezTo>
                <a:cubicBezTo>
                  <a:pt x="7136" y="15900"/>
                  <a:pt x="7152" y="15900"/>
                  <a:pt x="7169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2200" y="5732640"/>
            <a:ext cx="3319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10071" y="15999"/>
                </a:moveTo>
                <a:cubicBezTo>
                  <a:pt x="10109" y="15970"/>
                  <a:pt x="10133" y="15973"/>
                  <a:pt x="10145" y="15925"/>
                </a:cubicBezTo>
                <a:cubicBezTo>
                  <a:pt x="10054" y="15925"/>
                  <a:pt x="10044" y="15950"/>
                  <a:pt x="9996" y="16024"/>
                </a:cubicBezTo>
                <a:cubicBezTo>
                  <a:pt x="9949" y="16096"/>
                  <a:pt x="9882" y="16205"/>
                  <a:pt x="9897" y="16297"/>
                </a:cubicBezTo>
                <a:cubicBezTo>
                  <a:pt x="9911" y="16383"/>
                  <a:pt x="9958" y="16451"/>
                  <a:pt x="10046" y="16470"/>
                </a:cubicBezTo>
                <a:cubicBezTo>
                  <a:pt x="10122" y="16486"/>
                  <a:pt x="10162" y="16456"/>
                  <a:pt x="10220" y="16421"/>
                </a:cubicBezTo>
                <a:cubicBezTo>
                  <a:pt x="10264" y="16395"/>
                  <a:pt x="10289" y="16356"/>
                  <a:pt x="10319" y="16346"/>
                </a:cubicBezTo>
              </a:path>
              <a:path w="919" h="596">
                <a:moveTo>
                  <a:pt x="10567" y="16272"/>
                </a:moveTo>
                <a:cubicBezTo>
                  <a:pt x="10531" y="16245"/>
                  <a:pt x="10528" y="16255"/>
                  <a:pt x="10517" y="16222"/>
                </a:cubicBezTo>
                <a:cubicBezTo>
                  <a:pt x="10554" y="16222"/>
                  <a:pt x="10621" y="16206"/>
                  <a:pt x="10641" y="16247"/>
                </a:cubicBezTo>
                <a:cubicBezTo>
                  <a:pt x="10662" y="16290"/>
                  <a:pt x="10640" y="16391"/>
                  <a:pt x="10616" y="16421"/>
                </a:cubicBezTo>
                <a:cubicBezTo>
                  <a:pt x="10587" y="16458"/>
                  <a:pt x="10592" y="16473"/>
                  <a:pt x="10592" y="16520"/>
                </a:cubicBezTo>
                <a:cubicBezTo>
                  <a:pt x="10645" y="16520"/>
                  <a:pt x="10672" y="16498"/>
                  <a:pt x="10716" y="16495"/>
                </a:cubicBezTo>
                <a:cubicBezTo>
                  <a:pt x="10767" y="16491"/>
                  <a:pt x="10772" y="16481"/>
                  <a:pt x="10815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06880" y="5840280"/>
            <a:ext cx="73080" cy="4464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11584" y="16247"/>
                </a:moveTo>
                <a:cubicBezTo>
                  <a:pt x="11592" y="16239"/>
                  <a:pt x="11601" y="16230"/>
                  <a:pt x="11609" y="16222"/>
                </a:cubicBezTo>
                <a:cubicBezTo>
                  <a:pt x="11543" y="16222"/>
                  <a:pt x="11476" y="16222"/>
                  <a:pt x="11410" y="16222"/>
                </a:cubicBezTo>
              </a:path>
              <a:path w="200" h="125">
                <a:moveTo>
                  <a:pt x="11559" y="16272"/>
                </a:moveTo>
                <a:cubicBezTo>
                  <a:pt x="11567" y="16280"/>
                  <a:pt x="11576" y="16289"/>
                  <a:pt x="11584" y="16297"/>
                </a:cubicBezTo>
                <a:cubicBezTo>
                  <a:pt x="11553" y="16319"/>
                  <a:pt x="11523" y="16342"/>
                  <a:pt x="11485" y="16346"/>
                </a:cubicBezTo>
                <a:cubicBezTo>
                  <a:pt x="11477" y="16346"/>
                  <a:pt x="11468" y="16346"/>
                  <a:pt x="11460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8080" y="5749920"/>
            <a:ext cx="581040" cy="179280"/>
          </a:xfrm>
          <a:custGeom>
            <a:avLst/>
            <a:gdLst/>
            <a:ahLst/>
            <a:rect l="l" t="t" r="r" b="b"/>
            <a:pathLst>
              <a:path w="1613" h="497">
                <a:moveTo>
                  <a:pt x="12129" y="16148"/>
                </a:moveTo>
                <a:cubicBezTo>
                  <a:pt x="12105" y="16148"/>
                  <a:pt x="12096" y="16148"/>
                  <a:pt x="12080" y="16148"/>
                </a:cubicBezTo>
                <a:cubicBezTo>
                  <a:pt x="12080" y="16100"/>
                  <a:pt x="12086" y="16055"/>
                  <a:pt x="12129" y="16024"/>
                </a:cubicBezTo>
                <a:cubicBezTo>
                  <a:pt x="12177" y="15990"/>
                  <a:pt x="12267" y="15951"/>
                  <a:pt x="12328" y="15974"/>
                </a:cubicBezTo>
                <a:cubicBezTo>
                  <a:pt x="12393" y="15999"/>
                  <a:pt x="12410" y="16143"/>
                  <a:pt x="12402" y="16197"/>
                </a:cubicBezTo>
                <a:cubicBezTo>
                  <a:pt x="12389" y="16287"/>
                  <a:pt x="12337" y="16335"/>
                  <a:pt x="12278" y="16396"/>
                </a:cubicBezTo>
                <a:cubicBezTo>
                  <a:pt x="12256" y="16419"/>
                  <a:pt x="12248" y="16424"/>
                  <a:pt x="12254" y="16446"/>
                </a:cubicBezTo>
                <a:cubicBezTo>
                  <a:pt x="12309" y="16446"/>
                  <a:pt x="12347" y="16424"/>
                  <a:pt x="12402" y="16421"/>
                </a:cubicBezTo>
                <a:cubicBezTo>
                  <a:pt x="12492" y="16416"/>
                  <a:pt x="12575" y="16421"/>
                  <a:pt x="12650" y="16446"/>
                </a:cubicBezTo>
                <a:cubicBezTo>
                  <a:pt x="12658" y="16446"/>
                  <a:pt x="12667" y="16446"/>
                  <a:pt x="12675" y="16446"/>
                </a:cubicBezTo>
              </a:path>
              <a:path w="1613" h="497">
                <a:moveTo>
                  <a:pt x="12774" y="16247"/>
                </a:moveTo>
                <a:cubicBezTo>
                  <a:pt x="12791" y="16230"/>
                  <a:pt x="12807" y="16214"/>
                  <a:pt x="12824" y="16197"/>
                </a:cubicBezTo>
                <a:cubicBezTo>
                  <a:pt x="12824" y="16270"/>
                  <a:pt x="12810" y="16328"/>
                  <a:pt x="12799" y="16396"/>
                </a:cubicBezTo>
                <a:cubicBezTo>
                  <a:pt x="12790" y="16449"/>
                  <a:pt x="12790" y="16459"/>
                  <a:pt x="12824" y="16470"/>
                </a:cubicBezTo>
              </a:path>
              <a:path w="1613" h="497">
                <a:moveTo>
                  <a:pt x="12948" y="16197"/>
                </a:moveTo>
                <a:cubicBezTo>
                  <a:pt x="12981" y="16088"/>
                  <a:pt x="12965" y="16080"/>
                  <a:pt x="12948" y="16173"/>
                </a:cubicBezTo>
                <a:cubicBezTo>
                  <a:pt x="12937" y="16234"/>
                  <a:pt x="12940" y="16318"/>
                  <a:pt x="12973" y="16371"/>
                </a:cubicBezTo>
                <a:cubicBezTo>
                  <a:pt x="13011" y="16433"/>
                  <a:pt x="13086" y="16421"/>
                  <a:pt x="13146" y="16421"/>
                </a:cubicBezTo>
              </a:path>
              <a:path w="1613" h="497">
                <a:moveTo>
                  <a:pt x="13221" y="16222"/>
                </a:moveTo>
                <a:cubicBezTo>
                  <a:pt x="13183" y="16128"/>
                  <a:pt x="13192" y="16123"/>
                  <a:pt x="13097" y="16123"/>
                </a:cubicBezTo>
                <a:cubicBezTo>
                  <a:pt x="13023" y="16123"/>
                  <a:pt x="12969" y="16144"/>
                  <a:pt x="12898" y="16148"/>
                </a:cubicBezTo>
                <a:cubicBezTo>
                  <a:pt x="12865" y="16150"/>
                  <a:pt x="12832" y="16148"/>
                  <a:pt x="12799" y="16148"/>
                </a:cubicBezTo>
              </a:path>
              <a:path w="1613" h="497">
                <a:moveTo>
                  <a:pt x="13395" y="16272"/>
                </a:moveTo>
                <a:cubicBezTo>
                  <a:pt x="13413" y="16319"/>
                  <a:pt x="13434" y="16354"/>
                  <a:pt x="13444" y="16396"/>
                </a:cubicBezTo>
                <a:cubicBezTo>
                  <a:pt x="13389" y="16368"/>
                  <a:pt x="13395" y="16335"/>
                  <a:pt x="13395" y="16272"/>
                </a:cubicBezTo>
                <a:cubicBezTo>
                  <a:pt x="13395" y="16185"/>
                  <a:pt x="13439" y="16133"/>
                  <a:pt x="13519" y="16098"/>
                </a:cubicBezTo>
                <a:cubicBezTo>
                  <a:pt x="13583" y="16070"/>
                  <a:pt x="13626" y="16073"/>
                  <a:pt x="13692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4000" y="5769000"/>
            <a:ext cx="866880" cy="268200"/>
          </a:xfrm>
          <a:custGeom>
            <a:avLst/>
            <a:gdLst/>
            <a:ahLst/>
            <a:rect l="l" t="t" r="r" b="b"/>
            <a:pathLst>
              <a:path w="2407" h="745">
                <a:moveTo>
                  <a:pt x="15875" y="16148"/>
                </a:moveTo>
                <a:cubicBezTo>
                  <a:pt x="15885" y="16108"/>
                  <a:pt x="15915" y="16089"/>
                  <a:pt x="15925" y="16049"/>
                </a:cubicBezTo>
                <a:cubicBezTo>
                  <a:pt x="15879" y="16014"/>
                  <a:pt x="15830" y="16010"/>
                  <a:pt x="15776" y="16049"/>
                </a:cubicBezTo>
                <a:cubicBezTo>
                  <a:pt x="15709" y="16097"/>
                  <a:pt x="15660" y="16195"/>
                  <a:pt x="15652" y="16272"/>
                </a:cubicBezTo>
                <a:cubicBezTo>
                  <a:pt x="15644" y="16351"/>
                  <a:pt x="15647" y="16410"/>
                  <a:pt x="15701" y="16470"/>
                </a:cubicBezTo>
                <a:cubicBezTo>
                  <a:pt x="15754" y="16529"/>
                  <a:pt x="15815" y="16480"/>
                  <a:pt x="15875" y="16470"/>
                </a:cubicBezTo>
                <a:cubicBezTo>
                  <a:pt x="15937" y="16460"/>
                  <a:pt x="15941" y="16454"/>
                  <a:pt x="15999" y="16421"/>
                </a:cubicBezTo>
              </a:path>
              <a:path w="2407" h="745">
                <a:moveTo>
                  <a:pt x="16297" y="16495"/>
                </a:moveTo>
                <a:cubicBezTo>
                  <a:pt x="16297" y="16428"/>
                  <a:pt x="16297" y="16579"/>
                  <a:pt x="16297" y="16594"/>
                </a:cubicBezTo>
                <a:cubicBezTo>
                  <a:pt x="16297" y="16627"/>
                  <a:pt x="16297" y="16661"/>
                  <a:pt x="16297" y="16694"/>
                </a:cubicBezTo>
              </a:path>
              <a:path w="2407" h="745">
                <a:moveTo>
                  <a:pt x="16892" y="16446"/>
                </a:moveTo>
                <a:cubicBezTo>
                  <a:pt x="16909" y="16446"/>
                  <a:pt x="16925" y="16446"/>
                  <a:pt x="16942" y="16446"/>
                </a:cubicBezTo>
                <a:cubicBezTo>
                  <a:pt x="16872" y="16446"/>
                  <a:pt x="16613" y="16477"/>
                  <a:pt x="16594" y="16421"/>
                </a:cubicBezTo>
              </a:path>
              <a:path w="2407" h="745">
                <a:moveTo>
                  <a:pt x="16768" y="16321"/>
                </a:moveTo>
                <a:cubicBezTo>
                  <a:pt x="16829" y="16336"/>
                  <a:pt x="16818" y="16360"/>
                  <a:pt x="16818" y="16421"/>
                </a:cubicBezTo>
                <a:cubicBezTo>
                  <a:pt x="16818" y="16462"/>
                  <a:pt x="16818" y="16504"/>
                  <a:pt x="16818" y="16545"/>
                </a:cubicBezTo>
              </a:path>
              <a:path w="2407" h="745">
                <a:moveTo>
                  <a:pt x="17487" y="16247"/>
                </a:moveTo>
                <a:cubicBezTo>
                  <a:pt x="17512" y="16247"/>
                  <a:pt x="17520" y="16247"/>
                  <a:pt x="17512" y="16222"/>
                </a:cubicBezTo>
                <a:cubicBezTo>
                  <a:pt x="17458" y="16222"/>
                  <a:pt x="17439" y="16223"/>
                  <a:pt x="17388" y="16247"/>
                </a:cubicBezTo>
                <a:cubicBezTo>
                  <a:pt x="17289" y="16294"/>
                  <a:pt x="17269" y="16343"/>
                  <a:pt x="17264" y="16446"/>
                </a:cubicBezTo>
                <a:cubicBezTo>
                  <a:pt x="17261" y="16518"/>
                  <a:pt x="17320" y="16614"/>
                  <a:pt x="17388" y="16644"/>
                </a:cubicBezTo>
                <a:cubicBezTo>
                  <a:pt x="17430" y="16662"/>
                  <a:pt x="17508" y="16642"/>
                  <a:pt x="17537" y="16619"/>
                </a:cubicBezTo>
                <a:cubicBezTo>
                  <a:pt x="17545" y="16611"/>
                  <a:pt x="17554" y="16602"/>
                  <a:pt x="17562" y="16594"/>
                </a:cubicBezTo>
              </a:path>
              <a:path w="2407" h="745">
                <a:moveTo>
                  <a:pt x="17760" y="16545"/>
                </a:moveTo>
                <a:cubicBezTo>
                  <a:pt x="17752" y="16537"/>
                  <a:pt x="17743" y="16528"/>
                  <a:pt x="17735" y="16520"/>
                </a:cubicBezTo>
                <a:cubicBezTo>
                  <a:pt x="17754" y="16506"/>
                  <a:pt x="17809" y="16458"/>
                  <a:pt x="17835" y="16470"/>
                </a:cubicBezTo>
                <a:cubicBezTo>
                  <a:pt x="17878" y="16490"/>
                  <a:pt x="17884" y="16530"/>
                  <a:pt x="17884" y="16570"/>
                </a:cubicBezTo>
                <a:cubicBezTo>
                  <a:pt x="17884" y="16635"/>
                  <a:pt x="17852" y="16667"/>
                  <a:pt x="17835" y="16718"/>
                </a:cubicBezTo>
                <a:cubicBezTo>
                  <a:pt x="17815" y="16781"/>
                  <a:pt x="17901" y="16768"/>
                  <a:pt x="17934" y="16768"/>
                </a:cubicBezTo>
                <a:cubicBezTo>
                  <a:pt x="17975" y="16768"/>
                  <a:pt x="18017" y="16768"/>
                  <a:pt x="18058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80160" y="5902200"/>
            <a:ext cx="71640" cy="7164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18703" y="16421"/>
                </a:moveTo>
                <a:cubicBezTo>
                  <a:pt x="18711" y="16421"/>
                  <a:pt x="18720" y="16421"/>
                  <a:pt x="18728" y="16421"/>
                </a:cubicBezTo>
                <a:cubicBezTo>
                  <a:pt x="18671" y="16421"/>
                  <a:pt x="18650" y="16411"/>
                  <a:pt x="18604" y="16396"/>
                </a:cubicBezTo>
                <a:cubicBezTo>
                  <a:pt x="18579" y="16396"/>
                  <a:pt x="18571" y="16396"/>
                  <a:pt x="18554" y="16396"/>
                </a:cubicBezTo>
              </a:path>
              <a:path w="199" h="199">
                <a:moveTo>
                  <a:pt x="18703" y="16520"/>
                </a:moveTo>
                <a:cubicBezTo>
                  <a:pt x="18731" y="16549"/>
                  <a:pt x="18743" y="16558"/>
                  <a:pt x="18752" y="16594"/>
                </a:cubicBezTo>
                <a:cubicBezTo>
                  <a:pt x="18699" y="16594"/>
                  <a:pt x="18619" y="16614"/>
                  <a:pt x="18604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39000" y="5688000"/>
            <a:ext cx="803160" cy="411120"/>
          </a:xfrm>
          <a:custGeom>
            <a:avLst/>
            <a:gdLst/>
            <a:ahLst/>
            <a:rect l="l" t="t" r="r" b="b"/>
            <a:pathLst>
              <a:path w="2234" h="1142">
                <a:moveTo>
                  <a:pt x="20315" y="15801"/>
                </a:moveTo>
                <a:cubicBezTo>
                  <a:pt x="20282" y="15809"/>
                  <a:pt x="20249" y="15817"/>
                  <a:pt x="20216" y="15825"/>
                </a:cubicBezTo>
              </a:path>
              <a:path w="2234" h="1142">
                <a:moveTo>
                  <a:pt x="19298" y="16173"/>
                </a:moveTo>
                <a:cubicBezTo>
                  <a:pt x="19306" y="16165"/>
                  <a:pt x="19315" y="16156"/>
                  <a:pt x="19323" y="16148"/>
                </a:cubicBezTo>
                <a:cubicBezTo>
                  <a:pt x="19323" y="16209"/>
                  <a:pt x="19283" y="16241"/>
                  <a:pt x="19273" y="16297"/>
                </a:cubicBezTo>
                <a:cubicBezTo>
                  <a:pt x="19253" y="16413"/>
                  <a:pt x="19273" y="16550"/>
                  <a:pt x="19273" y="16669"/>
                </a:cubicBezTo>
              </a:path>
              <a:path w="2234" h="1142">
                <a:moveTo>
                  <a:pt x="19596" y="16570"/>
                </a:moveTo>
                <a:cubicBezTo>
                  <a:pt x="19596" y="16519"/>
                  <a:pt x="19585" y="16511"/>
                  <a:pt x="19571" y="16470"/>
                </a:cubicBezTo>
                <a:cubicBezTo>
                  <a:pt x="19555" y="16424"/>
                  <a:pt x="19593" y="16400"/>
                  <a:pt x="19621" y="16371"/>
                </a:cubicBezTo>
                <a:cubicBezTo>
                  <a:pt x="19650" y="16341"/>
                  <a:pt x="19749" y="16311"/>
                  <a:pt x="19794" y="16321"/>
                </a:cubicBezTo>
                <a:cubicBezTo>
                  <a:pt x="19874" y="16339"/>
                  <a:pt x="19954" y="16446"/>
                  <a:pt x="19968" y="16520"/>
                </a:cubicBezTo>
                <a:cubicBezTo>
                  <a:pt x="19983" y="16595"/>
                  <a:pt x="19983" y="16697"/>
                  <a:pt x="19918" y="16743"/>
                </a:cubicBezTo>
                <a:cubicBezTo>
                  <a:pt x="19876" y="16773"/>
                  <a:pt x="19731" y="16718"/>
                  <a:pt x="19695" y="16694"/>
                </a:cubicBezTo>
                <a:cubicBezTo>
                  <a:pt x="19668" y="16676"/>
                  <a:pt x="19578" y="16589"/>
                  <a:pt x="19621" y="16545"/>
                </a:cubicBezTo>
                <a:cubicBezTo>
                  <a:pt x="19629" y="16545"/>
                  <a:pt x="19637" y="16545"/>
                  <a:pt x="19645" y="16545"/>
                </a:cubicBezTo>
              </a:path>
              <a:path w="2234" h="1142">
                <a:moveTo>
                  <a:pt x="20315" y="16644"/>
                </a:moveTo>
                <a:cubicBezTo>
                  <a:pt x="20340" y="16644"/>
                  <a:pt x="20348" y="16644"/>
                  <a:pt x="20365" y="16644"/>
                </a:cubicBezTo>
                <a:cubicBezTo>
                  <a:pt x="20365" y="16710"/>
                  <a:pt x="20365" y="16776"/>
                  <a:pt x="20365" y="16842"/>
                </a:cubicBezTo>
              </a:path>
              <a:path w="2234" h="1142">
                <a:moveTo>
                  <a:pt x="20588" y="16495"/>
                </a:moveTo>
                <a:cubicBezTo>
                  <a:pt x="20588" y="16479"/>
                  <a:pt x="20588" y="16462"/>
                  <a:pt x="20588" y="16446"/>
                </a:cubicBezTo>
                <a:cubicBezTo>
                  <a:pt x="20546" y="16497"/>
                  <a:pt x="20502" y="16551"/>
                  <a:pt x="20489" y="16619"/>
                </a:cubicBezTo>
                <a:cubicBezTo>
                  <a:pt x="20480" y="16667"/>
                  <a:pt x="20489" y="16790"/>
                  <a:pt x="20538" y="16818"/>
                </a:cubicBezTo>
                <a:cubicBezTo>
                  <a:pt x="20580" y="16842"/>
                  <a:pt x="20709" y="16818"/>
                  <a:pt x="20762" y="16818"/>
                </a:cubicBezTo>
              </a:path>
              <a:path w="2234" h="1142">
                <a:moveTo>
                  <a:pt x="20861" y="16669"/>
                </a:moveTo>
                <a:cubicBezTo>
                  <a:pt x="20823" y="16636"/>
                  <a:pt x="20787" y="16597"/>
                  <a:pt x="20737" y="16594"/>
                </a:cubicBezTo>
                <a:cubicBezTo>
                  <a:pt x="20641" y="16589"/>
                  <a:pt x="20601" y="16565"/>
                  <a:pt x="20513" y="16545"/>
                </a:cubicBezTo>
                <a:cubicBezTo>
                  <a:pt x="20461" y="16534"/>
                  <a:pt x="20429" y="16539"/>
                  <a:pt x="20414" y="16495"/>
                </a:cubicBezTo>
              </a:path>
              <a:path w="2234" h="1142">
                <a:moveTo>
                  <a:pt x="20985" y="16917"/>
                </a:moveTo>
                <a:cubicBezTo>
                  <a:pt x="20985" y="16942"/>
                  <a:pt x="20985" y="16950"/>
                  <a:pt x="21010" y="16942"/>
                </a:cubicBezTo>
                <a:cubicBezTo>
                  <a:pt x="21010" y="16881"/>
                  <a:pt x="20986" y="16765"/>
                  <a:pt x="21034" y="16718"/>
                </a:cubicBezTo>
                <a:cubicBezTo>
                  <a:pt x="21081" y="16671"/>
                  <a:pt x="21220" y="16628"/>
                  <a:pt x="21282" y="16619"/>
                </a:cubicBezTo>
                <a:cubicBezTo>
                  <a:pt x="21368" y="16606"/>
                  <a:pt x="21437" y="16623"/>
                  <a:pt x="21506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8320" y="6180120"/>
            <a:ext cx="8892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5110" y="17165"/>
                </a:moveTo>
                <a:cubicBezTo>
                  <a:pt x="5118" y="17165"/>
                  <a:pt x="5127" y="17165"/>
                  <a:pt x="5135" y="17165"/>
                </a:cubicBezTo>
                <a:cubicBezTo>
                  <a:pt x="5084" y="17165"/>
                  <a:pt x="5076" y="17176"/>
                  <a:pt x="5035" y="17190"/>
                </a:cubicBezTo>
                <a:cubicBezTo>
                  <a:pt x="5002" y="17201"/>
                  <a:pt x="4946" y="17190"/>
                  <a:pt x="4911" y="17190"/>
                </a:cubicBezTo>
              </a:path>
              <a:path w="249" h="174">
                <a:moveTo>
                  <a:pt x="5135" y="17264"/>
                </a:moveTo>
                <a:cubicBezTo>
                  <a:pt x="5143" y="17264"/>
                  <a:pt x="5151" y="17264"/>
                  <a:pt x="5159" y="17264"/>
                </a:cubicBezTo>
                <a:cubicBezTo>
                  <a:pt x="5130" y="17323"/>
                  <a:pt x="5105" y="17290"/>
                  <a:pt x="5060" y="17314"/>
                </a:cubicBezTo>
                <a:cubicBezTo>
                  <a:pt x="5022" y="17334"/>
                  <a:pt x="5031" y="17338"/>
                  <a:pt x="4986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08160" y="6045120"/>
            <a:ext cx="490680" cy="179640"/>
          </a:xfrm>
          <a:custGeom>
            <a:avLst/>
            <a:gdLst/>
            <a:ahLst/>
            <a:rect l="l" t="t" r="r" b="b"/>
            <a:pathLst>
              <a:path w="1365" h="497">
                <a:moveTo>
                  <a:pt x="6102" y="16867"/>
                </a:moveTo>
                <a:cubicBezTo>
                  <a:pt x="6150" y="16867"/>
                  <a:pt x="6163" y="16871"/>
                  <a:pt x="6201" y="16842"/>
                </a:cubicBezTo>
                <a:cubicBezTo>
                  <a:pt x="6186" y="16782"/>
                  <a:pt x="6162" y="16793"/>
                  <a:pt x="6102" y="16793"/>
                </a:cubicBezTo>
                <a:cubicBezTo>
                  <a:pt x="6051" y="16793"/>
                  <a:pt x="6020" y="16801"/>
                  <a:pt x="5978" y="16818"/>
                </a:cubicBezTo>
                <a:cubicBezTo>
                  <a:pt x="5913" y="16845"/>
                  <a:pt x="5910" y="16871"/>
                  <a:pt x="5879" y="16917"/>
                </a:cubicBezTo>
                <a:cubicBezTo>
                  <a:pt x="5871" y="16929"/>
                  <a:pt x="5828" y="16995"/>
                  <a:pt x="5854" y="17016"/>
                </a:cubicBezTo>
                <a:cubicBezTo>
                  <a:pt x="5862" y="17023"/>
                  <a:pt x="5940" y="17063"/>
                  <a:pt x="5953" y="17066"/>
                </a:cubicBezTo>
                <a:cubicBezTo>
                  <a:pt x="5986" y="17073"/>
                  <a:pt x="6048" y="17074"/>
                  <a:pt x="6077" y="17090"/>
                </a:cubicBezTo>
                <a:cubicBezTo>
                  <a:pt x="6111" y="17109"/>
                  <a:pt x="6148" y="17155"/>
                  <a:pt x="6152" y="17190"/>
                </a:cubicBezTo>
                <a:cubicBezTo>
                  <a:pt x="6156" y="17221"/>
                  <a:pt x="6169" y="17234"/>
                  <a:pt x="6176" y="17264"/>
                </a:cubicBezTo>
                <a:cubicBezTo>
                  <a:pt x="6137" y="17274"/>
                  <a:pt x="6122" y="17289"/>
                  <a:pt x="6077" y="17289"/>
                </a:cubicBezTo>
                <a:cubicBezTo>
                  <a:pt x="6038" y="17289"/>
                  <a:pt x="5950" y="17308"/>
                  <a:pt x="5928" y="17264"/>
                </a:cubicBezTo>
                <a:cubicBezTo>
                  <a:pt x="5912" y="17231"/>
                  <a:pt x="5937" y="17164"/>
                  <a:pt x="5953" y="17140"/>
                </a:cubicBezTo>
                <a:cubicBezTo>
                  <a:pt x="5987" y="17090"/>
                  <a:pt x="6033" y="17003"/>
                  <a:pt x="6077" y="16966"/>
                </a:cubicBezTo>
                <a:cubicBezTo>
                  <a:pt x="6098" y="16948"/>
                  <a:pt x="6190" y="16909"/>
                  <a:pt x="6201" y="16892"/>
                </a:cubicBezTo>
                <a:cubicBezTo>
                  <a:pt x="6201" y="16867"/>
                  <a:pt x="6201" y="16859"/>
                  <a:pt x="6226" y="16867"/>
                </a:cubicBezTo>
              </a:path>
              <a:path w="1365" h="497">
                <a:moveTo>
                  <a:pt x="6375" y="17016"/>
                </a:moveTo>
                <a:cubicBezTo>
                  <a:pt x="6375" y="17024"/>
                  <a:pt x="6375" y="17033"/>
                  <a:pt x="6375" y="17041"/>
                </a:cubicBezTo>
                <a:cubicBezTo>
                  <a:pt x="6409" y="17063"/>
                  <a:pt x="6400" y="17089"/>
                  <a:pt x="6400" y="17140"/>
                </a:cubicBezTo>
                <a:cubicBezTo>
                  <a:pt x="6400" y="17173"/>
                  <a:pt x="6400" y="17206"/>
                  <a:pt x="6400" y="17239"/>
                </a:cubicBezTo>
              </a:path>
              <a:path w="1365" h="497">
                <a:moveTo>
                  <a:pt x="6598" y="16966"/>
                </a:moveTo>
                <a:cubicBezTo>
                  <a:pt x="6606" y="16950"/>
                  <a:pt x="6615" y="16933"/>
                  <a:pt x="6623" y="16917"/>
                </a:cubicBezTo>
                <a:cubicBezTo>
                  <a:pt x="6591" y="16960"/>
                  <a:pt x="6576" y="16984"/>
                  <a:pt x="6573" y="17041"/>
                </a:cubicBezTo>
                <a:cubicBezTo>
                  <a:pt x="6570" y="17089"/>
                  <a:pt x="6570" y="17141"/>
                  <a:pt x="6623" y="17165"/>
                </a:cubicBezTo>
                <a:cubicBezTo>
                  <a:pt x="6667" y="17184"/>
                  <a:pt x="6716" y="17149"/>
                  <a:pt x="6747" y="17140"/>
                </a:cubicBezTo>
                <a:cubicBezTo>
                  <a:pt x="6775" y="17140"/>
                  <a:pt x="6786" y="17138"/>
                  <a:pt x="6796" y="17115"/>
                </a:cubicBezTo>
              </a:path>
              <a:path w="1365" h="497">
                <a:moveTo>
                  <a:pt x="6821" y="16966"/>
                </a:moveTo>
                <a:cubicBezTo>
                  <a:pt x="6796" y="16941"/>
                  <a:pt x="6754" y="16899"/>
                  <a:pt x="6722" y="16892"/>
                </a:cubicBezTo>
                <a:cubicBezTo>
                  <a:pt x="6655" y="16878"/>
                  <a:pt x="6595" y="16867"/>
                  <a:pt x="6524" y="16867"/>
                </a:cubicBezTo>
                <a:cubicBezTo>
                  <a:pt x="6461" y="16867"/>
                  <a:pt x="6427" y="16876"/>
                  <a:pt x="6375" y="16892"/>
                </a:cubicBezTo>
                <a:cubicBezTo>
                  <a:pt x="6350" y="16892"/>
                  <a:pt x="6342" y="16892"/>
                  <a:pt x="6325" y="16892"/>
                </a:cubicBezTo>
              </a:path>
              <a:path w="1365" h="497">
                <a:moveTo>
                  <a:pt x="6970" y="17115"/>
                </a:moveTo>
                <a:cubicBezTo>
                  <a:pt x="6946" y="17083"/>
                  <a:pt x="6925" y="17030"/>
                  <a:pt x="6921" y="16991"/>
                </a:cubicBezTo>
                <a:cubicBezTo>
                  <a:pt x="6916" y="16940"/>
                  <a:pt x="6912" y="16879"/>
                  <a:pt x="6945" y="16842"/>
                </a:cubicBezTo>
                <a:cubicBezTo>
                  <a:pt x="6986" y="16797"/>
                  <a:pt x="7016" y="16834"/>
                  <a:pt x="7069" y="16818"/>
                </a:cubicBezTo>
                <a:cubicBezTo>
                  <a:pt x="7123" y="16802"/>
                  <a:pt x="7138" y="16793"/>
                  <a:pt x="7193" y="16793"/>
                </a:cubicBezTo>
                <a:cubicBezTo>
                  <a:pt x="7201" y="16793"/>
                  <a:pt x="7210" y="16793"/>
                  <a:pt x="7218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4127" t="55441" r="12543" b="8947"/>
          <a:stretch/>
        </p:blipFill>
        <p:spPr>
          <a:xfrm>
            <a:off x="0" y="0"/>
            <a:ext cx="89154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6068" t="4778" r="6679" b="57474"/>
          <a:stretch/>
        </p:blipFill>
        <p:spPr>
          <a:xfrm>
            <a:off x="304920" y="0"/>
            <a:ext cx="8610480" cy="5127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751200" y="1401840"/>
            <a:ext cx="231840" cy="54000"/>
          </a:xfrm>
          <a:custGeom>
            <a:avLst/>
            <a:gdLst/>
            <a:ahLst/>
            <a:rect l="l" t="t" r="r" b="b"/>
            <a:pathLst>
              <a:path w="646" h="150">
                <a:moveTo>
                  <a:pt x="11063" y="4043"/>
                </a:moveTo>
                <a:cubicBezTo>
                  <a:pt x="11016" y="4043"/>
                  <a:pt x="10999" y="4049"/>
                  <a:pt x="10964" y="4018"/>
                </a:cubicBezTo>
                <a:cubicBezTo>
                  <a:pt x="10933" y="3990"/>
                  <a:pt x="10906" y="3987"/>
                  <a:pt x="10864" y="3969"/>
                </a:cubicBezTo>
              </a:path>
              <a:path w="646" h="150">
                <a:moveTo>
                  <a:pt x="10666" y="3919"/>
                </a:moveTo>
                <a:cubicBezTo>
                  <a:pt x="10596" y="3919"/>
                  <a:pt x="10550" y="3914"/>
                  <a:pt x="10492" y="3894"/>
                </a:cubicBezTo>
                <a:cubicBezTo>
                  <a:pt x="10459" y="3894"/>
                  <a:pt x="10443" y="3894"/>
                  <a:pt x="10418" y="3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11360" y="130320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9500" y="3621"/>
                </a:moveTo>
                <a:cubicBezTo>
                  <a:pt x="9492" y="3621"/>
                  <a:pt x="9483" y="3621"/>
                  <a:pt x="9475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03720" y="1251000"/>
            <a:ext cx="9360" cy="7920"/>
          </a:xfrm>
          <a:custGeom>
            <a:avLst/>
            <a:gdLst/>
            <a:ahLst/>
            <a:rect l="l" t="t" r="r" b="b"/>
            <a:pathLst>
              <a:path w="26" h="25">
                <a:moveTo>
                  <a:pt x="9203" y="3497"/>
                </a:moveTo>
                <a:cubicBezTo>
                  <a:pt x="9203" y="3473"/>
                  <a:pt x="9203" y="3465"/>
                  <a:pt x="9178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43160" y="1160640"/>
            <a:ext cx="19080" cy="9360"/>
          </a:xfrm>
          <a:custGeom>
            <a:avLst/>
            <a:gdLst/>
            <a:ahLst/>
            <a:rect l="l" t="t" r="r" b="b"/>
            <a:pathLst>
              <a:path w="51" h="25">
                <a:moveTo>
                  <a:pt x="8781" y="3249"/>
                </a:moveTo>
                <a:cubicBezTo>
                  <a:pt x="8753" y="3249"/>
                  <a:pt x="8742" y="3247"/>
                  <a:pt x="8731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82960" y="1071720"/>
            <a:ext cx="17280" cy="17280"/>
          </a:xfrm>
          <a:custGeom>
            <a:avLst/>
            <a:gdLst/>
            <a:ahLst/>
            <a:rect l="l" t="t" r="r" b="b"/>
            <a:pathLst>
              <a:path w="50" h="50">
                <a:moveTo>
                  <a:pt x="8334" y="3026"/>
                </a:moveTo>
                <a:cubicBezTo>
                  <a:pt x="8334" y="2994"/>
                  <a:pt x="8314" y="2998"/>
                  <a:pt x="8285" y="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97120" y="857160"/>
            <a:ext cx="16056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7938" y="2753"/>
                </a:moveTo>
                <a:cubicBezTo>
                  <a:pt x="7886" y="2724"/>
                  <a:pt x="7876" y="2730"/>
                  <a:pt x="7863" y="2679"/>
                </a:cubicBezTo>
              </a:path>
              <a:path w="448" h="373">
                <a:moveTo>
                  <a:pt x="7689" y="2555"/>
                </a:moveTo>
                <a:cubicBezTo>
                  <a:pt x="7649" y="2514"/>
                  <a:pt x="7618" y="2469"/>
                  <a:pt x="7565" y="2456"/>
                </a:cubicBezTo>
                <a:cubicBezTo>
                  <a:pt x="7553" y="2405"/>
                  <a:pt x="7542" y="2410"/>
                  <a:pt x="7491" y="23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44840" y="75888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7218" y="2208"/>
                </a:moveTo>
                <a:cubicBezTo>
                  <a:pt x="7148" y="2180"/>
                  <a:pt x="7134" y="2195"/>
                  <a:pt x="7119" y="2133"/>
                </a:cubicBezTo>
                <a:cubicBezTo>
                  <a:pt x="7091" y="2133"/>
                  <a:pt x="7080" y="2131"/>
                  <a:pt x="7069" y="21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7920" y="633240"/>
            <a:ext cx="936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6548" y="1786"/>
                </a:moveTo>
                <a:cubicBezTo>
                  <a:pt x="6548" y="1761"/>
                  <a:pt x="6548" y="1753"/>
                  <a:pt x="6524" y="1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2232000"/>
            <a:ext cx="106560" cy="12528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6772" y="6548"/>
                </a:moveTo>
                <a:cubicBezTo>
                  <a:pt x="6783" y="6504"/>
                  <a:pt x="6812" y="6483"/>
                  <a:pt x="6846" y="6449"/>
                </a:cubicBezTo>
                <a:cubicBezTo>
                  <a:pt x="6854" y="6441"/>
                  <a:pt x="6863" y="6432"/>
                  <a:pt x="6871" y="6424"/>
                </a:cubicBezTo>
              </a:path>
              <a:path w="298" h="348">
                <a:moveTo>
                  <a:pt x="7020" y="6251"/>
                </a:moveTo>
                <a:cubicBezTo>
                  <a:pt x="7056" y="6224"/>
                  <a:pt x="7058" y="6235"/>
                  <a:pt x="7069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3760" y="2143080"/>
            <a:ext cx="1908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7317" y="5978"/>
                </a:moveTo>
                <a:cubicBezTo>
                  <a:pt x="7340" y="5955"/>
                  <a:pt x="7344" y="5947"/>
                  <a:pt x="7367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24120" y="2054160"/>
            <a:ext cx="44640" cy="17640"/>
          </a:xfrm>
          <a:custGeom>
            <a:avLst/>
            <a:gdLst/>
            <a:ahLst/>
            <a:rect l="l" t="t" r="r" b="b"/>
            <a:pathLst>
              <a:path w="125" h="51">
                <a:moveTo>
                  <a:pt x="7565" y="5755"/>
                </a:moveTo>
                <a:cubicBezTo>
                  <a:pt x="7614" y="5727"/>
                  <a:pt x="7634" y="5705"/>
                  <a:pt x="7689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74960" y="1919160"/>
            <a:ext cx="54000" cy="460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7987" y="5457"/>
                </a:moveTo>
                <a:cubicBezTo>
                  <a:pt x="8029" y="5394"/>
                  <a:pt x="8033" y="5418"/>
                  <a:pt x="8086" y="5383"/>
                </a:cubicBezTo>
                <a:cubicBezTo>
                  <a:pt x="8111" y="5358"/>
                  <a:pt x="8119" y="5350"/>
                  <a:pt x="8136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36960" y="1820880"/>
            <a:ext cx="61920" cy="28440"/>
          </a:xfrm>
          <a:custGeom>
            <a:avLst/>
            <a:gdLst/>
            <a:ahLst/>
            <a:rect l="l" t="t" r="r" b="b"/>
            <a:pathLst>
              <a:path w="174" h="76">
                <a:moveTo>
                  <a:pt x="8434" y="5135"/>
                </a:moveTo>
                <a:cubicBezTo>
                  <a:pt x="8476" y="5110"/>
                  <a:pt x="8524" y="5104"/>
                  <a:pt x="8558" y="5085"/>
                </a:cubicBezTo>
                <a:cubicBezTo>
                  <a:pt x="8580" y="5062"/>
                  <a:pt x="8585" y="5054"/>
                  <a:pt x="8607" y="50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97160" y="1608120"/>
            <a:ext cx="223920" cy="14292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8880" y="4862"/>
                </a:moveTo>
                <a:cubicBezTo>
                  <a:pt x="8919" y="4839"/>
                  <a:pt x="8965" y="4800"/>
                  <a:pt x="9004" y="4787"/>
                </a:cubicBezTo>
                <a:cubicBezTo>
                  <a:pt x="9045" y="4773"/>
                  <a:pt x="9086" y="4759"/>
                  <a:pt x="9128" y="4738"/>
                </a:cubicBezTo>
              </a:path>
              <a:path w="621" h="398">
                <a:moveTo>
                  <a:pt x="9252" y="4638"/>
                </a:moveTo>
                <a:cubicBezTo>
                  <a:pt x="9313" y="4592"/>
                  <a:pt x="9328" y="4571"/>
                  <a:pt x="9376" y="4539"/>
                </a:cubicBezTo>
                <a:cubicBezTo>
                  <a:pt x="9423" y="4507"/>
                  <a:pt x="9454" y="4493"/>
                  <a:pt x="9500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10000" y="1535040"/>
            <a:ext cx="79200" cy="28800"/>
          </a:xfrm>
          <a:custGeom>
            <a:avLst/>
            <a:gdLst/>
            <a:ahLst/>
            <a:rect l="l" t="t" r="r" b="b"/>
            <a:pathLst>
              <a:path w="224" h="76">
                <a:moveTo>
                  <a:pt x="9748" y="4341"/>
                </a:moveTo>
                <a:cubicBezTo>
                  <a:pt x="9788" y="4281"/>
                  <a:pt x="9780" y="4291"/>
                  <a:pt x="9847" y="4291"/>
                </a:cubicBezTo>
                <a:cubicBezTo>
                  <a:pt x="9903" y="4291"/>
                  <a:pt x="9917" y="4274"/>
                  <a:pt x="9971" y="4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24200" y="1473120"/>
            <a:ext cx="349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0344" y="4118"/>
                </a:moveTo>
                <a:cubicBezTo>
                  <a:pt x="10393" y="4096"/>
                  <a:pt x="10395" y="4093"/>
                  <a:pt x="10443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67120" y="1411200"/>
            <a:ext cx="79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0740" y="3944"/>
                </a:moveTo>
                <a:cubicBezTo>
                  <a:pt x="10748" y="3936"/>
                  <a:pt x="10757" y="3927"/>
                  <a:pt x="10765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4840" y="1660680"/>
            <a:ext cx="633240" cy="295200"/>
          </a:xfrm>
          <a:custGeom>
            <a:avLst/>
            <a:gdLst/>
            <a:ahLst/>
            <a:rect l="l" t="t" r="r" b="b"/>
            <a:pathLst>
              <a:path w="1762" h="819">
                <a:moveTo>
                  <a:pt x="16818" y="4738"/>
                </a:moveTo>
                <a:cubicBezTo>
                  <a:pt x="16818" y="4716"/>
                  <a:pt x="16818" y="4582"/>
                  <a:pt x="16818" y="4638"/>
                </a:cubicBezTo>
                <a:cubicBezTo>
                  <a:pt x="16818" y="4742"/>
                  <a:pt x="16834" y="4835"/>
                  <a:pt x="16842" y="4936"/>
                </a:cubicBezTo>
                <a:cubicBezTo>
                  <a:pt x="16851" y="5040"/>
                  <a:pt x="16851" y="5136"/>
                  <a:pt x="16867" y="5234"/>
                </a:cubicBezTo>
                <a:cubicBezTo>
                  <a:pt x="16873" y="5272"/>
                  <a:pt x="16867" y="5319"/>
                  <a:pt x="16867" y="5358"/>
                </a:cubicBezTo>
              </a:path>
              <a:path w="1762" h="819">
                <a:moveTo>
                  <a:pt x="17066" y="5135"/>
                </a:moveTo>
                <a:cubicBezTo>
                  <a:pt x="17100" y="5065"/>
                  <a:pt x="17140" y="5012"/>
                  <a:pt x="17140" y="4936"/>
                </a:cubicBezTo>
                <a:cubicBezTo>
                  <a:pt x="17087" y="4989"/>
                  <a:pt x="17073" y="5043"/>
                  <a:pt x="17041" y="5110"/>
                </a:cubicBezTo>
                <a:cubicBezTo>
                  <a:pt x="17007" y="5180"/>
                  <a:pt x="16998" y="5264"/>
                  <a:pt x="17041" y="5333"/>
                </a:cubicBezTo>
                <a:cubicBezTo>
                  <a:pt x="17079" y="5394"/>
                  <a:pt x="17127" y="5383"/>
                  <a:pt x="17190" y="5383"/>
                </a:cubicBezTo>
                <a:cubicBezTo>
                  <a:pt x="17257" y="5383"/>
                  <a:pt x="17273" y="5342"/>
                  <a:pt x="17338" y="5333"/>
                </a:cubicBezTo>
              </a:path>
              <a:path w="1762" h="819">
                <a:moveTo>
                  <a:pt x="17338" y="5184"/>
                </a:moveTo>
                <a:cubicBezTo>
                  <a:pt x="17330" y="5168"/>
                  <a:pt x="17322" y="5151"/>
                  <a:pt x="17314" y="5135"/>
                </a:cubicBezTo>
                <a:cubicBezTo>
                  <a:pt x="17326" y="5196"/>
                  <a:pt x="17355" y="5245"/>
                  <a:pt x="17363" y="5308"/>
                </a:cubicBezTo>
              </a:path>
              <a:path w="1762" h="819">
                <a:moveTo>
                  <a:pt x="17338" y="5085"/>
                </a:moveTo>
                <a:cubicBezTo>
                  <a:pt x="17338" y="5017"/>
                  <a:pt x="17319" y="5001"/>
                  <a:pt x="17363" y="4986"/>
                </a:cubicBezTo>
              </a:path>
              <a:path w="1762" h="819">
                <a:moveTo>
                  <a:pt x="17661" y="4936"/>
                </a:moveTo>
                <a:cubicBezTo>
                  <a:pt x="17621" y="4963"/>
                  <a:pt x="17614" y="5045"/>
                  <a:pt x="17611" y="5110"/>
                </a:cubicBezTo>
                <a:cubicBezTo>
                  <a:pt x="17608" y="5181"/>
                  <a:pt x="17603" y="5321"/>
                  <a:pt x="17636" y="5383"/>
                </a:cubicBezTo>
                <a:cubicBezTo>
                  <a:pt x="17671" y="5449"/>
                  <a:pt x="17725" y="5432"/>
                  <a:pt x="17785" y="5432"/>
                </a:cubicBezTo>
              </a:path>
              <a:path w="1762" h="819">
                <a:moveTo>
                  <a:pt x="17859" y="5234"/>
                </a:moveTo>
                <a:cubicBezTo>
                  <a:pt x="17859" y="5217"/>
                  <a:pt x="17859" y="5201"/>
                  <a:pt x="17859" y="5184"/>
                </a:cubicBezTo>
                <a:cubicBezTo>
                  <a:pt x="17783" y="5184"/>
                  <a:pt x="17725" y="5190"/>
                  <a:pt x="17661" y="5209"/>
                </a:cubicBezTo>
                <a:cubicBezTo>
                  <a:pt x="17636" y="5209"/>
                  <a:pt x="17628" y="5209"/>
                  <a:pt x="17611" y="5209"/>
                </a:cubicBezTo>
              </a:path>
              <a:path w="1762" h="819">
                <a:moveTo>
                  <a:pt x="17859" y="5209"/>
                </a:moveTo>
                <a:cubicBezTo>
                  <a:pt x="17956" y="5181"/>
                  <a:pt x="18032" y="5173"/>
                  <a:pt x="18083" y="5085"/>
                </a:cubicBezTo>
                <a:cubicBezTo>
                  <a:pt x="18117" y="5027"/>
                  <a:pt x="18112" y="5011"/>
                  <a:pt x="18083" y="4961"/>
                </a:cubicBezTo>
                <a:cubicBezTo>
                  <a:pt x="18005" y="4980"/>
                  <a:pt x="17990" y="5003"/>
                  <a:pt x="17983" y="5085"/>
                </a:cubicBezTo>
                <a:cubicBezTo>
                  <a:pt x="17975" y="5179"/>
                  <a:pt x="18028" y="5325"/>
                  <a:pt x="18107" y="5383"/>
                </a:cubicBezTo>
                <a:cubicBezTo>
                  <a:pt x="18185" y="5440"/>
                  <a:pt x="18321" y="5447"/>
                  <a:pt x="18405" y="5407"/>
                </a:cubicBezTo>
                <a:cubicBezTo>
                  <a:pt x="18475" y="5373"/>
                  <a:pt x="18525" y="5312"/>
                  <a:pt x="18579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30280" y="3303720"/>
            <a:ext cx="982800" cy="1393560"/>
          </a:xfrm>
          <a:custGeom>
            <a:avLst/>
            <a:gdLst/>
            <a:ahLst/>
            <a:rect l="l" t="t" r="r" b="b"/>
            <a:pathLst>
              <a:path w="2730" h="3870">
                <a:moveTo>
                  <a:pt x="9178" y="11187"/>
                </a:moveTo>
                <a:cubicBezTo>
                  <a:pt x="9203" y="11187"/>
                  <a:pt x="9211" y="11187"/>
                  <a:pt x="9203" y="11162"/>
                </a:cubicBezTo>
                <a:cubicBezTo>
                  <a:pt x="9203" y="11193"/>
                  <a:pt x="9195" y="11229"/>
                  <a:pt x="9178" y="11237"/>
                </a:cubicBezTo>
                <a:cubicBezTo>
                  <a:pt x="9170" y="11237"/>
                  <a:pt x="9161" y="11237"/>
                  <a:pt x="9153" y="11237"/>
                </a:cubicBezTo>
                <a:cubicBezTo>
                  <a:pt x="9153" y="11185"/>
                  <a:pt x="9184" y="11187"/>
                  <a:pt x="9153" y="11187"/>
                </a:cubicBezTo>
              </a:path>
              <a:path w="2730" h="3870">
                <a:moveTo>
                  <a:pt x="6672" y="13047"/>
                </a:moveTo>
                <a:cubicBezTo>
                  <a:pt x="6707" y="13021"/>
                  <a:pt x="6726" y="13017"/>
                  <a:pt x="6747" y="12998"/>
                </a:cubicBezTo>
                <a:cubicBezTo>
                  <a:pt x="6766" y="12981"/>
                  <a:pt x="6793" y="12956"/>
                  <a:pt x="6821" y="12923"/>
                </a:cubicBezTo>
                <a:cubicBezTo>
                  <a:pt x="6840" y="12901"/>
                  <a:pt x="6846" y="12884"/>
                  <a:pt x="6871" y="12849"/>
                </a:cubicBezTo>
                <a:cubicBezTo>
                  <a:pt x="6889" y="12823"/>
                  <a:pt x="6896" y="12812"/>
                  <a:pt x="6921" y="12774"/>
                </a:cubicBezTo>
                <a:cubicBezTo>
                  <a:pt x="6921" y="12774"/>
                  <a:pt x="6964" y="12706"/>
                  <a:pt x="6970" y="12700"/>
                </a:cubicBezTo>
                <a:cubicBezTo>
                  <a:pt x="6991" y="12680"/>
                  <a:pt x="7041" y="12655"/>
                  <a:pt x="7069" y="12626"/>
                </a:cubicBezTo>
                <a:cubicBezTo>
                  <a:pt x="7123" y="12570"/>
                  <a:pt x="7193" y="12521"/>
                  <a:pt x="7243" y="12477"/>
                </a:cubicBezTo>
                <a:cubicBezTo>
                  <a:pt x="7258" y="12464"/>
                  <a:pt x="7278" y="12442"/>
                  <a:pt x="7293" y="12427"/>
                </a:cubicBezTo>
                <a:cubicBezTo>
                  <a:pt x="7328" y="12394"/>
                  <a:pt x="7366" y="12326"/>
                  <a:pt x="7392" y="12303"/>
                </a:cubicBezTo>
                <a:cubicBezTo>
                  <a:pt x="7414" y="12283"/>
                  <a:pt x="7462" y="12258"/>
                  <a:pt x="7491" y="12229"/>
                </a:cubicBezTo>
                <a:cubicBezTo>
                  <a:pt x="7507" y="12213"/>
                  <a:pt x="7533" y="12181"/>
                  <a:pt x="7565" y="12154"/>
                </a:cubicBezTo>
                <a:cubicBezTo>
                  <a:pt x="7646" y="12086"/>
                  <a:pt x="7684" y="12025"/>
                  <a:pt x="7739" y="11956"/>
                </a:cubicBezTo>
                <a:cubicBezTo>
                  <a:pt x="7766" y="11922"/>
                  <a:pt x="7802" y="11889"/>
                  <a:pt x="7838" y="11857"/>
                </a:cubicBezTo>
                <a:cubicBezTo>
                  <a:pt x="7862" y="11835"/>
                  <a:pt x="7909" y="11816"/>
                  <a:pt x="7938" y="11782"/>
                </a:cubicBezTo>
                <a:cubicBezTo>
                  <a:pt x="7994" y="11715"/>
                  <a:pt x="8047" y="11648"/>
                  <a:pt x="8111" y="11584"/>
                </a:cubicBezTo>
                <a:cubicBezTo>
                  <a:pt x="8151" y="11544"/>
                  <a:pt x="8199" y="11513"/>
                  <a:pt x="8235" y="11485"/>
                </a:cubicBezTo>
                <a:cubicBezTo>
                  <a:pt x="8286" y="11446"/>
                  <a:pt x="8331" y="11413"/>
                  <a:pt x="8384" y="11385"/>
                </a:cubicBezTo>
                <a:cubicBezTo>
                  <a:pt x="8435" y="11358"/>
                  <a:pt x="8481" y="11357"/>
                  <a:pt x="8533" y="11336"/>
                </a:cubicBezTo>
                <a:cubicBezTo>
                  <a:pt x="8570" y="11321"/>
                  <a:pt x="8618" y="11302"/>
                  <a:pt x="8657" y="11286"/>
                </a:cubicBezTo>
                <a:cubicBezTo>
                  <a:pt x="8689" y="11273"/>
                  <a:pt x="8725" y="11252"/>
                  <a:pt x="8756" y="11237"/>
                </a:cubicBezTo>
                <a:cubicBezTo>
                  <a:pt x="8798" y="11217"/>
                  <a:pt x="8838" y="11205"/>
                  <a:pt x="8880" y="11187"/>
                </a:cubicBezTo>
                <a:cubicBezTo>
                  <a:pt x="8913" y="11173"/>
                  <a:pt x="8946" y="11150"/>
                  <a:pt x="8979" y="11137"/>
                </a:cubicBezTo>
                <a:cubicBezTo>
                  <a:pt x="9015" y="11123"/>
                  <a:pt x="9026" y="11118"/>
                  <a:pt x="9054" y="11112"/>
                </a:cubicBezTo>
                <a:cubicBezTo>
                  <a:pt x="9117" y="11098"/>
                  <a:pt x="9046" y="11122"/>
                  <a:pt x="9103" y="11112"/>
                </a:cubicBezTo>
                <a:cubicBezTo>
                  <a:pt x="9063" y="11107"/>
                  <a:pt x="9014" y="11091"/>
                  <a:pt x="9004" y="11088"/>
                </a:cubicBezTo>
                <a:cubicBezTo>
                  <a:pt x="8966" y="11078"/>
                  <a:pt x="8940" y="11077"/>
                  <a:pt x="8905" y="11063"/>
                </a:cubicBezTo>
                <a:cubicBezTo>
                  <a:pt x="8865" y="11047"/>
                  <a:pt x="8817" y="11011"/>
                  <a:pt x="8781" y="10988"/>
                </a:cubicBezTo>
                <a:cubicBezTo>
                  <a:pt x="8748" y="10967"/>
                  <a:pt x="8708" y="10940"/>
                  <a:pt x="8682" y="10914"/>
                </a:cubicBezTo>
                <a:cubicBezTo>
                  <a:pt x="8642" y="10875"/>
                  <a:pt x="8619" y="10830"/>
                  <a:pt x="8582" y="10790"/>
                </a:cubicBezTo>
                <a:cubicBezTo>
                  <a:pt x="8539" y="10744"/>
                  <a:pt x="8484" y="10709"/>
                  <a:pt x="8434" y="10666"/>
                </a:cubicBezTo>
                <a:cubicBezTo>
                  <a:pt x="8392" y="10630"/>
                  <a:pt x="8350" y="10602"/>
                  <a:pt x="8310" y="10567"/>
                </a:cubicBezTo>
                <a:cubicBezTo>
                  <a:pt x="8247" y="10512"/>
                  <a:pt x="8166" y="10443"/>
                  <a:pt x="8111" y="10393"/>
                </a:cubicBezTo>
                <a:cubicBezTo>
                  <a:pt x="8026" y="10316"/>
                  <a:pt x="7963" y="10228"/>
                  <a:pt x="7888" y="10145"/>
                </a:cubicBezTo>
                <a:cubicBezTo>
                  <a:pt x="7800" y="10048"/>
                  <a:pt x="7703" y="9960"/>
                  <a:pt x="7615" y="9872"/>
                </a:cubicBezTo>
                <a:cubicBezTo>
                  <a:pt x="7574" y="9831"/>
                  <a:pt x="7540" y="9786"/>
                  <a:pt x="7491" y="9748"/>
                </a:cubicBezTo>
                <a:cubicBezTo>
                  <a:pt x="7456" y="9721"/>
                  <a:pt x="7416" y="9669"/>
                  <a:pt x="7392" y="9649"/>
                </a:cubicBezTo>
                <a:cubicBezTo>
                  <a:pt x="7369" y="9630"/>
                  <a:pt x="7323" y="9600"/>
                  <a:pt x="7293" y="9575"/>
                </a:cubicBezTo>
                <a:cubicBezTo>
                  <a:pt x="7272" y="9558"/>
                  <a:pt x="7254" y="9546"/>
                  <a:pt x="7218" y="9525"/>
                </a:cubicBezTo>
                <a:cubicBezTo>
                  <a:pt x="7177" y="9501"/>
                  <a:pt x="7139" y="9489"/>
                  <a:pt x="7094" y="9475"/>
                </a:cubicBezTo>
                <a:cubicBezTo>
                  <a:pt x="7058" y="9464"/>
                  <a:pt x="7008" y="9464"/>
                  <a:pt x="6970" y="9451"/>
                </a:cubicBezTo>
                <a:cubicBezTo>
                  <a:pt x="6940" y="9441"/>
                  <a:pt x="6900" y="9414"/>
                  <a:pt x="6871" y="9401"/>
                </a:cubicBezTo>
                <a:cubicBezTo>
                  <a:pt x="6838" y="9386"/>
                  <a:pt x="6803" y="9366"/>
                  <a:pt x="6772" y="9351"/>
                </a:cubicBezTo>
                <a:cubicBezTo>
                  <a:pt x="6732" y="9331"/>
                  <a:pt x="6685" y="9323"/>
                  <a:pt x="6648" y="9302"/>
                </a:cubicBezTo>
                <a:cubicBezTo>
                  <a:pt x="6629" y="9291"/>
                  <a:pt x="6598" y="9266"/>
                  <a:pt x="6573" y="9252"/>
                </a:cubicBezTo>
                <a:cubicBezTo>
                  <a:pt x="6543" y="9235"/>
                  <a:pt x="6538" y="9231"/>
                  <a:pt x="6499" y="9203"/>
                </a:cubicBezTo>
                <a:cubicBezTo>
                  <a:pt x="6474" y="9203"/>
                  <a:pt x="6466" y="9203"/>
                  <a:pt x="6474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07040" y="4367160"/>
            <a:ext cx="393840" cy="285840"/>
          </a:xfrm>
          <a:custGeom>
            <a:avLst/>
            <a:gdLst/>
            <a:ahLst/>
            <a:rect l="l" t="t" r="r" b="b"/>
            <a:pathLst>
              <a:path w="1093" h="795">
                <a:moveTo>
                  <a:pt x="17066" y="12328"/>
                </a:moveTo>
                <a:cubicBezTo>
                  <a:pt x="17018" y="12352"/>
                  <a:pt x="17005" y="12352"/>
                  <a:pt x="16966" y="12378"/>
                </a:cubicBezTo>
                <a:cubicBezTo>
                  <a:pt x="16972" y="12327"/>
                  <a:pt x="16967" y="12322"/>
                  <a:pt x="16991" y="12278"/>
                </a:cubicBezTo>
                <a:cubicBezTo>
                  <a:pt x="17026" y="12214"/>
                  <a:pt x="17113" y="12143"/>
                  <a:pt x="17190" y="12129"/>
                </a:cubicBezTo>
                <a:cubicBezTo>
                  <a:pt x="17295" y="12111"/>
                  <a:pt x="17333" y="12217"/>
                  <a:pt x="17338" y="12303"/>
                </a:cubicBezTo>
                <a:cubicBezTo>
                  <a:pt x="17346" y="12436"/>
                  <a:pt x="17272" y="12550"/>
                  <a:pt x="17190" y="12650"/>
                </a:cubicBezTo>
                <a:cubicBezTo>
                  <a:pt x="17148" y="12702"/>
                  <a:pt x="17117" y="12746"/>
                  <a:pt x="17090" y="12799"/>
                </a:cubicBezTo>
                <a:cubicBezTo>
                  <a:pt x="17167" y="12780"/>
                  <a:pt x="17256" y="12756"/>
                  <a:pt x="17338" y="12750"/>
                </a:cubicBezTo>
                <a:cubicBezTo>
                  <a:pt x="17521" y="12737"/>
                  <a:pt x="17689" y="12753"/>
                  <a:pt x="17859" y="12824"/>
                </a:cubicBezTo>
                <a:cubicBezTo>
                  <a:pt x="17959" y="12874"/>
                  <a:pt x="17992" y="12890"/>
                  <a:pt x="1805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3678" t="43835" r="11028" b="8446"/>
          <a:stretch/>
        </p:blipFill>
        <p:spPr>
          <a:xfrm>
            <a:off x="304920" y="0"/>
            <a:ext cx="8305560" cy="6396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973240" y="1044720"/>
            <a:ext cx="179640" cy="19656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8334" y="3125"/>
                </a:moveTo>
                <a:cubicBezTo>
                  <a:pt x="8325" y="3154"/>
                  <a:pt x="8284" y="3172"/>
                  <a:pt x="8260" y="3125"/>
                </a:cubicBezTo>
                <a:cubicBezTo>
                  <a:pt x="8239" y="3084"/>
                  <a:pt x="8290" y="3007"/>
                  <a:pt x="8310" y="2977"/>
                </a:cubicBezTo>
                <a:cubicBezTo>
                  <a:pt x="8346" y="2924"/>
                  <a:pt x="8425" y="2905"/>
                  <a:pt x="8483" y="2902"/>
                </a:cubicBezTo>
                <a:cubicBezTo>
                  <a:pt x="8540" y="2899"/>
                  <a:pt x="8592" y="2945"/>
                  <a:pt x="8607" y="3001"/>
                </a:cubicBezTo>
                <a:cubicBezTo>
                  <a:pt x="8622" y="3058"/>
                  <a:pt x="8612" y="3151"/>
                  <a:pt x="8582" y="3200"/>
                </a:cubicBezTo>
                <a:cubicBezTo>
                  <a:pt x="8548" y="3256"/>
                  <a:pt x="8475" y="3280"/>
                  <a:pt x="8458" y="3349"/>
                </a:cubicBezTo>
                <a:cubicBezTo>
                  <a:pt x="8446" y="3401"/>
                  <a:pt x="8455" y="3442"/>
                  <a:pt x="8508" y="3448"/>
                </a:cubicBezTo>
                <a:cubicBezTo>
                  <a:pt x="8563" y="3454"/>
                  <a:pt x="8587" y="3426"/>
                  <a:pt x="8632" y="3423"/>
                </a:cubicBezTo>
                <a:cubicBezTo>
                  <a:pt x="8663" y="3421"/>
                  <a:pt x="8738" y="3424"/>
                  <a:pt x="8756" y="3398"/>
                </a:cubicBezTo>
                <a:cubicBezTo>
                  <a:pt x="8756" y="3390"/>
                  <a:pt x="8756" y="3381"/>
                  <a:pt x="8756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6080" y="982800"/>
            <a:ext cx="446040" cy="303120"/>
          </a:xfrm>
          <a:custGeom>
            <a:avLst/>
            <a:gdLst/>
            <a:ahLst/>
            <a:rect l="l" t="t" r="r" b="b"/>
            <a:pathLst>
              <a:path w="1241" h="844">
                <a:moveTo>
                  <a:pt x="9277" y="2853"/>
                </a:moveTo>
                <a:cubicBezTo>
                  <a:pt x="9284" y="2823"/>
                  <a:pt x="9295" y="2808"/>
                  <a:pt x="9302" y="2778"/>
                </a:cubicBezTo>
                <a:cubicBezTo>
                  <a:pt x="9247" y="2792"/>
                  <a:pt x="9230" y="2825"/>
                  <a:pt x="9203" y="2877"/>
                </a:cubicBezTo>
                <a:cubicBezTo>
                  <a:pt x="9160" y="2958"/>
                  <a:pt x="9131" y="3035"/>
                  <a:pt x="9128" y="3125"/>
                </a:cubicBezTo>
                <a:cubicBezTo>
                  <a:pt x="9125" y="3207"/>
                  <a:pt x="9165" y="3280"/>
                  <a:pt x="9178" y="3349"/>
                </a:cubicBezTo>
                <a:cubicBezTo>
                  <a:pt x="9178" y="3390"/>
                  <a:pt x="9170" y="3406"/>
                  <a:pt x="9203" y="3398"/>
                </a:cubicBezTo>
              </a:path>
              <a:path w="1241" h="844">
                <a:moveTo>
                  <a:pt x="9451" y="3001"/>
                </a:moveTo>
                <a:cubicBezTo>
                  <a:pt x="9459" y="2993"/>
                  <a:pt x="9467" y="2985"/>
                  <a:pt x="9475" y="2977"/>
                </a:cubicBezTo>
                <a:cubicBezTo>
                  <a:pt x="9475" y="3041"/>
                  <a:pt x="9440" y="3262"/>
                  <a:pt x="9500" y="3299"/>
                </a:cubicBezTo>
                <a:cubicBezTo>
                  <a:pt x="9544" y="3326"/>
                  <a:pt x="9543" y="3310"/>
                  <a:pt x="9599" y="3299"/>
                </a:cubicBezTo>
                <a:cubicBezTo>
                  <a:pt x="9632" y="3292"/>
                  <a:pt x="9694" y="3291"/>
                  <a:pt x="9723" y="3274"/>
                </a:cubicBezTo>
                <a:cubicBezTo>
                  <a:pt x="9748" y="3249"/>
                  <a:pt x="9756" y="3241"/>
                  <a:pt x="9723" y="3274"/>
                </a:cubicBezTo>
              </a:path>
              <a:path w="1241" h="844">
                <a:moveTo>
                  <a:pt x="9599" y="3200"/>
                </a:moveTo>
                <a:cubicBezTo>
                  <a:pt x="9599" y="3267"/>
                  <a:pt x="9614" y="3312"/>
                  <a:pt x="9624" y="3373"/>
                </a:cubicBezTo>
                <a:cubicBezTo>
                  <a:pt x="9631" y="3417"/>
                  <a:pt x="9640" y="3454"/>
                  <a:pt x="9649" y="3497"/>
                </a:cubicBezTo>
              </a:path>
              <a:path w="1241" h="844">
                <a:moveTo>
                  <a:pt x="9922" y="3026"/>
                </a:move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</a:path>
              <a:path w="1241" h="844">
                <a:moveTo>
                  <a:pt x="9847" y="2927"/>
                </a:moveTo>
                <a:cubicBezTo>
                  <a:pt x="9806" y="2869"/>
                  <a:pt x="9829" y="2882"/>
                  <a:pt x="9872" y="2853"/>
                </a:cubicBezTo>
                <a:cubicBezTo>
                  <a:pt x="9901" y="2834"/>
                  <a:pt x="9945" y="2801"/>
                  <a:pt x="9971" y="2853"/>
                </a:cubicBezTo>
                <a:cubicBezTo>
                  <a:pt x="9987" y="2885"/>
                  <a:pt x="9996" y="2912"/>
                  <a:pt x="9996" y="2952"/>
                </a:cubicBezTo>
                <a:cubicBezTo>
                  <a:pt x="9996" y="2997"/>
                  <a:pt x="9976" y="3010"/>
                  <a:pt x="9971" y="3051"/>
                </a:cubicBezTo>
                <a:cubicBezTo>
                  <a:pt x="9965" y="3104"/>
                  <a:pt x="10008" y="3101"/>
                  <a:pt x="10046" y="3101"/>
                </a:cubicBezTo>
                <a:cubicBezTo>
                  <a:pt x="10093" y="3101"/>
                  <a:pt x="10132" y="3116"/>
                  <a:pt x="10145" y="3076"/>
                </a:cubicBezTo>
              </a:path>
              <a:path w="1241" h="844">
                <a:moveTo>
                  <a:pt x="10096" y="2753"/>
                </a:moveTo>
                <a:cubicBezTo>
                  <a:pt x="10108" y="2717"/>
                  <a:pt x="10126" y="2729"/>
                  <a:pt x="10170" y="2729"/>
                </a:cubicBezTo>
                <a:cubicBezTo>
                  <a:pt x="10196" y="2729"/>
                  <a:pt x="10278" y="2784"/>
                  <a:pt x="10294" y="2803"/>
                </a:cubicBezTo>
                <a:cubicBezTo>
                  <a:pt x="10346" y="2864"/>
                  <a:pt x="10365" y="2951"/>
                  <a:pt x="10368" y="3026"/>
                </a:cubicBezTo>
                <a:cubicBezTo>
                  <a:pt x="10373" y="3132"/>
                  <a:pt x="10380" y="3249"/>
                  <a:pt x="10344" y="3349"/>
                </a:cubicBezTo>
                <a:cubicBezTo>
                  <a:pt x="10321" y="3413"/>
                  <a:pt x="10277" y="3466"/>
                  <a:pt x="10244" y="3522"/>
                </a:cubicBezTo>
                <a:cubicBezTo>
                  <a:pt x="10236" y="3539"/>
                  <a:pt x="10228" y="3555"/>
                  <a:pt x="10220" y="3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6040" y="110808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0988" y="3150"/>
                </a:moveTo>
                <a:cubicBezTo>
                  <a:pt x="10988" y="3142"/>
                  <a:pt x="10988" y="3133"/>
                  <a:pt x="10988" y="3125"/>
                </a:cubicBezTo>
                <a:cubicBezTo>
                  <a:pt x="11056" y="3125"/>
                  <a:pt x="11099" y="3116"/>
                  <a:pt x="11162" y="3101"/>
                </a:cubicBezTo>
                <a:cubicBezTo>
                  <a:pt x="11211" y="3089"/>
                  <a:pt x="11218" y="3109"/>
                  <a:pt x="11261" y="3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87880" y="938160"/>
            <a:ext cx="162000" cy="241200"/>
          </a:xfrm>
          <a:custGeom>
            <a:avLst/>
            <a:gdLst/>
            <a:ahLst/>
            <a:rect l="l" t="t" r="r" b="b"/>
            <a:pathLst>
              <a:path w="448" h="671">
                <a:moveTo>
                  <a:pt x="11683" y="2828"/>
                </a:moveTo>
                <a:cubicBezTo>
                  <a:pt x="11683" y="2803"/>
                  <a:pt x="11683" y="2795"/>
                  <a:pt x="11683" y="2778"/>
                </a:cubicBezTo>
                <a:cubicBezTo>
                  <a:pt x="11670" y="2832"/>
                  <a:pt x="11638" y="2840"/>
                  <a:pt x="11633" y="2902"/>
                </a:cubicBezTo>
                <a:cubicBezTo>
                  <a:pt x="11629" y="2947"/>
                  <a:pt x="11629" y="2969"/>
                  <a:pt x="11658" y="3001"/>
                </a:cubicBezTo>
                <a:cubicBezTo>
                  <a:pt x="11718" y="3067"/>
                  <a:pt x="11786" y="3035"/>
                  <a:pt x="11857" y="3076"/>
                </a:cubicBezTo>
                <a:cubicBezTo>
                  <a:pt x="11890" y="3095"/>
                  <a:pt x="11963" y="3135"/>
                  <a:pt x="11981" y="3175"/>
                </a:cubicBezTo>
                <a:cubicBezTo>
                  <a:pt x="12007" y="3233"/>
                  <a:pt x="11928" y="3217"/>
                  <a:pt x="11906" y="3225"/>
                </a:cubicBezTo>
                <a:cubicBezTo>
                  <a:pt x="11840" y="3248"/>
                  <a:pt x="11778" y="3269"/>
                  <a:pt x="11708" y="3274"/>
                </a:cubicBezTo>
                <a:cubicBezTo>
                  <a:pt x="11700" y="3274"/>
                  <a:pt x="11691" y="3274"/>
                  <a:pt x="11683" y="3274"/>
                </a:cubicBezTo>
              </a:path>
              <a:path w="448" h="671">
                <a:moveTo>
                  <a:pt x="12055" y="2604"/>
                </a:moveTo>
                <a:cubicBezTo>
                  <a:pt x="12063" y="2604"/>
                  <a:pt x="12072" y="2604"/>
                  <a:pt x="12080" y="2604"/>
                </a:cubicBezTo>
                <a:cubicBezTo>
                  <a:pt x="12036" y="2615"/>
                  <a:pt x="11998" y="2668"/>
                  <a:pt x="11956" y="2679"/>
                </a:cubicBezTo>
                <a:cubicBezTo>
                  <a:pt x="11904" y="2679"/>
                  <a:pt x="11886" y="2680"/>
                  <a:pt x="11857" y="2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37200" y="1704960"/>
            <a:ext cx="419040" cy="2239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6818" y="4986"/>
                </a:moveTo>
                <a:cubicBezTo>
                  <a:pt x="16793" y="4986"/>
                  <a:pt x="16785" y="4986"/>
                  <a:pt x="16768" y="4986"/>
                </a:cubicBezTo>
                <a:cubicBezTo>
                  <a:pt x="16768" y="4918"/>
                  <a:pt x="16755" y="4885"/>
                  <a:pt x="16818" y="4837"/>
                </a:cubicBezTo>
                <a:cubicBezTo>
                  <a:pt x="16874" y="4795"/>
                  <a:pt x="16971" y="4765"/>
                  <a:pt x="17041" y="4787"/>
                </a:cubicBezTo>
                <a:cubicBezTo>
                  <a:pt x="17094" y="4804"/>
                  <a:pt x="17122" y="4966"/>
                  <a:pt x="17115" y="5011"/>
                </a:cubicBezTo>
                <a:cubicBezTo>
                  <a:pt x="17103" y="5090"/>
                  <a:pt x="17034" y="5165"/>
                  <a:pt x="17016" y="5234"/>
                </a:cubicBezTo>
                <a:cubicBezTo>
                  <a:pt x="17007" y="5268"/>
                  <a:pt x="17016" y="5322"/>
                  <a:pt x="17016" y="5358"/>
                </a:cubicBezTo>
                <a:cubicBezTo>
                  <a:pt x="17072" y="5358"/>
                  <a:pt x="17114" y="5340"/>
                  <a:pt x="17165" y="5333"/>
                </a:cubicBezTo>
                <a:cubicBezTo>
                  <a:pt x="17243" y="5323"/>
                  <a:pt x="17308" y="5308"/>
                  <a:pt x="17388" y="5308"/>
                </a:cubicBezTo>
                <a:cubicBezTo>
                  <a:pt x="17444" y="5308"/>
                  <a:pt x="17449" y="5323"/>
                  <a:pt x="17462" y="5283"/>
                </a:cubicBezTo>
              </a:path>
              <a:path w="1167" h="621">
                <a:moveTo>
                  <a:pt x="17512" y="4762"/>
                </a:moveTo>
                <a:cubicBezTo>
                  <a:pt x="17481" y="4752"/>
                  <a:pt x="17405" y="4738"/>
                  <a:pt x="17438" y="4738"/>
                </a:cubicBezTo>
                <a:cubicBezTo>
                  <a:pt x="17557" y="4738"/>
                  <a:pt x="17821" y="4685"/>
                  <a:pt x="17909" y="4762"/>
                </a:cubicBezTo>
                <a:cubicBezTo>
                  <a:pt x="17956" y="4803"/>
                  <a:pt x="17930" y="4858"/>
                  <a:pt x="17909" y="4911"/>
                </a:cubicBezTo>
                <a:cubicBezTo>
                  <a:pt x="17875" y="4995"/>
                  <a:pt x="17856" y="5074"/>
                  <a:pt x="17835" y="5159"/>
                </a:cubicBezTo>
                <a:cubicBezTo>
                  <a:pt x="17819" y="5225"/>
                  <a:pt x="17810" y="5267"/>
                  <a:pt x="17810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68800" y="2116080"/>
            <a:ext cx="741240" cy="376200"/>
          </a:xfrm>
          <a:custGeom>
            <a:avLst/>
            <a:gdLst/>
            <a:ahLst/>
            <a:rect l="l" t="t" r="r" b="b"/>
            <a:pathLst>
              <a:path w="2059" h="1043">
                <a:moveTo>
                  <a:pt x="9302" y="6375"/>
                </a:moveTo>
                <a:cubicBezTo>
                  <a:pt x="9327" y="6375"/>
                  <a:pt x="9335" y="6375"/>
                  <a:pt x="9351" y="6375"/>
                </a:cubicBezTo>
                <a:cubicBezTo>
                  <a:pt x="9342" y="6328"/>
                  <a:pt x="9333" y="6286"/>
                  <a:pt x="9302" y="6251"/>
                </a:cubicBezTo>
                <a:cubicBezTo>
                  <a:pt x="9273" y="6219"/>
                  <a:pt x="9244" y="6181"/>
                  <a:pt x="9203" y="6176"/>
                </a:cubicBezTo>
                <a:cubicBezTo>
                  <a:pt x="9163" y="6171"/>
                  <a:pt x="9121" y="6185"/>
                  <a:pt x="9103" y="6226"/>
                </a:cubicBezTo>
                <a:cubicBezTo>
                  <a:pt x="9073" y="6293"/>
                  <a:pt x="9120" y="6389"/>
                  <a:pt x="9128" y="6449"/>
                </a:cubicBezTo>
                <a:cubicBezTo>
                  <a:pt x="9140" y="6538"/>
                  <a:pt x="9154" y="6637"/>
                  <a:pt x="9178" y="6722"/>
                </a:cubicBezTo>
                <a:cubicBezTo>
                  <a:pt x="9195" y="6780"/>
                  <a:pt x="9221" y="6836"/>
                  <a:pt x="9227" y="6896"/>
                </a:cubicBezTo>
                <a:cubicBezTo>
                  <a:pt x="9227" y="6904"/>
                  <a:pt x="9227" y="6913"/>
                  <a:pt x="9227" y="6921"/>
                </a:cubicBezTo>
              </a:path>
              <a:path w="2059" h="1043">
                <a:moveTo>
                  <a:pt x="9252" y="6697"/>
                </a:moveTo>
                <a:cubicBezTo>
                  <a:pt x="9252" y="6689"/>
                  <a:pt x="9252" y="6680"/>
                  <a:pt x="9252" y="6672"/>
                </a:cubicBezTo>
                <a:cubicBezTo>
                  <a:pt x="9205" y="6684"/>
                  <a:pt x="9196" y="6728"/>
                  <a:pt x="9153" y="6747"/>
                </a:cubicBezTo>
                <a:cubicBezTo>
                  <a:pt x="9137" y="6754"/>
                  <a:pt x="9097" y="6747"/>
                  <a:pt x="9079" y="6747"/>
                </a:cubicBezTo>
              </a:path>
              <a:path w="2059" h="1043">
                <a:moveTo>
                  <a:pt x="9649" y="6251"/>
                </a:moveTo>
                <a:cubicBezTo>
                  <a:pt x="9657" y="6234"/>
                  <a:pt x="9666" y="6218"/>
                  <a:pt x="9674" y="6201"/>
                </a:cubicBezTo>
                <a:cubicBezTo>
                  <a:pt x="9634" y="6272"/>
                  <a:pt x="9587" y="6340"/>
                  <a:pt x="9575" y="6424"/>
                </a:cubicBezTo>
                <a:cubicBezTo>
                  <a:pt x="9562" y="6513"/>
                  <a:pt x="9581" y="6591"/>
                  <a:pt x="9599" y="6672"/>
                </a:cubicBezTo>
                <a:cubicBezTo>
                  <a:pt x="9599" y="6700"/>
                  <a:pt x="9601" y="6711"/>
                  <a:pt x="9624" y="6722"/>
                </a:cubicBezTo>
              </a:path>
              <a:path w="2059" h="1043">
                <a:moveTo>
                  <a:pt x="9823" y="6424"/>
                </a:moveTo>
                <a:cubicBezTo>
                  <a:pt x="9798" y="6424"/>
                  <a:pt x="9790" y="6424"/>
                  <a:pt x="9798" y="6400"/>
                </a:cubicBezTo>
                <a:cubicBezTo>
                  <a:pt x="9807" y="6382"/>
                  <a:pt x="9865" y="6309"/>
                  <a:pt x="9897" y="6300"/>
                </a:cubicBezTo>
                <a:cubicBezTo>
                  <a:pt x="9966" y="6280"/>
                  <a:pt x="9981" y="6315"/>
                  <a:pt x="9996" y="6375"/>
                </a:cubicBezTo>
                <a:cubicBezTo>
                  <a:pt x="10009" y="6425"/>
                  <a:pt x="9991" y="6528"/>
                  <a:pt x="9971" y="6573"/>
                </a:cubicBezTo>
                <a:cubicBezTo>
                  <a:pt x="9957" y="6605"/>
                  <a:pt x="9916" y="6670"/>
                  <a:pt x="9971" y="6697"/>
                </a:cubicBezTo>
                <a:cubicBezTo>
                  <a:pt x="10010" y="6717"/>
                  <a:pt x="10064" y="6680"/>
                  <a:pt x="10096" y="6672"/>
                </a:cubicBezTo>
                <a:cubicBezTo>
                  <a:pt x="10104" y="6670"/>
                  <a:pt x="10193" y="6651"/>
                  <a:pt x="10195" y="6648"/>
                </a:cubicBezTo>
                <a:cubicBezTo>
                  <a:pt x="10216" y="6621"/>
                  <a:pt x="10207" y="6611"/>
                  <a:pt x="10244" y="6598"/>
                </a:cubicBezTo>
              </a:path>
              <a:path w="2059" h="1043">
                <a:moveTo>
                  <a:pt x="10269" y="6226"/>
                </a:moveTo>
                <a:cubicBezTo>
                  <a:pt x="10316" y="6226"/>
                  <a:pt x="10332" y="6209"/>
                  <a:pt x="10368" y="6201"/>
                </a:cubicBezTo>
                <a:cubicBezTo>
                  <a:pt x="10424" y="6189"/>
                  <a:pt x="10466" y="6167"/>
                  <a:pt x="10517" y="6152"/>
                </a:cubicBezTo>
                <a:cubicBezTo>
                  <a:pt x="10544" y="6144"/>
                  <a:pt x="10587" y="6152"/>
                  <a:pt x="10616" y="6152"/>
                </a:cubicBezTo>
                <a:cubicBezTo>
                  <a:pt x="10616" y="6245"/>
                  <a:pt x="10625" y="6335"/>
                  <a:pt x="10592" y="6424"/>
                </a:cubicBezTo>
                <a:cubicBezTo>
                  <a:pt x="10573" y="6474"/>
                  <a:pt x="10562" y="6558"/>
                  <a:pt x="10542" y="6598"/>
                </a:cubicBezTo>
                <a:cubicBezTo>
                  <a:pt x="10516" y="6649"/>
                  <a:pt x="10531" y="6625"/>
                  <a:pt x="10567" y="6598"/>
                </a:cubicBezTo>
              </a:path>
              <a:path w="2059" h="1043">
                <a:moveTo>
                  <a:pt x="10641" y="5904"/>
                </a:moveTo>
                <a:cubicBezTo>
                  <a:pt x="10679" y="5876"/>
                  <a:pt x="10692" y="5879"/>
                  <a:pt x="10740" y="5879"/>
                </a:cubicBezTo>
                <a:cubicBezTo>
                  <a:pt x="10776" y="5879"/>
                  <a:pt x="10859" y="5905"/>
                  <a:pt x="10889" y="5928"/>
                </a:cubicBezTo>
                <a:cubicBezTo>
                  <a:pt x="10948" y="5973"/>
                  <a:pt x="11029" y="6065"/>
                  <a:pt x="11063" y="6127"/>
                </a:cubicBezTo>
                <a:cubicBezTo>
                  <a:pt x="11103" y="6199"/>
                  <a:pt x="11149" y="6317"/>
                  <a:pt x="11137" y="6400"/>
                </a:cubicBezTo>
                <a:cubicBezTo>
                  <a:pt x="11123" y="6493"/>
                  <a:pt x="11071" y="6586"/>
                  <a:pt x="11038" y="6672"/>
                </a:cubicBezTo>
                <a:cubicBezTo>
                  <a:pt x="11007" y="6756"/>
                  <a:pt x="10977" y="6783"/>
                  <a:pt x="10914" y="6846"/>
                </a:cubicBezTo>
                <a:cubicBezTo>
                  <a:pt x="10878" y="6882"/>
                  <a:pt x="10904" y="6883"/>
                  <a:pt x="10864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37080" y="2251080"/>
            <a:ext cx="411120" cy="169920"/>
          </a:xfrm>
          <a:custGeom>
            <a:avLst/>
            <a:gdLst/>
            <a:ahLst/>
            <a:rect l="l" t="t" r="r" b="b"/>
            <a:pathLst>
              <a:path w="1142" h="472">
                <a:moveTo>
                  <a:pt x="12601" y="6524"/>
                </a:moveTo>
                <a:cubicBezTo>
                  <a:pt x="12648" y="6535"/>
                  <a:pt x="12626" y="6542"/>
                  <a:pt x="12700" y="6548"/>
                </a:cubicBezTo>
                <a:cubicBezTo>
                  <a:pt x="12759" y="6553"/>
                  <a:pt x="12842" y="6518"/>
                  <a:pt x="12898" y="6499"/>
                </a:cubicBezTo>
                <a:cubicBezTo>
                  <a:pt x="12992" y="6468"/>
                  <a:pt x="13097" y="6453"/>
                  <a:pt x="13196" y="6449"/>
                </a:cubicBezTo>
                <a:cubicBezTo>
                  <a:pt x="13326" y="6444"/>
                  <a:pt x="13446" y="6444"/>
                  <a:pt x="13568" y="6424"/>
                </a:cubicBezTo>
                <a:cubicBezTo>
                  <a:pt x="13624" y="6415"/>
                  <a:pt x="13657" y="6400"/>
                  <a:pt x="13717" y="6400"/>
                </a:cubicBezTo>
                <a:cubicBezTo>
                  <a:pt x="13725" y="6400"/>
                  <a:pt x="13734" y="6400"/>
                  <a:pt x="13742" y="6400"/>
                </a:cubicBezTo>
                <a:cubicBezTo>
                  <a:pt x="13735" y="6451"/>
                  <a:pt x="13727" y="6478"/>
                  <a:pt x="13692" y="6524"/>
                </a:cubicBezTo>
                <a:cubicBezTo>
                  <a:pt x="13650" y="6578"/>
                  <a:pt x="13592" y="6604"/>
                  <a:pt x="13543" y="6648"/>
                </a:cubicBezTo>
                <a:cubicBezTo>
                  <a:pt x="13512" y="6675"/>
                  <a:pt x="13506" y="6688"/>
                  <a:pt x="13469" y="6697"/>
                </a:cubicBezTo>
                <a:cubicBezTo>
                  <a:pt x="13469" y="6742"/>
                  <a:pt x="13482" y="6672"/>
                  <a:pt x="13519" y="6648"/>
                </a:cubicBezTo>
                <a:cubicBezTo>
                  <a:pt x="13567" y="6617"/>
                  <a:pt x="13655" y="6567"/>
                  <a:pt x="13692" y="6524"/>
                </a:cubicBezTo>
                <a:cubicBezTo>
                  <a:pt x="13715" y="6497"/>
                  <a:pt x="13732" y="6410"/>
                  <a:pt x="13717" y="6375"/>
                </a:cubicBezTo>
                <a:cubicBezTo>
                  <a:pt x="13705" y="6346"/>
                  <a:pt x="13599" y="6283"/>
                  <a:pt x="13568" y="6276"/>
                </a:cubicBezTo>
                <a:cubicBezTo>
                  <a:pt x="13506" y="6262"/>
                  <a:pt x="13475" y="6285"/>
                  <a:pt x="13419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70320" y="2062080"/>
            <a:ext cx="679680" cy="304920"/>
          </a:xfrm>
          <a:custGeom>
            <a:avLst/>
            <a:gdLst/>
            <a:ahLst/>
            <a:rect l="l" t="t" r="r" b="b"/>
            <a:pathLst>
              <a:path w="1886" h="844">
                <a:moveTo>
                  <a:pt x="14436" y="6350"/>
                </a:moveTo>
                <a:cubicBezTo>
                  <a:pt x="14391" y="6342"/>
                  <a:pt x="14368" y="6343"/>
                  <a:pt x="14362" y="6300"/>
                </a:cubicBezTo>
                <a:cubicBezTo>
                  <a:pt x="14356" y="6254"/>
                  <a:pt x="14428" y="6221"/>
                  <a:pt x="14461" y="6201"/>
                </a:cubicBezTo>
                <a:cubicBezTo>
                  <a:pt x="14487" y="6185"/>
                  <a:pt x="14607" y="6148"/>
                  <a:pt x="14635" y="6176"/>
                </a:cubicBezTo>
                <a:cubicBezTo>
                  <a:pt x="14695" y="6236"/>
                  <a:pt x="14671" y="6266"/>
                  <a:pt x="14660" y="6325"/>
                </a:cubicBezTo>
                <a:cubicBezTo>
                  <a:pt x="14646" y="6399"/>
                  <a:pt x="14608" y="6430"/>
                  <a:pt x="14585" y="6499"/>
                </a:cubicBezTo>
                <a:cubicBezTo>
                  <a:pt x="14585" y="6524"/>
                  <a:pt x="14585" y="6532"/>
                  <a:pt x="14585" y="6548"/>
                </a:cubicBezTo>
                <a:cubicBezTo>
                  <a:pt x="14636" y="6548"/>
                  <a:pt x="14658" y="6585"/>
                  <a:pt x="14709" y="6573"/>
                </a:cubicBezTo>
                <a:cubicBezTo>
                  <a:pt x="14768" y="6559"/>
                  <a:pt x="14793" y="6548"/>
                  <a:pt x="14858" y="6548"/>
                </a:cubicBezTo>
                <a:cubicBezTo>
                  <a:pt x="14866" y="6548"/>
                  <a:pt x="14875" y="6548"/>
                  <a:pt x="14883" y="6548"/>
                </a:cubicBezTo>
              </a:path>
              <a:path w="1886" h="844">
                <a:moveTo>
                  <a:pt x="14957" y="6127"/>
                </a:moveTo>
                <a:cubicBezTo>
                  <a:pt x="14890" y="6127"/>
                  <a:pt x="14996" y="6127"/>
                  <a:pt x="15007" y="6127"/>
                </a:cubicBezTo>
                <a:cubicBezTo>
                  <a:pt x="15082" y="6127"/>
                  <a:pt x="15336" y="6085"/>
                  <a:pt x="15379" y="6152"/>
                </a:cubicBezTo>
                <a:cubicBezTo>
                  <a:pt x="15415" y="6208"/>
                  <a:pt x="15337" y="6277"/>
                  <a:pt x="15329" y="6325"/>
                </a:cubicBezTo>
                <a:cubicBezTo>
                  <a:pt x="15317" y="6391"/>
                  <a:pt x="15286" y="6459"/>
                  <a:pt x="15280" y="6524"/>
                </a:cubicBezTo>
                <a:cubicBezTo>
                  <a:pt x="15280" y="6548"/>
                  <a:pt x="15280" y="6557"/>
                  <a:pt x="15280" y="6573"/>
                </a:cubicBezTo>
              </a:path>
              <a:path w="1886" h="844">
                <a:moveTo>
                  <a:pt x="15974" y="5779"/>
                </a:moveTo>
                <a:cubicBezTo>
                  <a:pt x="15974" y="5755"/>
                  <a:pt x="15974" y="5746"/>
                  <a:pt x="15974" y="5730"/>
                </a:cubicBezTo>
                <a:cubicBezTo>
                  <a:pt x="15974" y="5808"/>
                  <a:pt x="15961" y="5890"/>
                  <a:pt x="15999" y="5953"/>
                </a:cubicBezTo>
              </a:path>
              <a:path w="1886" h="844">
                <a:moveTo>
                  <a:pt x="16197" y="5953"/>
                </a:moveTo>
                <a:cubicBezTo>
                  <a:pt x="16205" y="5953"/>
                  <a:pt x="16214" y="5953"/>
                  <a:pt x="16222" y="5953"/>
                </a:cubicBezTo>
                <a:cubicBezTo>
                  <a:pt x="16169" y="5953"/>
                  <a:pt x="16152" y="5973"/>
                  <a:pt x="16098" y="5978"/>
                </a:cubicBezTo>
                <a:cubicBezTo>
                  <a:pt x="16053" y="5982"/>
                  <a:pt x="16021" y="6003"/>
                  <a:pt x="15974" y="6003"/>
                </a:cubicBezTo>
                <a:cubicBezTo>
                  <a:pt x="15946" y="6003"/>
                  <a:pt x="15935" y="6005"/>
                  <a:pt x="15925" y="6028"/>
                </a:cubicBezTo>
              </a:path>
              <a:path w="1886" h="844">
                <a:moveTo>
                  <a:pt x="16049" y="6127"/>
                </a:moveTo>
                <a:cubicBezTo>
                  <a:pt x="16024" y="6127"/>
                  <a:pt x="16016" y="6127"/>
                  <a:pt x="16024" y="6102"/>
                </a:cubicBezTo>
                <a:cubicBezTo>
                  <a:pt x="16074" y="6102"/>
                  <a:pt x="16082" y="6091"/>
                  <a:pt x="16123" y="6077"/>
                </a:cubicBezTo>
                <a:cubicBezTo>
                  <a:pt x="16148" y="6077"/>
                  <a:pt x="16156" y="6077"/>
                  <a:pt x="16173" y="6077"/>
                </a:cubicBezTo>
                <a:cubicBezTo>
                  <a:pt x="16173" y="6129"/>
                  <a:pt x="16159" y="6130"/>
                  <a:pt x="16148" y="6152"/>
                </a:cubicBezTo>
                <a:cubicBezTo>
                  <a:pt x="16132" y="6184"/>
                  <a:pt x="16135" y="6166"/>
                  <a:pt x="16123" y="6201"/>
                </a:cubicBezTo>
                <a:cubicBezTo>
                  <a:pt x="16149" y="6221"/>
                  <a:pt x="16233" y="6230"/>
                  <a:pt x="16247" y="6251"/>
                </a:cubicBezTo>
                <a:cubicBezTo>
                  <a:pt x="16247" y="6259"/>
                  <a:pt x="16247" y="6268"/>
                  <a:pt x="16247" y="6276"/>
                </a:cubicBezTo>
                <a:cubicBezTo>
                  <a:pt x="16238" y="6302"/>
                  <a:pt x="16212" y="6322"/>
                  <a:pt x="16173" y="6325"/>
                </a:cubicBezTo>
                <a:cubicBezTo>
                  <a:pt x="16131" y="6325"/>
                  <a:pt x="16123" y="6325"/>
                  <a:pt x="16098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6760" y="2251080"/>
            <a:ext cx="9036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17190" y="6251"/>
                </a:moveTo>
                <a:cubicBezTo>
                  <a:pt x="17144" y="6251"/>
                  <a:pt x="17131" y="6271"/>
                  <a:pt x="17090" y="6276"/>
                </a:cubicBezTo>
                <a:cubicBezTo>
                  <a:pt x="17042" y="6282"/>
                  <a:pt x="17032" y="6271"/>
                  <a:pt x="16991" y="6300"/>
                </a:cubicBezTo>
              </a:path>
              <a:path w="249" h="174">
                <a:moveTo>
                  <a:pt x="17214" y="6350"/>
                </a:moveTo>
                <a:cubicBezTo>
                  <a:pt x="17214" y="6375"/>
                  <a:pt x="17214" y="6383"/>
                  <a:pt x="17239" y="6375"/>
                </a:cubicBezTo>
                <a:cubicBezTo>
                  <a:pt x="17214" y="6375"/>
                  <a:pt x="17206" y="6375"/>
                  <a:pt x="17214" y="6400"/>
                </a:cubicBezTo>
                <a:cubicBezTo>
                  <a:pt x="17170" y="6409"/>
                  <a:pt x="17136" y="6424"/>
                  <a:pt x="17090" y="6424"/>
                </a:cubicBezTo>
                <a:cubicBezTo>
                  <a:pt x="17082" y="6424"/>
                  <a:pt x="17074" y="6424"/>
                  <a:pt x="17066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48240" y="2643120"/>
            <a:ext cx="243000" cy="295200"/>
          </a:xfrm>
          <a:custGeom>
            <a:avLst/>
            <a:gdLst/>
            <a:ahLst/>
            <a:rect l="l" t="t" r="r" b="b"/>
            <a:pathLst>
              <a:path w="671" h="820">
                <a:moveTo>
                  <a:pt x="17661" y="7441"/>
                </a:moveTo>
                <a:cubicBezTo>
                  <a:pt x="17640" y="7441"/>
                  <a:pt x="17671" y="7415"/>
                  <a:pt x="17711" y="7392"/>
                </a:cubicBezTo>
                <a:cubicBezTo>
                  <a:pt x="17791" y="7346"/>
                  <a:pt x="17870" y="7342"/>
                  <a:pt x="17959" y="7342"/>
                </a:cubicBezTo>
                <a:cubicBezTo>
                  <a:pt x="18058" y="7342"/>
                  <a:pt x="18078" y="7368"/>
                  <a:pt x="18083" y="7466"/>
                </a:cubicBezTo>
                <a:cubicBezTo>
                  <a:pt x="18087" y="7537"/>
                  <a:pt x="18015" y="7599"/>
                  <a:pt x="17959" y="7640"/>
                </a:cubicBezTo>
                <a:cubicBezTo>
                  <a:pt x="17906" y="7679"/>
                  <a:pt x="17801" y="7711"/>
                  <a:pt x="17760" y="7764"/>
                </a:cubicBezTo>
                <a:cubicBezTo>
                  <a:pt x="17760" y="7789"/>
                  <a:pt x="17760" y="7797"/>
                  <a:pt x="17760" y="7813"/>
                </a:cubicBezTo>
                <a:cubicBezTo>
                  <a:pt x="17847" y="7846"/>
                  <a:pt x="17941" y="7860"/>
                  <a:pt x="18033" y="7888"/>
                </a:cubicBezTo>
                <a:cubicBezTo>
                  <a:pt x="18134" y="7919"/>
                  <a:pt x="18226" y="7973"/>
                  <a:pt x="18281" y="8062"/>
                </a:cubicBezTo>
                <a:cubicBezTo>
                  <a:pt x="18301" y="8102"/>
                  <a:pt x="18310" y="8108"/>
                  <a:pt x="18306" y="8136"/>
                </a:cubicBezTo>
                <a:cubicBezTo>
                  <a:pt x="18254" y="8175"/>
                  <a:pt x="18200" y="8161"/>
                  <a:pt x="18132" y="8161"/>
                </a:cubicBezTo>
                <a:cubicBezTo>
                  <a:pt x="18006" y="8161"/>
                  <a:pt x="17888" y="8136"/>
                  <a:pt x="17760" y="8136"/>
                </a:cubicBezTo>
                <a:cubicBezTo>
                  <a:pt x="17727" y="8136"/>
                  <a:pt x="17694" y="8136"/>
                  <a:pt x="17661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18080" y="3259080"/>
            <a:ext cx="196920" cy="277920"/>
          </a:xfrm>
          <a:custGeom>
            <a:avLst/>
            <a:gdLst/>
            <a:ahLst/>
            <a:rect l="l" t="t" r="r" b="b"/>
            <a:pathLst>
              <a:path w="547" h="770">
                <a:moveTo>
                  <a:pt x="15602" y="9128"/>
                </a:moveTo>
                <a:cubicBezTo>
                  <a:pt x="15654" y="9128"/>
                  <a:pt x="15655" y="9114"/>
                  <a:pt x="15677" y="9103"/>
                </a:cubicBezTo>
                <a:cubicBezTo>
                  <a:pt x="15708" y="9087"/>
                  <a:pt x="15701" y="9099"/>
                  <a:pt x="15701" y="9054"/>
                </a:cubicBezTo>
                <a:cubicBezTo>
                  <a:pt x="15644" y="9054"/>
                  <a:pt x="15613" y="9076"/>
                  <a:pt x="15577" y="9128"/>
                </a:cubicBezTo>
                <a:cubicBezTo>
                  <a:pt x="15536" y="9186"/>
                  <a:pt x="15508" y="9259"/>
                  <a:pt x="15503" y="9327"/>
                </a:cubicBezTo>
                <a:cubicBezTo>
                  <a:pt x="15503" y="9335"/>
                  <a:pt x="15503" y="9343"/>
                  <a:pt x="15503" y="9351"/>
                </a:cubicBezTo>
                <a:cubicBezTo>
                  <a:pt x="15554" y="9339"/>
                  <a:pt x="15596" y="9273"/>
                  <a:pt x="15627" y="9227"/>
                </a:cubicBezTo>
                <a:cubicBezTo>
                  <a:pt x="15652" y="9178"/>
                  <a:pt x="15660" y="9162"/>
                  <a:pt x="15701" y="9153"/>
                </a:cubicBezTo>
                <a:cubicBezTo>
                  <a:pt x="15810" y="9221"/>
                  <a:pt x="15818" y="9276"/>
                  <a:pt x="15850" y="9401"/>
                </a:cubicBezTo>
                <a:cubicBezTo>
                  <a:pt x="15888" y="9550"/>
                  <a:pt x="15877" y="9603"/>
                  <a:pt x="15801" y="9723"/>
                </a:cubicBezTo>
                <a:cubicBezTo>
                  <a:pt x="15754" y="9798"/>
                  <a:pt x="15648" y="9837"/>
                  <a:pt x="15553" y="9823"/>
                </a:cubicBezTo>
                <a:cubicBezTo>
                  <a:pt x="15487" y="9813"/>
                  <a:pt x="15359" y="9771"/>
                  <a:pt x="15329" y="9699"/>
                </a:cubicBezTo>
                <a:cubicBezTo>
                  <a:pt x="15329" y="9682"/>
                  <a:pt x="15329" y="9666"/>
                  <a:pt x="15329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0200" y="3170160"/>
            <a:ext cx="1320840" cy="401760"/>
          </a:xfrm>
          <a:custGeom>
            <a:avLst/>
            <a:gdLst/>
            <a:ahLst/>
            <a:rect l="l" t="t" r="r" b="b"/>
            <a:pathLst>
              <a:path w="3672" h="1117">
                <a:moveTo>
                  <a:pt x="16842" y="8979"/>
                </a:moveTo>
                <a:cubicBezTo>
                  <a:pt x="16878" y="8943"/>
                  <a:pt x="16960" y="8886"/>
                  <a:pt x="16966" y="8830"/>
                </a:cubicBezTo>
                <a:cubicBezTo>
                  <a:pt x="16966" y="8822"/>
                  <a:pt x="16966" y="8814"/>
                  <a:pt x="16966" y="8806"/>
                </a:cubicBezTo>
                <a:cubicBezTo>
                  <a:pt x="16861" y="8871"/>
                  <a:pt x="16814" y="8962"/>
                  <a:pt x="16768" y="9079"/>
                </a:cubicBezTo>
                <a:cubicBezTo>
                  <a:pt x="16709" y="9229"/>
                  <a:pt x="16665" y="9412"/>
                  <a:pt x="16694" y="9575"/>
                </a:cubicBezTo>
                <a:cubicBezTo>
                  <a:pt x="16707" y="9645"/>
                  <a:pt x="16740" y="9641"/>
                  <a:pt x="16793" y="9649"/>
                </a:cubicBezTo>
              </a:path>
              <a:path w="3672" h="1117">
                <a:moveTo>
                  <a:pt x="17214" y="9203"/>
                </a:moveTo>
                <a:cubicBezTo>
                  <a:pt x="17214" y="9160"/>
                  <a:pt x="17208" y="9152"/>
                  <a:pt x="17190" y="9128"/>
                </a:cubicBezTo>
                <a:cubicBezTo>
                  <a:pt x="17168" y="9106"/>
                  <a:pt x="17159" y="9101"/>
                  <a:pt x="17165" y="9079"/>
                </a:cubicBezTo>
                <a:cubicBezTo>
                  <a:pt x="17209" y="9068"/>
                  <a:pt x="17238" y="9032"/>
                  <a:pt x="17289" y="9029"/>
                </a:cubicBezTo>
                <a:cubicBezTo>
                  <a:pt x="17372" y="9023"/>
                  <a:pt x="17385" y="9081"/>
                  <a:pt x="17388" y="9153"/>
                </a:cubicBezTo>
                <a:cubicBezTo>
                  <a:pt x="17392" y="9242"/>
                  <a:pt x="17352" y="9321"/>
                  <a:pt x="17314" y="9401"/>
                </a:cubicBezTo>
                <a:cubicBezTo>
                  <a:pt x="17298" y="9435"/>
                  <a:pt x="17240" y="9507"/>
                  <a:pt x="17264" y="9550"/>
                </a:cubicBezTo>
                <a:cubicBezTo>
                  <a:pt x="17295" y="9605"/>
                  <a:pt x="17373" y="9568"/>
                  <a:pt x="17413" y="9550"/>
                </a:cubicBezTo>
                <a:cubicBezTo>
                  <a:pt x="17472" y="9523"/>
                  <a:pt x="17526" y="9505"/>
                  <a:pt x="17587" y="9500"/>
                </a:cubicBezTo>
                <a:cubicBezTo>
                  <a:pt x="17611" y="9500"/>
                  <a:pt x="17620" y="9500"/>
                  <a:pt x="17636" y="9500"/>
                </a:cubicBezTo>
              </a:path>
              <a:path w="3672" h="1117">
                <a:moveTo>
                  <a:pt x="17661" y="9401"/>
                </a:moveTo>
                <a:cubicBezTo>
                  <a:pt x="17661" y="9367"/>
                  <a:pt x="17648" y="9321"/>
                  <a:pt x="17686" y="9302"/>
                </a:cubicBezTo>
                <a:cubicBezTo>
                  <a:pt x="17709" y="9291"/>
                  <a:pt x="17738" y="9239"/>
                  <a:pt x="17785" y="9252"/>
                </a:cubicBezTo>
                <a:cubicBezTo>
                  <a:pt x="17861" y="9272"/>
                  <a:pt x="17895" y="9356"/>
                  <a:pt x="17909" y="9426"/>
                </a:cubicBezTo>
                <a:cubicBezTo>
                  <a:pt x="17920" y="9482"/>
                  <a:pt x="17891" y="9544"/>
                  <a:pt x="17835" y="9550"/>
                </a:cubicBezTo>
                <a:cubicBezTo>
                  <a:pt x="17767" y="9558"/>
                  <a:pt x="17742" y="9533"/>
                  <a:pt x="17686" y="9500"/>
                </a:cubicBezTo>
              </a:path>
              <a:path w="3672" h="1117">
                <a:moveTo>
                  <a:pt x="17983" y="9302"/>
                </a:moveTo>
                <a:cubicBezTo>
                  <a:pt x="17983" y="9285"/>
                  <a:pt x="17983" y="9269"/>
                  <a:pt x="17983" y="9252"/>
                </a:cubicBezTo>
                <a:cubicBezTo>
                  <a:pt x="17933" y="9265"/>
                  <a:pt x="17896" y="9321"/>
                  <a:pt x="17884" y="9376"/>
                </a:cubicBezTo>
                <a:cubicBezTo>
                  <a:pt x="17871" y="9433"/>
                  <a:pt x="17928" y="9531"/>
                  <a:pt x="17983" y="9550"/>
                </a:cubicBezTo>
                <a:cubicBezTo>
                  <a:pt x="18033" y="9567"/>
                  <a:pt x="18095" y="9553"/>
                  <a:pt x="18132" y="9525"/>
                </a:cubicBezTo>
              </a:path>
              <a:path w="3672" h="1117">
                <a:moveTo>
                  <a:pt x="18256" y="9029"/>
                </a:moveTo>
                <a:cubicBezTo>
                  <a:pt x="18256" y="8975"/>
                  <a:pt x="18244" y="8992"/>
                  <a:pt x="18231" y="8954"/>
                </a:cubicBezTo>
                <a:cubicBezTo>
                  <a:pt x="18242" y="8922"/>
                  <a:pt x="18284" y="8908"/>
                  <a:pt x="18331" y="8905"/>
                </a:cubicBezTo>
                <a:cubicBezTo>
                  <a:pt x="18408" y="8900"/>
                  <a:pt x="18442" y="8902"/>
                  <a:pt x="18455" y="8979"/>
                </a:cubicBezTo>
                <a:cubicBezTo>
                  <a:pt x="18465" y="9040"/>
                  <a:pt x="18444" y="9081"/>
                  <a:pt x="18430" y="9128"/>
                </a:cubicBezTo>
                <a:cubicBezTo>
                  <a:pt x="18423" y="9152"/>
                  <a:pt x="18388" y="9196"/>
                  <a:pt x="18405" y="9227"/>
                </a:cubicBezTo>
                <a:cubicBezTo>
                  <a:pt x="18436" y="9283"/>
                  <a:pt x="18485" y="9231"/>
                  <a:pt x="18529" y="9227"/>
                </a:cubicBezTo>
                <a:cubicBezTo>
                  <a:pt x="18562" y="9227"/>
                  <a:pt x="18579" y="9227"/>
                  <a:pt x="18604" y="9227"/>
                </a:cubicBezTo>
              </a:path>
              <a:path w="3672" h="1117">
                <a:moveTo>
                  <a:pt x="18876" y="9451"/>
                </a:moveTo>
                <a:cubicBezTo>
                  <a:pt x="18888" y="9404"/>
                  <a:pt x="18931" y="9385"/>
                  <a:pt x="18976" y="9376"/>
                </a:cubicBezTo>
                <a:cubicBezTo>
                  <a:pt x="19037" y="9364"/>
                  <a:pt x="19054" y="9385"/>
                  <a:pt x="19100" y="9401"/>
                </a:cubicBezTo>
                <a:cubicBezTo>
                  <a:pt x="19108" y="9401"/>
                  <a:pt x="19116" y="9401"/>
                  <a:pt x="19124" y="9401"/>
                </a:cubicBezTo>
              </a:path>
              <a:path w="3672" h="1117">
                <a:moveTo>
                  <a:pt x="19447" y="9227"/>
                </a:moveTo>
                <a:cubicBezTo>
                  <a:pt x="19482" y="9175"/>
                  <a:pt x="19505" y="9160"/>
                  <a:pt x="19472" y="9203"/>
                </a:cubicBezTo>
                <a:cubicBezTo>
                  <a:pt x="19452" y="9229"/>
                  <a:pt x="19380" y="9286"/>
                  <a:pt x="19422" y="9327"/>
                </a:cubicBezTo>
                <a:cubicBezTo>
                  <a:pt x="19483" y="9387"/>
                  <a:pt x="19518" y="9400"/>
                  <a:pt x="19596" y="9426"/>
                </a:cubicBezTo>
                <a:cubicBezTo>
                  <a:pt x="19639" y="9441"/>
                  <a:pt x="19724" y="9478"/>
                  <a:pt x="19745" y="9525"/>
                </a:cubicBezTo>
                <a:cubicBezTo>
                  <a:pt x="19762" y="9564"/>
                  <a:pt x="19726" y="9589"/>
                  <a:pt x="19695" y="9599"/>
                </a:cubicBezTo>
                <a:cubicBezTo>
                  <a:pt x="19629" y="9620"/>
                  <a:pt x="19532" y="9597"/>
                  <a:pt x="19472" y="9575"/>
                </a:cubicBezTo>
              </a:path>
              <a:path w="3672" h="1117">
                <a:moveTo>
                  <a:pt x="19769" y="9178"/>
                </a:moveTo>
                <a:cubicBezTo>
                  <a:pt x="19794" y="9161"/>
                  <a:pt x="19819" y="9145"/>
                  <a:pt x="19844" y="9128"/>
                </a:cubicBezTo>
                <a:cubicBezTo>
                  <a:pt x="19736" y="9128"/>
                  <a:pt x="19629" y="9128"/>
                  <a:pt x="19521" y="9128"/>
                </a:cubicBezTo>
              </a:path>
              <a:path w="3672" h="1117">
                <a:moveTo>
                  <a:pt x="19844" y="8905"/>
                </a:moveTo>
                <a:cubicBezTo>
                  <a:pt x="19890" y="8859"/>
                  <a:pt x="19901" y="8855"/>
                  <a:pt x="19968" y="8855"/>
                </a:cubicBezTo>
                <a:cubicBezTo>
                  <a:pt x="20041" y="8855"/>
                  <a:pt x="20115" y="8907"/>
                  <a:pt x="20166" y="8954"/>
                </a:cubicBezTo>
                <a:cubicBezTo>
                  <a:pt x="20266" y="9046"/>
                  <a:pt x="20346" y="9165"/>
                  <a:pt x="20365" y="9302"/>
                </a:cubicBezTo>
                <a:cubicBezTo>
                  <a:pt x="20381" y="9416"/>
                  <a:pt x="20377" y="9562"/>
                  <a:pt x="20290" y="9649"/>
                </a:cubicBezTo>
                <a:cubicBezTo>
                  <a:pt x="20230" y="9709"/>
                  <a:pt x="20137" y="9797"/>
                  <a:pt x="20067" y="9847"/>
                </a:cubicBezTo>
                <a:cubicBezTo>
                  <a:pt x="20017" y="9883"/>
                  <a:pt x="20006" y="9867"/>
                  <a:pt x="19993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18080" y="3938760"/>
            <a:ext cx="108000" cy="7128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15528" y="10964"/>
                </a:moveTo>
                <a:cubicBezTo>
                  <a:pt x="15586" y="10939"/>
                  <a:pt x="15625" y="10939"/>
                  <a:pt x="15553" y="10939"/>
                </a:cubicBezTo>
                <a:cubicBezTo>
                  <a:pt x="15492" y="10939"/>
                  <a:pt x="15476" y="10954"/>
                  <a:pt x="15429" y="10964"/>
                </a:cubicBezTo>
                <a:cubicBezTo>
                  <a:pt x="15364" y="10978"/>
                  <a:pt x="15379" y="10952"/>
                  <a:pt x="15329" y="10988"/>
                </a:cubicBezTo>
              </a:path>
              <a:path w="299" h="199">
                <a:moveTo>
                  <a:pt x="15553" y="11112"/>
                </a:moveTo>
                <a:cubicBezTo>
                  <a:pt x="15578" y="11112"/>
                  <a:pt x="15602" y="11112"/>
                  <a:pt x="15627" y="11112"/>
                </a:cubicBezTo>
                <a:cubicBezTo>
                  <a:pt x="15569" y="11112"/>
                  <a:pt x="15533" y="11124"/>
                  <a:pt x="15478" y="11137"/>
                </a:cubicBezTo>
                <a:cubicBezTo>
                  <a:pt x="15453" y="11137"/>
                  <a:pt x="15445" y="11137"/>
                  <a:pt x="15429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65920" y="3679920"/>
            <a:ext cx="1401840" cy="507960"/>
          </a:xfrm>
          <a:custGeom>
            <a:avLst/>
            <a:gdLst/>
            <a:ahLst/>
            <a:rect l="l" t="t" r="r" b="b"/>
            <a:pathLst>
              <a:path w="3895" h="1414">
                <a:moveTo>
                  <a:pt x="16818" y="10889"/>
                </a:moveTo>
                <a:cubicBezTo>
                  <a:pt x="16793" y="10889"/>
                  <a:pt x="16768" y="10889"/>
                  <a:pt x="16743" y="10889"/>
                </a:cubicBezTo>
                <a:cubicBezTo>
                  <a:pt x="16743" y="10844"/>
                  <a:pt x="16728" y="10796"/>
                  <a:pt x="16768" y="10765"/>
                </a:cubicBezTo>
                <a:cubicBezTo>
                  <a:pt x="16826" y="10721"/>
                  <a:pt x="16902" y="10694"/>
                  <a:pt x="16966" y="10740"/>
                </a:cubicBezTo>
                <a:cubicBezTo>
                  <a:pt x="17012" y="10773"/>
                  <a:pt x="17054" y="10879"/>
                  <a:pt x="17041" y="10939"/>
                </a:cubicBezTo>
                <a:cubicBezTo>
                  <a:pt x="17027" y="11000"/>
                  <a:pt x="16980" y="11059"/>
                  <a:pt x="16966" y="11112"/>
                </a:cubicBezTo>
                <a:cubicBezTo>
                  <a:pt x="16958" y="11143"/>
                  <a:pt x="16957" y="11220"/>
                  <a:pt x="16991" y="11237"/>
                </a:cubicBezTo>
                <a:cubicBezTo>
                  <a:pt x="17035" y="11259"/>
                  <a:pt x="17097" y="11216"/>
                  <a:pt x="17140" y="11212"/>
                </a:cubicBezTo>
                <a:cubicBezTo>
                  <a:pt x="17184" y="11208"/>
                  <a:pt x="17211" y="11187"/>
                  <a:pt x="17264" y="11187"/>
                </a:cubicBezTo>
                <a:cubicBezTo>
                  <a:pt x="17305" y="11187"/>
                  <a:pt x="17277" y="11174"/>
                  <a:pt x="17314" y="11162"/>
                </a:cubicBezTo>
              </a:path>
              <a:path w="3895" h="1414">
                <a:moveTo>
                  <a:pt x="17363" y="11013"/>
                </a:moveTo>
                <a:cubicBezTo>
                  <a:pt x="17372" y="10976"/>
                  <a:pt x="17400" y="10952"/>
                  <a:pt x="17438" y="10939"/>
                </a:cubicBezTo>
                <a:cubicBezTo>
                  <a:pt x="17510" y="10914"/>
                  <a:pt x="17555" y="10958"/>
                  <a:pt x="17587" y="11013"/>
                </a:cubicBezTo>
                <a:cubicBezTo>
                  <a:pt x="17618" y="11066"/>
                  <a:pt x="17661" y="11148"/>
                  <a:pt x="17636" y="11212"/>
                </a:cubicBezTo>
                <a:cubicBezTo>
                  <a:pt x="17620" y="11255"/>
                  <a:pt x="17527" y="11277"/>
                  <a:pt x="17487" y="11261"/>
                </a:cubicBezTo>
                <a:cubicBezTo>
                  <a:pt x="17479" y="11253"/>
                  <a:pt x="17470" y="11245"/>
                  <a:pt x="17462" y="11237"/>
                </a:cubicBezTo>
              </a:path>
              <a:path w="3895" h="1414">
                <a:moveTo>
                  <a:pt x="17711" y="10988"/>
                </a:moveTo>
                <a:cubicBezTo>
                  <a:pt x="17764" y="10953"/>
                  <a:pt x="17787" y="10929"/>
                  <a:pt x="17735" y="10988"/>
                </a:cubicBezTo>
                <a:cubicBezTo>
                  <a:pt x="17693" y="11036"/>
                  <a:pt x="17668" y="11096"/>
                  <a:pt x="17686" y="11162"/>
                </a:cubicBezTo>
                <a:cubicBezTo>
                  <a:pt x="17707" y="11238"/>
                  <a:pt x="17782" y="11280"/>
                  <a:pt x="17859" y="11261"/>
                </a:cubicBezTo>
                <a:cubicBezTo>
                  <a:pt x="17867" y="11253"/>
                  <a:pt x="17876" y="11245"/>
                  <a:pt x="17884" y="11237"/>
                </a:cubicBezTo>
              </a:path>
              <a:path w="3895" h="1414">
                <a:moveTo>
                  <a:pt x="18058" y="10790"/>
                </a:moveTo>
                <a:cubicBezTo>
                  <a:pt x="18067" y="10753"/>
                  <a:pt x="18094" y="10728"/>
                  <a:pt x="18132" y="10716"/>
                </a:cubicBezTo>
                <a:cubicBezTo>
                  <a:pt x="18165" y="10705"/>
                  <a:pt x="18221" y="10716"/>
                  <a:pt x="18256" y="10716"/>
                </a:cubicBezTo>
                <a:cubicBezTo>
                  <a:pt x="18256" y="10771"/>
                  <a:pt x="18245" y="10787"/>
                  <a:pt x="18231" y="10840"/>
                </a:cubicBezTo>
                <a:cubicBezTo>
                  <a:pt x="18221" y="10878"/>
                  <a:pt x="18207" y="10895"/>
                  <a:pt x="18207" y="10939"/>
                </a:cubicBezTo>
                <a:cubicBezTo>
                  <a:pt x="18265" y="10939"/>
                  <a:pt x="18322" y="10939"/>
                  <a:pt x="18380" y="10939"/>
                </a:cubicBezTo>
              </a:path>
              <a:path w="3895" h="1414">
                <a:moveTo>
                  <a:pt x="18579" y="11187"/>
                </a:moveTo>
                <a:cubicBezTo>
                  <a:pt x="18591" y="11138"/>
                  <a:pt x="18603" y="11137"/>
                  <a:pt x="18653" y="11137"/>
                </a:cubicBezTo>
                <a:cubicBezTo>
                  <a:pt x="18694" y="11137"/>
                  <a:pt x="18736" y="11137"/>
                  <a:pt x="18777" y="11137"/>
                </a:cubicBezTo>
              </a:path>
              <a:path w="3895" h="1414">
                <a:moveTo>
                  <a:pt x="19100" y="10964"/>
                </a:moveTo>
                <a:cubicBezTo>
                  <a:pt x="19134" y="10911"/>
                  <a:pt x="19149" y="10922"/>
                  <a:pt x="19149" y="10864"/>
                </a:cubicBezTo>
                <a:cubicBezTo>
                  <a:pt x="19131" y="10870"/>
                  <a:pt x="19089" y="10908"/>
                  <a:pt x="19075" y="10939"/>
                </a:cubicBezTo>
                <a:cubicBezTo>
                  <a:pt x="19057" y="10981"/>
                  <a:pt x="19075" y="11034"/>
                  <a:pt x="19100" y="11063"/>
                </a:cubicBezTo>
                <a:cubicBezTo>
                  <a:pt x="19123" y="11090"/>
                  <a:pt x="19190" y="11147"/>
                  <a:pt x="19224" y="11162"/>
                </a:cubicBezTo>
                <a:cubicBezTo>
                  <a:pt x="19273" y="11184"/>
                  <a:pt x="19285" y="11200"/>
                  <a:pt x="19298" y="11261"/>
                </a:cubicBezTo>
                <a:cubicBezTo>
                  <a:pt x="19237" y="11306"/>
                  <a:pt x="19218" y="11273"/>
                  <a:pt x="19149" y="11261"/>
                </a:cubicBezTo>
                <a:cubicBezTo>
                  <a:pt x="19105" y="11261"/>
                  <a:pt x="19092" y="11264"/>
                  <a:pt x="19075" y="11237"/>
                </a:cubicBezTo>
              </a:path>
              <a:path w="3895" h="1414">
                <a:moveTo>
                  <a:pt x="19372" y="10864"/>
                </a:moveTo>
                <a:cubicBezTo>
                  <a:pt x="19372" y="10823"/>
                  <a:pt x="19372" y="10815"/>
                  <a:pt x="19372" y="10790"/>
                </a:cubicBezTo>
                <a:cubicBezTo>
                  <a:pt x="19323" y="10777"/>
                  <a:pt x="19278" y="10753"/>
                  <a:pt x="19224" y="10740"/>
                </a:cubicBezTo>
                <a:cubicBezTo>
                  <a:pt x="19216" y="10740"/>
                  <a:pt x="19207" y="10740"/>
                  <a:pt x="19199" y="10740"/>
                </a:cubicBezTo>
              </a:path>
              <a:path w="3895" h="1414">
                <a:moveTo>
                  <a:pt x="19323" y="10641"/>
                </a:moveTo>
                <a:cubicBezTo>
                  <a:pt x="19383" y="10615"/>
                  <a:pt x="19406" y="10616"/>
                  <a:pt x="19472" y="10616"/>
                </a:cubicBezTo>
                <a:cubicBezTo>
                  <a:pt x="19497" y="10616"/>
                  <a:pt x="19580" y="10673"/>
                  <a:pt x="19596" y="10691"/>
                </a:cubicBezTo>
                <a:cubicBezTo>
                  <a:pt x="19629" y="10729"/>
                  <a:pt x="19684" y="10815"/>
                  <a:pt x="19695" y="10864"/>
                </a:cubicBezTo>
                <a:cubicBezTo>
                  <a:pt x="19711" y="10937"/>
                  <a:pt x="19741" y="11011"/>
                  <a:pt x="19745" y="11088"/>
                </a:cubicBezTo>
                <a:cubicBezTo>
                  <a:pt x="19749" y="11171"/>
                  <a:pt x="19746" y="11236"/>
                  <a:pt x="19720" y="11311"/>
                </a:cubicBezTo>
                <a:cubicBezTo>
                  <a:pt x="19686" y="11406"/>
                  <a:pt x="19666" y="11447"/>
                  <a:pt x="19596" y="11509"/>
                </a:cubicBezTo>
                <a:cubicBezTo>
                  <a:pt x="19545" y="11554"/>
                  <a:pt x="19500" y="11592"/>
                  <a:pt x="19447" y="11633"/>
                </a:cubicBezTo>
              </a:path>
              <a:path w="3895" h="1414">
                <a:moveTo>
                  <a:pt x="16718" y="10468"/>
                </a:moveTo>
                <a:cubicBezTo>
                  <a:pt x="16738" y="10427"/>
                  <a:pt x="16747" y="10421"/>
                  <a:pt x="16743" y="10393"/>
                </a:cubicBezTo>
                <a:cubicBezTo>
                  <a:pt x="16713" y="10403"/>
                  <a:pt x="16702" y="10435"/>
                  <a:pt x="16669" y="10468"/>
                </a:cubicBezTo>
                <a:cubicBezTo>
                  <a:pt x="16583" y="10553"/>
                  <a:pt x="16574" y="10649"/>
                  <a:pt x="16570" y="10765"/>
                </a:cubicBezTo>
                <a:cubicBezTo>
                  <a:pt x="16566" y="10883"/>
                  <a:pt x="16564" y="10997"/>
                  <a:pt x="16594" y="11112"/>
                </a:cubicBezTo>
                <a:cubicBezTo>
                  <a:pt x="16610" y="11171"/>
                  <a:pt x="16642" y="11286"/>
                  <a:pt x="16669" y="11336"/>
                </a:cubicBezTo>
                <a:cubicBezTo>
                  <a:pt x="16694" y="11361"/>
                  <a:pt x="16702" y="11369"/>
                  <a:pt x="16718" y="11385"/>
                </a:cubicBezTo>
              </a:path>
              <a:path w="3895" h="1414">
                <a:moveTo>
                  <a:pt x="20117" y="10269"/>
                </a:moveTo>
                <a:cubicBezTo>
                  <a:pt x="20117" y="10193"/>
                  <a:pt x="20117" y="10240"/>
                  <a:pt x="20117" y="10294"/>
                </a:cubicBezTo>
                <a:cubicBezTo>
                  <a:pt x="20117" y="10341"/>
                  <a:pt x="20121" y="10344"/>
                  <a:pt x="20141" y="10393"/>
                </a:cubicBezTo>
              </a:path>
              <a:path w="3895" h="1414">
                <a:moveTo>
                  <a:pt x="20315" y="10468"/>
                </a:moveTo>
                <a:cubicBezTo>
                  <a:pt x="20262" y="10468"/>
                  <a:pt x="20245" y="10488"/>
                  <a:pt x="20191" y="10492"/>
                </a:cubicBezTo>
                <a:cubicBezTo>
                  <a:pt x="20150" y="10495"/>
                  <a:pt x="20108" y="10492"/>
                  <a:pt x="20067" y="10492"/>
                </a:cubicBezTo>
                <a:cubicBezTo>
                  <a:pt x="20067" y="10517"/>
                  <a:pt x="20067" y="10525"/>
                  <a:pt x="20042" y="10517"/>
                </a:cubicBezTo>
              </a:path>
              <a:path w="3895" h="1414">
                <a:moveTo>
                  <a:pt x="20216" y="10666"/>
                </a:moveTo>
                <a:cubicBezTo>
                  <a:pt x="20219" y="10656"/>
                  <a:pt x="20269" y="10602"/>
                  <a:pt x="20290" y="10592"/>
                </a:cubicBezTo>
                <a:cubicBezTo>
                  <a:pt x="20311" y="10582"/>
                  <a:pt x="20365" y="10592"/>
                  <a:pt x="20389" y="10592"/>
                </a:cubicBezTo>
                <a:cubicBezTo>
                  <a:pt x="20389" y="10637"/>
                  <a:pt x="20395" y="10656"/>
                  <a:pt x="20365" y="10691"/>
                </a:cubicBezTo>
                <a:cubicBezTo>
                  <a:pt x="20334" y="10726"/>
                  <a:pt x="20340" y="10744"/>
                  <a:pt x="20340" y="10790"/>
                </a:cubicBezTo>
                <a:cubicBezTo>
                  <a:pt x="20376" y="10790"/>
                  <a:pt x="20412" y="10797"/>
                  <a:pt x="20439" y="10815"/>
                </a:cubicBezTo>
                <a:cubicBezTo>
                  <a:pt x="20447" y="10823"/>
                  <a:pt x="20456" y="10832"/>
                  <a:pt x="20464" y="10840"/>
                </a:cubicBezTo>
                <a:cubicBezTo>
                  <a:pt x="20451" y="10879"/>
                  <a:pt x="20416" y="10885"/>
                  <a:pt x="20365" y="10889"/>
                </a:cubicBezTo>
                <a:cubicBezTo>
                  <a:pt x="20324" y="10892"/>
                  <a:pt x="20282" y="10889"/>
                  <a:pt x="20241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81240" y="4724280"/>
            <a:ext cx="268560" cy="1778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8632" y="13395"/>
                </a:moveTo>
                <a:cubicBezTo>
                  <a:pt x="8595" y="13367"/>
                  <a:pt x="8589" y="13356"/>
                  <a:pt x="8558" y="13345"/>
                </a:cubicBezTo>
                <a:cubicBezTo>
                  <a:pt x="8565" y="13315"/>
                  <a:pt x="8608" y="13242"/>
                  <a:pt x="8632" y="13221"/>
                </a:cubicBezTo>
                <a:cubicBezTo>
                  <a:pt x="8674" y="13185"/>
                  <a:pt x="8766" y="13180"/>
                  <a:pt x="8806" y="13221"/>
                </a:cubicBezTo>
                <a:cubicBezTo>
                  <a:pt x="8857" y="13272"/>
                  <a:pt x="8892" y="13401"/>
                  <a:pt x="8880" y="13469"/>
                </a:cubicBezTo>
                <a:cubicBezTo>
                  <a:pt x="8867" y="13541"/>
                  <a:pt x="8819" y="13611"/>
                  <a:pt x="8756" y="13618"/>
                </a:cubicBezTo>
                <a:cubicBezTo>
                  <a:pt x="8696" y="13625"/>
                  <a:pt x="8605" y="13628"/>
                  <a:pt x="8582" y="13593"/>
                </a:cubicBezTo>
              </a:path>
              <a:path w="745" h="497">
                <a:moveTo>
                  <a:pt x="9103" y="13171"/>
                </a:moveTo>
                <a:cubicBezTo>
                  <a:pt x="9111" y="13155"/>
                  <a:pt x="9120" y="13138"/>
                  <a:pt x="9128" y="13122"/>
                </a:cubicBezTo>
                <a:cubicBezTo>
                  <a:pt x="9078" y="13171"/>
                  <a:pt x="9029" y="13221"/>
                  <a:pt x="8979" y="13271"/>
                </a:cubicBezTo>
                <a:cubicBezTo>
                  <a:pt x="8930" y="13320"/>
                  <a:pt x="8892" y="13432"/>
                  <a:pt x="8954" y="13494"/>
                </a:cubicBezTo>
                <a:cubicBezTo>
                  <a:pt x="8995" y="13535"/>
                  <a:pt x="9128" y="13532"/>
                  <a:pt x="9178" y="13519"/>
                </a:cubicBezTo>
                <a:cubicBezTo>
                  <a:pt x="9222" y="13507"/>
                  <a:pt x="9257" y="13478"/>
                  <a:pt x="9302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38360" y="4537080"/>
            <a:ext cx="133560" cy="285840"/>
          </a:xfrm>
          <a:custGeom>
            <a:avLst/>
            <a:gdLst/>
            <a:ahLst/>
            <a:rect l="l" t="t" r="r" b="b"/>
            <a:pathLst>
              <a:path w="373" h="795">
                <a:moveTo>
                  <a:pt x="9649" y="12650"/>
                </a:moveTo>
                <a:cubicBezTo>
                  <a:pt x="9649" y="12626"/>
                  <a:pt x="9649" y="12617"/>
                  <a:pt x="9649" y="12601"/>
                </a:cubicBezTo>
                <a:cubicBezTo>
                  <a:pt x="9649" y="12683"/>
                  <a:pt x="9655" y="12747"/>
                  <a:pt x="9674" y="12824"/>
                </a:cubicBezTo>
                <a:cubicBezTo>
                  <a:pt x="9674" y="12832"/>
                  <a:pt x="9674" y="12841"/>
                  <a:pt x="9674" y="12849"/>
                </a:cubicBezTo>
              </a:path>
              <a:path w="373" h="795">
                <a:moveTo>
                  <a:pt x="9847" y="12948"/>
                </a:moveTo>
                <a:cubicBezTo>
                  <a:pt x="9792" y="12948"/>
                  <a:pt x="9776" y="12959"/>
                  <a:pt x="9723" y="12973"/>
                </a:cubicBezTo>
                <a:cubicBezTo>
                  <a:pt x="9680" y="12984"/>
                  <a:pt x="9637" y="12986"/>
                  <a:pt x="9599" y="12998"/>
                </a:cubicBezTo>
                <a:cubicBezTo>
                  <a:pt x="9575" y="12998"/>
                  <a:pt x="9566" y="12998"/>
                  <a:pt x="9550" y="12998"/>
                </a:cubicBezTo>
              </a:path>
              <a:path w="373" h="795">
                <a:moveTo>
                  <a:pt x="9723" y="13072"/>
                </a:moveTo>
                <a:cubicBezTo>
                  <a:pt x="9723" y="13080"/>
                  <a:pt x="9723" y="13089"/>
                  <a:pt x="9723" y="13097"/>
                </a:cubicBezTo>
                <a:cubicBezTo>
                  <a:pt x="9684" y="13077"/>
                  <a:pt x="9759" y="13057"/>
                  <a:pt x="9798" y="13047"/>
                </a:cubicBezTo>
                <a:cubicBezTo>
                  <a:pt x="9843" y="13036"/>
                  <a:pt x="9867" y="13055"/>
                  <a:pt x="9872" y="13097"/>
                </a:cubicBezTo>
                <a:cubicBezTo>
                  <a:pt x="9878" y="13147"/>
                  <a:pt x="9857" y="13161"/>
                  <a:pt x="9823" y="13196"/>
                </a:cubicBezTo>
                <a:cubicBezTo>
                  <a:pt x="9791" y="13229"/>
                  <a:pt x="9758" y="13241"/>
                  <a:pt x="9748" y="13271"/>
                </a:cubicBezTo>
                <a:cubicBezTo>
                  <a:pt x="9793" y="13271"/>
                  <a:pt x="9838" y="13272"/>
                  <a:pt x="9872" y="13295"/>
                </a:cubicBezTo>
                <a:cubicBezTo>
                  <a:pt x="9916" y="13324"/>
                  <a:pt x="9922" y="13316"/>
                  <a:pt x="9922" y="13370"/>
                </a:cubicBezTo>
                <a:cubicBezTo>
                  <a:pt x="9922" y="13378"/>
                  <a:pt x="9922" y="13387"/>
                  <a:pt x="9922" y="13395"/>
                </a:cubicBezTo>
                <a:cubicBezTo>
                  <a:pt x="9872" y="13395"/>
                  <a:pt x="9823" y="13395"/>
                  <a:pt x="9773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25960" y="4606920"/>
            <a:ext cx="1295280" cy="420840"/>
          </a:xfrm>
          <a:custGeom>
            <a:avLst/>
            <a:gdLst/>
            <a:ahLst/>
            <a:rect l="l" t="t" r="r" b="b"/>
            <a:pathLst>
              <a:path w="3597" h="1167">
                <a:moveTo>
                  <a:pt x="11485" y="13915"/>
                </a:moveTo>
                <a:cubicBezTo>
                  <a:pt x="11518" y="13915"/>
                  <a:pt x="11502" y="13925"/>
                  <a:pt x="11534" y="13915"/>
                </a:cubicBezTo>
                <a:cubicBezTo>
                  <a:pt x="11577" y="13902"/>
                  <a:pt x="11611" y="13903"/>
                  <a:pt x="11658" y="13891"/>
                </a:cubicBezTo>
                <a:cubicBezTo>
                  <a:pt x="11717" y="13876"/>
                  <a:pt x="11790" y="13880"/>
                  <a:pt x="11857" y="13866"/>
                </a:cubicBezTo>
                <a:cubicBezTo>
                  <a:pt x="11958" y="13845"/>
                  <a:pt x="12054" y="13835"/>
                  <a:pt x="12154" y="13816"/>
                </a:cubicBezTo>
                <a:cubicBezTo>
                  <a:pt x="12276" y="13793"/>
                  <a:pt x="12402" y="13771"/>
                  <a:pt x="12526" y="13767"/>
                </a:cubicBezTo>
                <a:cubicBezTo>
                  <a:pt x="12637" y="13763"/>
                  <a:pt x="12741" y="13754"/>
                  <a:pt x="12849" y="13742"/>
                </a:cubicBezTo>
                <a:cubicBezTo>
                  <a:pt x="13037" y="13722"/>
                  <a:pt x="13232" y="13736"/>
                  <a:pt x="13419" y="13717"/>
                </a:cubicBezTo>
                <a:cubicBezTo>
                  <a:pt x="13499" y="13709"/>
                  <a:pt x="13587" y="13707"/>
                  <a:pt x="13667" y="13692"/>
                </a:cubicBezTo>
                <a:cubicBezTo>
                  <a:pt x="13710" y="13684"/>
                  <a:pt x="13747" y="13673"/>
                  <a:pt x="13791" y="13667"/>
                </a:cubicBezTo>
                <a:cubicBezTo>
                  <a:pt x="13775" y="13684"/>
                  <a:pt x="13746" y="13713"/>
                  <a:pt x="13717" y="13742"/>
                </a:cubicBezTo>
                <a:cubicBezTo>
                  <a:pt x="13657" y="13802"/>
                  <a:pt x="13583" y="13838"/>
                  <a:pt x="13519" y="13891"/>
                </a:cubicBezTo>
                <a:cubicBezTo>
                  <a:pt x="13492" y="13913"/>
                  <a:pt x="13470" y="13942"/>
                  <a:pt x="13444" y="13965"/>
                </a:cubicBezTo>
                <a:cubicBezTo>
                  <a:pt x="13497" y="13938"/>
                  <a:pt x="13524" y="13901"/>
                  <a:pt x="13568" y="13866"/>
                </a:cubicBezTo>
                <a:cubicBezTo>
                  <a:pt x="13633" y="13815"/>
                  <a:pt x="13700" y="13789"/>
                  <a:pt x="13742" y="13717"/>
                </a:cubicBezTo>
                <a:cubicBezTo>
                  <a:pt x="13763" y="13682"/>
                  <a:pt x="13776" y="13649"/>
                  <a:pt x="13791" y="13618"/>
                </a:cubicBezTo>
                <a:cubicBezTo>
                  <a:pt x="13735" y="13582"/>
                  <a:pt x="13679" y="13549"/>
                  <a:pt x="13618" y="13519"/>
                </a:cubicBezTo>
                <a:cubicBezTo>
                  <a:pt x="13577" y="13499"/>
                  <a:pt x="13571" y="13490"/>
                  <a:pt x="13543" y="13494"/>
                </a:cubicBezTo>
              </a:path>
              <a:path w="3597" h="1167">
                <a:moveTo>
                  <a:pt x="14436" y="13469"/>
                </a:moveTo>
                <a:cubicBezTo>
                  <a:pt x="14395" y="13469"/>
                  <a:pt x="14387" y="13469"/>
                  <a:pt x="14362" y="13469"/>
                </a:cubicBezTo>
                <a:cubicBezTo>
                  <a:pt x="14375" y="13415"/>
                  <a:pt x="14423" y="13381"/>
                  <a:pt x="14486" y="13395"/>
                </a:cubicBezTo>
                <a:cubicBezTo>
                  <a:pt x="14566" y="13412"/>
                  <a:pt x="14604" y="13497"/>
                  <a:pt x="14610" y="13568"/>
                </a:cubicBezTo>
                <a:cubicBezTo>
                  <a:pt x="14616" y="13645"/>
                  <a:pt x="14627" y="13754"/>
                  <a:pt x="14536" y="13791"/>
                </a:cubicBezTo>
                <a:cubicBezTo>
                  <a:pt x="14484" y="13812"/>
                  <a:pt x="14378" y="13790"/>
                  <a:pt x="14337" y="13767"/>
                </a:cubicBezTo>
              </a:path>
              <a:path w="3597" h="1167">
                <a:moveTo>
                  <a:pt x="14833" y="13395"/>
                </a:moveTo>
                <a:cubicBezTo>
                  <a:pt x="14833" y="13378"/>
                  <a:pt x="14833" y="13362"/>
                  <a:pt x="14833" y="13345"/>
                </a:cubicBezTo>
                <a:cubicBezTo>
                  <a:pt x="14768" y="13371"/>
                  <a:pt x="14736" y="13425"/>
                  <a:pt x="14709" y="13494"/>
                </a:cubicBezTo>
                <a:cubicBezTo>
                  <a:pt x="14673" y="13585"/>
                  <a:pt x="14662" y="13706"/>
                  <a:pt x="14759" y="13767"/>
                </a:cubicBezTo>
                <a:cubicBezTo>
                  <a:pt x="14837" y="13816"/>
                  <a:pt x="14936" y="13787"/>
                  <a:pt x="15007" y="13742"/>
                </a:cubicBezTo>
                <a:cubicBezTo>
                  <a:pt x="15037" y="13712"/>
                  <a:pt x="15048" y="13698"/>
                  <a:pt x="15056" y="13667"/>
                </a:cubicBezTo>
              </a:path>
              <a:path w="3597" h="1167">
                <a:moveTo>
                  <a:pt x="12105" y="12948"/>
                </a:moveTo>
                <a:cubicBezTo>
                  <a:pt x="12105" y="12973"/>
                  <a:pt x="12105" y="12981"/>
                  <a:pt x="12105" y="12998"/>
                </a:cubicBezTo>
                <a:cubicBezTo>
                  <a:pt x="12056" y="12982"/>
                  <a:pt x="12084" y="12961"/>
                  <a:pt x="12105" y="12923"/>
                </a:cubicBezTo>
                <a:cubicBezTo>
                  <a:pt x="12138" y="12865"/>
                  <a:pt x="12208" y="12815"/>
                  <a:pt x="12278" y="12799"/>
                </a:cubicBezTo>
                <a:cubicBezTo>
                  <a:pt x="12361" y="12780"/>
                  <a:pt x="12410" y="12847"/>
                  <a:pt x="12452" y="12898"/>
                </a:cubicBezTo>
                <a:cubicBezTo>
                  <a:pt x="12496" y="12950"/>
                  <a:pt x="12480" y="12995"/>
                  <a:pt x="12452" y="13047"/>
                </a:cubicBezTo>
                <a:cubicBezTo>
                  <a:pt x="12416" y="13114"/>
                  <a:pt x="12381" y="13121"/>
                  <a:pt x="12328" y="13171"/>
                </a:cubicBezTo>
                <a:cubicBezTo>
                  <a:pt x="12294" y="13203"/>
                  <a:pt x="12234" y="13248"/>
                  <a:pt x="12229" y="13295"/>
                </a:cubicBezTo>
                <a:cubicBezTo>
                  <a:pt x="12227" y="13317"/>
                  <a:pt x="12241" y="13390"/>
                  <a:pt x="12254" y="13395"/>
                </a:cubicBezTo>
                <a:cubicBezTo>
                  <a:pt x="12311" y="13416"/>
                  <a:pt x="12307" y="13398"/>
                  <a:pt x="12353" y="13444"/>
                </a:cubicBezTo>
              </a:path>
              <a:path w="3597" h="1167">
                <a:moveTo>
                  <a:pt x="12477" y="13519"/>
                </a:moveTo>
                <a:cubicBezTo>
                  <a:pt x="12477" y="13560"/>
                  <a:pt x="12477" y="13602"/>
                  <a:pt x="12477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61040" y="5705640"/>
            <a:ext cx="285840" cy="179280"/>
          </a:xfrm>
          <a:custGeom>
            <a:avLst/>
            <a:gdLst/>
            <a:ahLst/>
            <a:rect l="l" t="t" r="r" b="b"/>
            <a:pathLst>
              <a:path w="795" h="497">
                <a:moveTo>
                  <a:pt x="17140" y="15999"/>
                </a:moveTo>
                <a:cubicBezTo>
                  <a:pt x="17165" y="15966"/>
                  <a:pt x="17172" y="15939"/>
                  <a:pt x="17214" y="15925"/>
                </a:cubicBezTo>
                <a:cubicBezTo>
                  <a:pt x="17261" y="15910"/>
                  <a:pt x="17354" y="15920"/>
                  <a:pt x="17388" y="15949"/>
                </a:cubicBezTo>
                <a:cubicBezTo>
                  <a:pt x="17451" y="16003"/>
                  <a:pt x="17459" y="16091"/>
                  <a:pt x="17462" y="16173"/>
                </a:cubicBezTo>
                <a:cubicBezTo>
                  <a:pt x="17464" y="16223"/>
                  <a:pt x="17454" y="16327"/>
                  <a:pt x="17388" y="16346"/>
                </a:cubicBezTo>
                <a:cubicBezTo>
                  <a:pt x="17332" y="16362"/>
                  <a:pt x="17238" y="16350"/>
                  <a:pt x="17190" y="16321"/>
                </a:cubicBezTo>
                <a:cubicBezTo>
                  <a:pt x="17163" y="16305"/>
                  <a:pt x="17137" y="16269"/>
                  <a:pt x="17115" y="16247"/>
                </a:cubicBezTo>
              </a:path>
              <a:path w="795" h="497">
                <a:moveTo>
                  <a:pt x="17686" y="15900"/>
                </a:moveTo>
                <a:cubicBezTo>
                  <a:pt x="17711" y="15875"/>
                  <a:pt x="17719" y="15867"/>
                  <a:pt x="17735" y="15850"/>
                </a:cubicBezTo>
                <a:cubicBezTo>
                  <a:pt x="17662" y="15865"/>
                  <a:pt x="17616" y="15898"/>
                  <a:pt x="17562" y="15949"/>
                </a:cubicBezTo>
                <a:cubicBezTo>
                  <a:pt x="17506" y="16002"/>
                  <a:pt x="17444" y="16089"/>
                  <a:pt x="17462" y="16173"/>
                </a:cubicBezTo>
                <a:cubicBezTo>
                  <a:pt x="17479" y="16251"/>
                  <a:pt x="17525" y="16247"/>
                  <a:pt x="17587" y="16247"/>
                </a:cubicBezTo>
                <a:cubicBezTo>
                  <a:pt x="17694" y="16247"/>
                  <a:pt x="17802" y="16247"/>
                  <a:pt x="17909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10240" y="5581800"/>
            <a:ext cx="133560" cy="1062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8083" y="15577"/>
                </a:moveTo>
                <a:cubicBezTo>
                  <a:pt x="18116" y="15553"/>
                  <a:pt x="18127" y="15532"/>
                  <a:pt x="18157" y="15528"/>
                </a:cubicBezTo>
                <a:cubicBezTo>
                  <a:pt x="18213" y="15521"/>
                  <a:pt x="18246" y="15503"/>
                  <a:pt x="18306" y="15503"/>
                </a:cubicBezTo>
                <a:cubicBezTo>
                  <a:pt x="18340" y="15503"/>
                  <a:pt x="18386" y="15490"/>
                  <a:pt x="18405" y="15528"/>
                </a:cubicBezTo>
                <a:cubicBezTo>
                  <a:pt x="18424" y="15567"/>
                  <a:pt x="18400" y="15593"/>
                  <a:pt x="18380" y="15602"/>
                </a:cubicBezTo>
                <a:cubicBezTo>
                  <a:pt x="18336" y="15623"/>
                  <a:pt x="18298" y="15641"/>
                  <a:pt x="18256" y="15652"/>
                </a:cubicBezTo>
                <a:cubicBezTo>
                  <a:pt x="18288" y="15676"/>
                  <a:pt x="18326" y="15681"/>
                  <a:pt x="18355" y="15701"/>
                </a:cubicBezTo>
                <a:cubicBezTo>
                  <a:pt x="18390" y="15725"/>
                  <a:pt x="18414" y="15741"/>
                  <a:pt x="18455" y="15751"/>
                </a:cubicBezTo>
                <a:cubicBezTo>
                  <a:pt x="18446" y="15779"/>
                  <a:pt x="18421" y="15798"/>
                  <a:pt x="18380" y="15801"/>
                </a:cubicBezTo>
                <a:cubicBezTo>
                  <a:pt x="18315" y="15806"/>
                  <a:pt x="18247" y="15801"/>
                  <a:pt x="18182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0" t="4274" r="12747" b="35897"/>
          <a:stretch/>
        </p:blipFill>
        <p:spPr>
          <a:xfrm>
            <a:off x="0" y="0"/>
            <a:ext cx="7162920" cy="67611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38240" y="1847880"/>
            <a:ext cx="428760" cy="760320"/>
          </a:xfrm>
          <a:custGeom>
            <a:avLst/>
            <a:gdLst/>
            <a:ahLst/>
            <a:rect l="l" t="t" r="r" b="b"/>
            <a:pathLst>
              <a:path w="1191" h="2109">
                <a:moveTo>
                  <a:pt x="6573" y="5184"/>
                </a:moveTo>
                <a:cubicBezTo>
                  <a:pt x="6557" y="5176"/>
                  <a:pt x="6536" y="5170"/>
                  <a:pt x="6499" y="5159"/>
                </a:cubicBezTo>
                <a:cubicBezTo>
                  <a:pt x="6462" y="5148"/>
                  <a:pt x="6441" y="5141"/>
                  <a:pt x="6400" y="5135"/>
                </a:cubicBezTo>
                <a:cubicBezTo>
                  <a:pt x="6283" y="5119"/>
                  <a:pt x="6154" y="5146"/>
                  <a:pt x="6052" y="5159"/>
                </a:cubicBezTo>
                <a:cubicBezTo>
                  <a:pt x="5954" y="5171"/>
                  <a:pt x="5843" y="5158"/>
                  <a:pt x="5779" y="5184"/>
                </a:cubicBezTo>
                <a:cubicBezTo>
                  <a:pt x="5751" y="5195"/>
                  <a:pt x="5708" y="5204"/>
                  <a:pt x="5680" y="5209"/>
                </a:cubicBezTo>
                <a:cubicBezTo>
                  <a:pt x="5588" y="5225"/>
                  <a:pt x="5461" y="5200"/>
                  <a:pt x="5407" y="5184"/>
                </a:cubicBezTo>
                <a:cubicBezTo>
                  <a:pt x="5399" y="5184"/>
                  <a:pt x="5391" y="5184"/>
                  <a:pt x="5383" y="5184"/>
                </a:cubicBezTo>
                <a:cubicBezTo>
                  <a:pt x="5401" y="5221"/>
                  <a:pt x="5423" y="5242"/>
                  <a:pt x="5432" y="5283"/>
                </a:cubicBezTo>
                <a:cubicBezTo>
                  <a:pt x="5441" y="5322"/>
                  <a:pt x="5446" y="5346"/>
                  <a:pt x="5457" y="5383"/>
                </a:cubicBezTo>
                <a:cubicBezTo>
                  <a:pt x="5468" y="5422"/>
                  <a:pt x="5470" y="5467"/>
                  <a:pt x="5482" y="5507"/>
                </a:cubicBezTo>
                <a:cubicBezTo>
                  <a:pt x="5495" y="5551"/>
                  <a:pt x="5494" y="5588"/>
                  <a:pt x="5507" y="5631"/>
                </a:cubicBezTo>
                <a:cubicBezTo>
                  <a:pt x="5520" y="5672"/>
                  <a:pt x="5519" y="5716"/>
                  <a:pt x="5531" y="5755"/>
                </a:cubicBezTo>
                <a:cubicBezTo>
                  <a:pt x="5548" y="5808"/>
                  <a:pt x="5542" y="5853"/>
                  <a:pt x="5556" y="5904"/>
                </a:cubicBezTo>
                <a:cubicBezTo>
                  <a:pt x="5565" y="5938"/>
                  <a:pt x="5570" y="5989"/>
                  <a:pt x="5581" y="6028"/>
                </a:cubicBezTo>
                <a:cubicBezTo>
                  <a:pt x="5592" y="6066"/>
                  <a:pt x="5604" y="6083"/>
                  <a:pt x="5606" y="6127"/>
                </a:cubicBezTo>
                <a:cubicBezTo>
                  <a:pt x="5610" y="6213"/>
                  <a:pt x="5622" y="6303"/>
                  <a:pt x="5631" y="6375"/>
                </a:cubicBezTo>
                <a:cubicBezTo>
                  <a:pt x="5649" y="6514"/>
                  <a:pt x="5627" y="6673"/>
                  <a:pt x="5606" y="6796"/>
                </a:cubicBezTo>
                <a:cubicBezTo>
                  <a:pt x="5589" y="6900"/>
                  <a:pt x="5596" y="7025"/>
                  <a:pt x="5581" y="7119"/>
                </a:cubicBezTo>
                <a:cubicBezTo>
                  <a:pt x="5575" y="7158"/>
                  <a:pt x="5581" y="7203"/>
                  <a:pt x="5581" y="7243"/>
                </a:cubicBezTo>
                <a:cubicBezTo>
                  <a:pt x="5616" y="7226"/>
                  <a:pt x="5606" y="7227"/>
                  <a:pt x="5655" y="7218"/>
                </a:cubicBezTo>
                <a:cubicBezTo>
                  <a:pt x="5685" y="7213"/>
                  <a:pt x="5734" y="7196"/>
                  <a:pt x="5755" y="7193"/>
                </a:cubicBezTo>
                <a:cubicBezTo>
                  <a:pt x="5796" y="7188"/>
                  <a:pt x="5848" y="7173"/>
                  <a:pt x="5879" y="7169"/>
                </a:cubicBezTo>
                <a:cubicBezTo>
                  <a:pt x="6017" y="7152"/>
                  <a:pt x="6176" y="7173"/>
                  <a:pt x="6300" y="7193"/>
                </a:cubicBezTo>
                <a:cubicBezTo>
                  <a:pt x="6350" y="7201"/>
                  <a:pt x="6409" y="7211"/>
                  <a:pt x="6449" y="7218"/>
                </a:cubicBezTo>
                <a:cubicBezTo>
                  <a:pt x="6490" y="7225"/>
                  <a:pt x="6511" y="7234"/>
                  <a:pt x="6548" y="7243"/>
                </a:cubicBezTo>
                <a:cubicBezTo>
                  <a:pt x="6556" y="7243"/>
                  <a:pt x="6565" y="7243"/>
                  <a:pt x="6573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05200" y="1812960"/>
            <a:ext cx="430200" cy="812880"/>
          </a:xfrm>
          <a:custGeom>
            <a:avLst/>
            <a:gdLst/>
            <a:ahLst/>
            <a:rect l="l" t="t" r="r" b="b"/>
            <a:pathLst>
              <a:path w="1192" h="2259">
                <a:moveTo>
                  <a:pt x="13072" y="7243"/>
                </a:moveTo>
                <a:cubicBezTo>
                  <a:pt x="13087" y="7235"/>
                  <a:pt x="13110" y="7230"/>
                  <a:pt x="13146" y="7218"/>
                </a:cubicBezTo>
                <a:cubicBezTo>
                  <a:pt x="13186" y="7205"/>
                  <a:pt x="13197" y="7195"/>
                  <a:pt x="13246" y="7193"/>
                </a:cubicBezTo>
                <a:cubicBezTo>
                  <a:pt x="13324" y="7190"/>
                  <a:pt x="13403" y="7177"/>
                  <a:pt x="13469" y="7169"/>
                </a:cubicBezTo>
                <a:cubicBezTo>
                  <a:pt x="13542" y="7160"/>
                  <a:pt x="13608" y="7186"/>
                  <a:pt x="13667" y="7193"/>
                </a:cubicBezTo>
                <a:cubicBezTo>
                  <a:pt x="13700" y="7197"/>
                  <a:pt x="13709" y="7212"/>
                  <a:pt x="13742" y="7218"/>
                </a:cubicBezTo>
                <a:cubicBezTo>
                  <a:pt x="13788" y="7226"/>
                  <a:pt x="13856" y="7239"/>
                  <a:pt x="13891" y="7243"/>
                </a:cubicBezTo>
                <a:cubicBezTo>
                  <a:pt x="13941" y="7249"/>
                  <a:pt x="13947" y="7247"/>
                  <a:pt x="13990" y="7268"/>
                </a:cubicBezTo>
                <a:cubicBezTo>
                  <a:pt x="14024" y="7284"/>
                  <a:pt x="14049" y="7287"/>
                  <a:pt x="14089" y="7293"/>
                </a:cubicBezTo>
                <a:cubicBezTo>
                  <a:pt x="14133" y="7300"/>
                  <a:pt x="14183" y="7269"/>
                  <a:pt x="14188" y="7268"/>
                </a:cubicBezTo>
                <a:cubicBezTo>
                  <a:pt x="14213" y="7265"/>
                  <a:pt x="14238" y="7270"/>
                  <a:pt x="14263" y="7268"/>
                </a:cubicBezTo>
                <a:cubicBezTo>
                  <a:pt x="14263" y="7188"/>
                  <a:pt x="14246" y="7110"/>
                  <a:pt x="14238" y="7045"/>
                </a:cubicBezTo>
                <a:cubicBezTo>
                  <a:pt x="14232" y="6999"/>
                  <a:pt x="14217" y="6931"/>
                  <a:pt x="14213" y="6896"/>
                </a:cubicBezTo>
                <a:cubicBezTo>
                  <a:pt x="14207" y="6839"/>
                  <a:pt x="14193" y="6767"/>
                  <a:pt x="14188" y="6722"/>
                </a:cubicBezTo>
                <a:cubicBezTo>
                  <a:pt x="14183" y="6679"/>
                  <a:pt x="14167" y="6629"/>
                  <a:pt x="14163" y="6598"/>
                </a:cubicBezTo>
                <a:cubicBezTo>
                  <a:pt x="14158" y="6562"/>
                  <a:pt x="14143" y="6527"/>
                  <a:pt x="14139" y="6499"/>
                </a:cubicBezTo>
                <a:cubicBezTo>
                  <a:pt x="14132" y="6456"/>
                  <a:pt x="14118" y="6384"/>
                  <a:pt x="14114" y="6350"/>
                </a:cubicBezTo>
                <a:cubicBezTo>
                  <a:pt x="14108" y="6300"/>
                  <a:pt x="14094" y="6240"/>
                  <a:pt x="14089" y="6201"/>
                </a:cubicBezTo>
                <a:cubicBezTo>
                  <a:pt x="14084" y="6159"/>
                  <a:pt x="14068" y="6108"/>
                  <a:pt x="14064" y="6077"/>
                </a:cubicBezTo>
                <a:cubicBezTo>
                  <a:pt x="14058" y="6029"/>
                  <a:pt x="14043" y="5964"/>
                  <a:pt x="14039" y="5928"/>
                </a:cubicBezTo>
                <a:cubicBezTo>
                  <a:pt x="14027" y="5816"/>
                  <a:pt x="14031" y="5678"/>
                  <a:pt x="14064" y="5581"/>
                </a:cubicBezTo>
                <a:cubicBezTo>
                  <a:pt x="14076" y="5546"/>
                  <a:pt x="14073" y="5515"/>
                  <a:pt x="14089" y="5482"/>
                </a:cubicBezTo>
                <a:cubicBezTo>
                  <a:pt x="14104" y="5451"/>
                  <a:pt x="14101" y="5415"/>
                  <a:pt x="14114" y="5383"/>
                </a:cubicBezTo>
                <a:cubicBezTo>
                  <a:pt x="14130" y="5345"/>
                  <a:pt x="14127" y="5324"/>
                  <a:pt x="14139" y="5283"/>
                </a:cubicBezTo>
                <a:cubicBezTo>
                  <a:pt x="14149" y="5246"/>
                  <a:pt x="14181" y="5202"/>
                  <a:pt x="14188" y="5159"/>
                </a:cubicBezTo>
                <a:cubicBezTo>
                  <a:pt x="14195" y="5119"/>
                  <a:pt x="14185" y="5075"/>
                  <a:pt x="14188" y="5035"/>
                </a:cubicBezTo>
                <a:cubicBezTo>
                  <a:pt x="14154" y="5046"/>
                  <a:pt x="14124" y="5049"/>
                  <a:pt x="14089" y="5060"/>
                </a:cubicBezTo>
                <a:cubicBezTo>
                  <a:pt x="14058" y="5070"/>
                  <a:pt x="14020" y="5081"/>
                  <a:pt x="13990" y="5085"/>
                </a:cubicBezTo>
                <a:cubicBezTo>
                  <a:pt x="13769" y="5113"/>
                  <a:pt x="13477" y="5049"/>
                  <a:pt x="13295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98800" y="4759200"/>
            <a:ext cx="1322280" cy="696960"/>
          </a:xfrm>
          <a:custGeom>
            <a:avLst/>
            <a:gdLst/>
            <a:ahLst/>
            <a:rect l="l" t="t" r="r" b="b"/>
            <a:pathLst>
              <a:path w="3672" h="1936">
                <a:moveTo>
                  <a:pt x="8458" y="14089"/>
                </a:moveTo>
                <a:cubicBezTo>
                  <a:pt x="8503" y="13985"/>
                  <a:pt x="8464" y="14025"/>
                  <a:pt x="8483" y="14089"/>
                </a:cubicBezTo>
                <a:cubicBezTo>
                  <a:pt x="8512" y="14186"/>
                  <a:pt x="8511" y="14288"/>
                  <a:pt x="8533" y="14387"/>
                </a:cubicBezTo>
                <a:cubicBezTo>
                  <a:pt x="8555" y="14452"/>
                  <a:pt x="8563" y="14467"/>
                  <a:pt x="8558" y="14511"/>
                </a:cubicBezTo>
              </a:path>
              <a:path w="3672" h="1936">
                <a:moveTo>
                  <a:pt x="8409" y="13965"/>
                </a:moveTo>
                <a:cubicBezTo>
                  <a:pt x="8409" y="13940"/>
                  <a:pt x="8409" y="13932"/>
                  <a:pt x="8409" y="13915"/>
                </a:cubicBezTo>
                <a:cubicBezTo>
                  <a:pt x="8296" y="13915"/>
                  <a:pt x="8195" y="13924"/>
                  <a:pt x="8086" y="13940"/>
                </a:cubicBezTo>
                <a:cubicBezTo>
                  <a:pt x="7999" y="13953"/>
                  <a:pt x="7923" y="14001"/>
                  <a:pt x="7838" y="14015"/>
                </a:cubicBezTo>
                <a:cubicBezTo>
                  <a:pt x="7771" y="14026"/>
                  <a:pt x="7706" y="14053"/>
                  <a:pt x="7640" y="14064"/>
                </a:cubicBezTo>
                <a:cubicBezTo>
                  <a:pt x="7601" y="14071"/>
                  <a:pt x="7525" y="14072"/>
                  <a:pt x="7491" y="14089"/>
                </a:cubicBezTo>
                <a:cubicBezTo>
                  <a:pt x="7447" y="14111"/>
                  <a:pt x="7408" y="14109"/>
                  <a:pt x="7367" y="14139"/>
                </a:cubicBezTo>
              </a:path>
              <a:path w="3672" h="1936">
                <a:moveTo>
                  <a:pt x="8508" y="14486"/>
                </a:moveTo>
                <a:cubicBezTo>
                  <a:pt x="8508" y="14478"/>
                  <a:pt x="8508" y="14469"/>
                  <a:pt x="8508" y="14461"/>
                </a:cubicBezTo>
                <a:cubicBezTo>
                  <a:pt x="8538" y="14469"/>
                  <a:pt x="8595" y="14503"/>
                  <a:pt x="8533" y="14511"/>
                </a:cubicBezTo>
                <a:cubicBezTo>
                  <a:pt x="8472" y="14519"/>
                  <a:pt x="8419" y="14533"/>
                  <a:pt x="8359" y="14536"/>
                </a:cubicBezTo>
                <a:cubicBezTo>
                  <a:pt x="8296" y="14540"/>
                  <a:pt x="8248" y="14555"/>
                  <a:pt x="8186" y="14560"/>
                </a:cubicBezTo>
                <a:cubicBezTo>
                  <a:pt x="8125" y="14565"/>
                  <a:pt x="8094" y="14580"/>
                  <a:pt x="8037" y="14585"/>
                </a:cubicBezTo>
                <a:cubicBezTo>
                  <a:pt x="7930" y="14594"/>
                  <a:pt x="7840" y="14585"/>
                  <a:pt x="7739" y="14610"/>
                </a:cubicBezTo>
                <a:cubicBezTo>
                  <a:pt x="7694" y="14621"/>
                  <a:pt x="7669" y="14635"/>
                  <a:pt x="7615" y="14635"/>
                </a:cubicBezTo>
                <a:cubicBezTo>
                  <a:pt x="7570" y="14635"/>
                  <a:pt x="7538" y="14660"/>
                  <a:pt x="7491" y="14660"/>
                </a:cubicBezTo>
                <a:cubicBezTo>
                  <a:pt x="7483" y="14660"/>
                  <a:pt x="7474" y="14660"/>
                  <a:pt x="7466" y="14660"/>
                </a:cubicBezTo>
              </a:path>
              <a:path w="3672" h="1936">
                <a:moveTo>
                  <a:pt x="7417" y="14114"/>
                </a:moveTo>
                <a:cubicBezTo>
                  <a:pt x="7417" y="14289"/>
                  <a:pt x="7407" y="14468"/>
                  <a:pt x="7441" y="14635"/>
                </a:cubicBezTo>
                <a:cubicBezTo>
                  <a:pt x="7450" y="14680"/>
                  <a:pt x="7442" y="14694"/>
                  <a:pt x="7466" y="14734"/>
                </a:cubicBezTo>
              </a:path>
              <a:path w="3672" h="1936">
                <a:moveTo>
                  <a:pt x="8334" y="13767"/>
                </a:moveTo>
                <a:lnTo>
                  <a:pt x="8334" y="13767"/>
                </a:lnTo>
                <a:lnTo>
                  <a:pt x="8334" y="13767"/>
                </a:lnTo>
                <a:lnTo>
                  <a:pt x="8334" y="13767"/>
                </a:lnTo>
                <a:lnTo>
                  <a:pt x="8334" y="13767"/>
                </a:lnTo>
              </a:path>
              <a:path w="3672" h="1936">
                <a:moveTo>
                  <a:pt x="8334" y="13767"/>
                </a:moveTo>
                <a:cubicBezTo>
                  <a:pt x="8351" y="13775"/>
                  <a:pt x="8367" y="13783"/>
                  <a:pt x="8384" y="13791"/>
                </a:cubicBezTo>
                <a:cubicBezTo>
                  <a:pt x="8327" y="13791"/>
                  <a:pt x="8281" y="13776"/>
                  <a:pt x="8235" y="13767"/>
                </a:cubicBezTo>
                <a:cubicBezTo>
                  <a:pt x="8169" y="13754"/>
                  <a:pt x="8101" y="13763"/>
                  <a:pt x="8037" y="13742"/>
                </a:cubicBezTo>
                <a:cubicBezTo>
                  <a:pt x="7961" y="13716"/>
                  <a:pt x="7887" y="13692"/>
                  <a:pt x="7813" y="13667"/>
                </a:cubicBezTo>
                <a:cubicBezTo>
                  <a:pt x="7721" y="13636"/>
                  <a:pt x="7633" y="13599"/>
                  <a:pt x="7541" y="13568"/>
                </a:cubicBezTo>
                <a:cubicBezTo>
                  <a:pt x="7458" y="13540"/>
                  <a:pt x="7376" y="13507"/>
                  <a:pt x="7293" y="13494"/>
                </a:cubicBezTo>
                <a:cubicBezTo>
                  <a:pt x="7218" y="13482"/>
                  <a:pt x="7183" y="13457"/>
                  <a:pt x="7119" y="13419"/>
                </a:cubicBezTo>
                <a:cubicBezTo>
                  <a:pt x="7072" y="13392"/>
                  <a:pt x="6990" y="13352"/>
                  <a:pt x="6945" y="13345"/>
                </a:cubicBezTo>
                <a:cubicBezTo>
                  <a:pt x="6888" y="13336"/>
                  <a:pt x="6867" y="13353"/>
                  <a:pt x="6821" y="13320"/>
                </a:cubicBezTo>
                <a:cubicBezTo>
                  <a:pt x="6799" y="13298"/>
                  <a:pt x="6794" y="13289"/>
                  <a:pt x="6772" y="13295"/>
                </a:cubicBezTo>
              </a:path>
              <a:path w="3672" h="1936">
                <a:moveTo>
                  <a:pt x="7317" y="14114"/>
                </a:moveTo>
                <a:cubicBezTo>
                  <a:pt x="7272" y="14107"/>
                  <a:pt x="7235" y="14104"/>
                  <a:pt x="7193" y="14089"/>
                </a:cubicBezTo>
                <a:cubicBezTo>
                  <a:pt x="7102" y="14057"/>
                  <a:pt x="7021" y="14042"/>
                  <a:pt x="6921" y="14039"/>
                </a:cubicBezTo>
                <a:cubicBezTo>
                  <a:pt x="6815" y="14035"/>
                  <a:pt x="6700" y="14013"/>
                  <a:pt x="6598" y="13990"/>
                </a:cubicBezTo>
                <a:cubicBezTo>
                  <a:pt x="6515" y="13971"/>
                  <a:pt x="6451" y="13953"/>
                  <a:pt x="6375" y="13915"/>
                </a:cubicBezTo>
                <a:cubicBezTo>
                  <a:pt x="6309" y="13883"/>
                  <a:pt x="6245" y="13876"/>
                  <a:pt x="6176" y="13841"/>
                </a:cubicBezTo>
                <a:cubicBezTo>
                  <a:pt x="6122" y="13814"/>
                  <a:pt x="6087" y="13796"/>
                  <a:pt x="6028" y="13791"/>
                </a:cubicBezTo>
                <a:cubicBezTo>
                  <a:pt x="6003" y="13791"/>
                  <a:pt x="5995" y="13791"/>
                  <a:pt x="5978" y="13791"/>
                </a:cubicBezTo>
              </a:path>
              <a:path w="3672" h="1936">
                <a:moveTo>
                  <a:pt x="7417" y="14610"/>
                </a:moveTo>
                <a:cubicBezTo>
                  <a:pt x="7297" y="14610"/>
                  <a:pt x="7186" y="14595"/>
                  <a:pt x="7069" y="14585"/>
                </a:cubicBezTo>
                <a:cubicBezTo>
                  <a:pt x="6936" y="14574"/>
                  <a:pt x="6800" y="14572"/>
                  <a:pt x="6672" y="14536"/>
                </a:cubicBezTo>
                <a:cubicBezTo>
                  <a:pt x="6580" y="14510"/>
                  <a:pt x="6488" y="14473"/>
                  <a:pt x="6400" y="14436"/>
                </a:cubicBezTo>
                <a:cubicBezTo>
                  <a:pt x="6320" y="14402"/>
                  <a:pt x="6247" y="14365"/>
                  <a:pt x="6176" y="14337"/>
                </a:cubicBezTo>
                <a:cubicBezTo>
                  <a:pt x="6118" y="14314"/>
                  <a:pt x="6056" y="14308"/>
                  <a:pt x="6003" y="14288"/>
                </a:cubicBezTo>
                <a:cubicBezTo>
                  <a:pt x="5979" y="14279"/>
                  <a:pt x="5932" y="14240"/>
                  <a:pt x="5928" y="14238"/>
                </a:cubicBezTo>
                <a:cubicBezTo>
                  <a:pt x="5920" y="14238"/>
                  <a:pt x="5912" y="14238"/>
                  <a:pt x="5904" y="14238"/>
                </a:cubicBezTo>
              </a:path>
              <a:path w="3672" h="1936">
                <a:moveTo>
                  <a:pt x="5829" y="13767"/>
                </a:moveTo>
                <a:cubicBezTo>
                  <a:pt x="5829" y="13820"/>
                  <a:pt x="5845" y="13841"/>
                  <a:pt x="5854" y="13891"/>
                </a:cubicBezTo>
                <a:cubicBezTo>
                  <a:pt x="5869" y="13973"/>
                  <a:pt x="5856" y="14059"/>
                  <a:pt x="5879" y="14139"/>
                </a:cubicBezTo>
                <a:cubicBezTo>
                  <a:pt x="5891" y="14180"/>
                  <a:pt x="5912" y="14223"/>
                  <a:pt x="5928" y="14263"/>
                </a:cubicBezTo>
              </a:path>
              <a:path w="3672" h="1936">
                <a:moveTo>
                  <a:pt x="6697" y="13246"/>
                </a:moveTo>
                <a:cubicBezTo>
                  <a:pt x="6705" y="13238"/>
                  <a:pt x="6714" y="13229"/>
                  <a:pt x="6722" y="13221"/>
                </a:cubicBezTo>
                <a:cubicBezTo>
                  <a:pt x="6683" y="13272"/>
                  <a:pt x="6652" y="13294"/>
                  <a:pt x="6598" y="13345"/>
                </a:cubicBezTo>
                <a:cubicBezTo>
                  <a:pt x="6523" y="13415"/>
                  <a:pt x="6430" y="13454"/>
                  <a:pt x="6350" y="13519"/>
                </a:cubicBezTo>
                <a:cubicBezTo>
                  <a:pt x="6272" y="13583"/>
                  <a:pt x="6211" y="13639"/>
                  <a:pt x="6152" y="13717"/>
                </a:cubicBezTo>
                <a:cubicBezTo>
                  <a:pt x="6120" y="13759"/>
                  <a:pt x="6109" y="13805"/>
                  <a:pt x="6077" y="13841"/>
                </a:cubicBezTo>
                <a:cubicBezTo>
                  <a:pt x="6069" y="13849"/>
                  <a:pt x="6060" y="13858"/>
                  <a:pt x="6052" y="13866"/>
                </a:cubicBezTo>
              </a:path>
              <a:path w="3672" h="1936">
                <a:moveTo>
                  <a:pt x="9451" y="14213"/>
                </a:moveTo>
                <a:cubicBezTo>
                  <a:pt x="9451" y="14269"/>
                  <a:pt x="9467" y="14310"/>
                  <a:pt x="9475" y="14362"/>
                </a:cubicBezTo>
                <a:cubicBezTo>
                  <a:pt x="9486" y="14432"/>
                  <a:pt x="9464" y="14477"/>
                  <a:pt x="9500" y="14536"/>
                </a:cubicBezTo>
              </a:path>
              <a:path w="3672" h="1936">
                <a:moveTo>
                  <a:pt x="8235" y="14932"/>
                </a:moveTo>
                <a:cubicBezTo>
                  <a:pt x="8192" y="14901"/>
                  <a:pt x="8186" y="14913"/>
                  <a:pt x="8186" y="14858"/>
                </a:cubicBezTo>
                <a:cubicBezTo>
                  <a:pt x="8186" y="14831"/>
                  <a:pt x="8227" y="14788"/>
                  <a:pt x="8235" y="14784"/>
                </a:cubicBezTo>
                <a:cubicBezTo>
                  <a:pt x="8275" y="14765"/>
                  <a:pt x="8354" y="14782"/>
                  <a:pt x="8384" y="14808"/>
                </a:cubicBezTo>
                <a:cubicBezTo>
                  <a:pt x="8417" y="14837"/>
                  <a:pt x="8423" y="14914"/>
                  <a:pt x="8409" y="14957"/>
                </a:cubicBezTo>
                <a:cubicBezTo>
                  <a:pt x="8392" y="15008"/>
                  <a:pt x="8364" y="15057"/>
                  <a:pt x="8359" y="15106"/>
                </a:cubicBezTo>
                <a:cubicBezTo>
                  <a:pt x="8359" y="15131"/>
                  <a:pt x="8359" y="15139"/>
                  <a:pt x="8359" y="15156"/>
                </a:cubicBezTo>
                <a:cubicBezTo>
                  <a:pt x="8399" y="15146"/>
                  <a:pt x="8422" y="15118"/>
                  <a:pt x="8458" y="15106"/>
                </a:cubicBezTo>
                <a:cubicBezTo>
                  <a:pt x="8495" y="15093"/>
                  <a:pt x="8515" y="15081"/>
                  <a:pt x="8558" y="15081"/>
                </a:cubicBezTo>
              </a:path>
              <a:path w="3672" h="1936">
                <a:moveTo>
                  <a:pt x="6573" y="14660"/>
                </a:moveTo>
                <a:cubicBezTo>
                  <a:pt x="6563" y="14629"/>
                  <a:pt x="6555" y="14621"/>
                  <a:pt x="6524" y="14610"/>
                </a:cubicBezTo>
                <a:cubicBezTo>
                  <a:pt x="6495" y="14649"/>
                  <a:pt x="6499" y="14696"/>
                  <a:pt x="6474" y="14734"/>
                </a:cubicBezTo>
                <a:cubicBezTo>
                  <a:pt x="6442" y="14783"/>
                  <a:pt x="6449" y="14822"/>
                  <a:pt x="6449" y="14883"/>
                </a:cubicBezTo>
                <a:cubicBezTo>
                  <a:pt x="6449" y="14930"/>
                  <a:pt x="6499" y="14962"/>
                  <a:pt x="6524" y="14982"/>
                </a:cubicBezTo>
                <a:cubicBezTo>
                  <a:pt x="6546" y="14999"/>
                  <a:pt x="6589" y="15026"/>
                  <a:pt x="6623" y="15007"/>
                </a:cubicBezTo>
                <a:cubicBezTo>
                  <a:pt x="6651" y="14992"/>
                  <a:pt x="6691" y="14943"/>
                  <a:pt x="6672" y="14908"/>
                </a:cubicBezTo>
                <a:cubicBezTo>
                  <a:pt x="6659" y="14883"/>
                  <a:pt x="6599" y="14868"/>
                  <a:pt x="6573" y="14883"/>
                </a:cubicBezTo>
                <a:cubicBezTo>
                  <a:pt x="6551" y="14905"/>
                  <a:pt x="6546" y="14914"/>
                  <a:pt x="6524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02160" y="5018040"/>
            <a:ext cx="465120" cy="27792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5007" y="14163"/>
                </a:moveTo>
                <a:cubicBezTo>
                  <a:pt x="15007" y="14025"/>
                  <a:pt x="15007" y="14322"/>
                  <a:pt x="15007" y="14337"/>
                </a:cubicBezTo>
                <a:cubicBezTo>
                  <a:pt x="15007" y="14463"/>
                  <a:pt x="15029" y="14588"/>
                  <a:pt x="15056" y="14709"/>
                </a:cubicBezTo>
              </a:path>
              <a:path w="1291" h="770">
                <a:moveTo>
                  <a:pt x="15304" y="14213"/>
                </a:moveTo>
                <a:cubicBezTo>
                  <a:pt x="15290" y="14187"/>
                  <a:pt x="15236" y="14126"/>
                  <a:pt x="15255" y="14089"/>
                </a:cubicBezTo>
                <a:cubicBezTo>
                  <a:pt x="15278" y="14044"/>
                  <a:pt x="15405" y="13953"/>
                  <a:pt x="15453" y="13940"/>
                </a:cubicBezTo>
                <a:cubicBezTo>
                  <a:pt x="15562" y="13909"/>
                  <a:pt x="15574" y="14015"/>
                  <a:pt x="15577" y="14089"/>
                </a:cubicBezTo>
                <a:cubicBezTo>
                  <a:pt x="15582" y="14218"/>
                  <a:pt x="15521" y="14297"/>
                  <a:pt x="15478" y="14412"/>
                </a:cubicBezTo>
                <a:cubicBezTo>
                  <a:pt x="15446" y="14496"/>
                  <a:pt x="15427" y="14573"/>
                  <a:pt x="15503" y="14635"/>
                </a:cubicBezTo>
                <a:cubicBezTo>
                  <a:pt x="15580" y="14697"/>
                  <a:pt x="15722" y="14637"/>
                  <a:pt x="15801" y="14610"/>
                </a:cubicBezTo>
                <a:cubicBezTo>
                  <a:pt x="15987" y="14546"/>
                  <a:pt x="16099" y="14511"/>
                  <a:pt x="16297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33960" y="6269040"/>
            <a:ext cx="420840" cy="241200"/>
          </a:xfrm>
          <a:custGeom>
            <a:avLst/>
            <a:gdLst/>
            <a:ahLst/>
            <a:rect l="l" t="t" r="r" b="b"/>
            <a:pathLst>
              <a:path w="1167" h="671">
                <a:moveTo>
                  <a:pt x="14362" y="17462"/>
                </a:moveTo>
                <a:cubicBezTo>
                  <a:pt x="14362" y="17542"/>
                  <a:pt x="14366" y="17610"/>
                  <a:pt x="14337" y="17686"/>
                </a:cubicBezTo>
                <a:cubicBezTo>
                  <a:pt x="14314" y="17745"/>
                  <a:pt x="14269" y="17796"/>
                  <a:pt x="14263" y="17859"/>
                </a:cubicBezTo>
                <a:cubicBezTo>
                  <a:pt x="14257" y="17923"/>
                  <a:pt x="14276" y="17930"/>
                  <a:pt x="14337" y="17934"/>
                </a:cubicBezTo>
                <a:cubicBezTo>
                  <a:pt x="14416" y="17939"/>
                  <a:pt x="14487" y="17886"/>
                  <a:pt x="14560" y="17859"/>
                </a:cubicBezTo>
                <a:cubicBezTo>
                  <a:pt x="14633" y="17832"/>
                  <a:pt x="14714" y="17816"/>
                  <a:pt x="14784" y="17859"/>
                </a:cubicBezTo>
                <a:cubicBezTo>
                  <a:pt x="14820" y="17881"/>
                  <a:pt x="14857" y="17893"/>
                  <a:pt x="14808" y="17909"/>
                </a:cubicBezTo>
              </a:path>
              <a:path w="1167" h="671">
                <a:moveTo>
                  <a:pt x="14660" y="17735"/>
                </a:moveTo>
                <a:cubicBezTo>
                  <a:pt x="14652" y="17727"/>
                  <a:pt x="14643" y="17719"/>
                  <a:pt x="14635" y="17711"/>
                </a:cubicBezTo>
                <a:cubicBezTo>
                  <a:pt x="14602" y="17765"/>
                  <a:pt x="14610" y="17816"/>
                  <a:pt x="14610" y="17884"/>
                </a:cubicBezTo>
                <a:cubicBezTo>
                  <a:pt x="14610" y="17950"/>
                  <a:pt x="14610" y="18017"/>
                  <a:pt x="14610" y="18083"/>
                </a:cubicBezTo>
              </a:path>
              <a:path w="1167" h="671">
                <a:moveTo>
                  <a:pt x="14932" y="17686"/>
                </a:moveTo>
                <a:cubicBezTo>
                  <a:pt x="14932" y="17629"/>
                  <a:pt x="14918" y="17579"/>
                  <a:pt x="14957" y="17537"/>
                </a:cubicBezTo>
                <a:cubicBezTo>
                  <a:pt x="15041" y="17446"/>
                  <a:pt x="15098" y="17386"/>
                  <a:pt x="15230" y="17438"/>
                </a:cubicBezTo>
                <a:cubicBezTo>
                  <a:pt x="15362" y="17490"/>
                  <a:pt x="15433" y="17678"/>
                  <a:pt x="15429" y="17810"/>
                </a:cubicBezTo>
                <a:cubicBezTo>
                  <a:pt x="15425" y="17959"/>
                  <a:pt x="15323" y="17990"/>
                  <a:pt x="15205" y="17959"/>
                </a:cubicBezTo>
                <a:cubicBezTo>
                  <a:pt x="15086" y="17928"/>
                  <a:pt x="15014" y="17836"/>
                  <a:pt x="15032" y="17711"/>
                </a:cubicBezTo>
                <a:cubicBezTo>
                  <a:pt x="15040" y="17686"/>
                  <a:pt x="15048" y="17661"/>
                  <a:pt x="15056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1:45:39Z</dcterms:created>
  <dc:creator>School</dc:creator>
  <dc:description/>
  <dc:language>en-US</dc:language>
  <cp:lastModifiedBy>N Holden</cp:lastModifiedBy>
  <dcterms:modified xsi:type="dcterms:W3CDTF">2009-02-16T17:57:51Z</dcterms:modified>
  <cp:revision>4</cp:revision>
  <dc:subject/>
  <dc:title>Slide 1</dc:title>
</cp:coreProperties>
</file>